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6.wmf" ContentType="image/x-wmf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14.png" ContentType="image/png"/>
  <Override PartName="/ppt/media/image9.wmf" ContentType="image/x-wmf"/>
  <Override PartName="/ppt/media/image11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7.wmf" ContentType="image/x-wmf"/>
  <Override PartName="/ppt/media/image18.gif" ContentType="image/gif"/>
  <Override PartName="/ppt/media/image23.png" ContentType="image/png"/>
  <Override PartName="/ppt/media/image20.wmf" ContentType="image/x-wmf"/>
  <Override PartName="/ppt/media/image19.wmf" ContentType="image/x-wmf"/>
  <Override PartName="/ppt/media/image21.png" ContentType="image/png"/>
  <Override PartName="/ppt/media/image2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ABAA-8B03-4FCF-8E37-D0FDF8DC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1280" y="44280"/>
            <a:ext cx="8964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2971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3887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E23A-1C88-48A9-A2C7-8E82796D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1280" y="44280"/>
            <a:ext cx="8964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2971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2971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3887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3887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2C2A-1554-4638-BADE-0D95AB1B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1280" y="44280"/>
            <a:ext cx="8964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2971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2971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2971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3887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3887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3887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B0E9-6EC2-4155-B418-F11788E34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280" y="44280"/>
            <a:ext cx="8964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280" y="44280"/>
            <a:ext cx="8964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280" y="44280"/>
            <a:ext cx="8964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2971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2971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280" y="44280"/>
            <a:ext cx="8964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1280" y="44280"/>
            <a:ext cx="896472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280" y="44280"/>
            <a:ext cx="8964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971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2971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3887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280" y="44280"/>
            <a:ext cx="8964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172F-15E2-4027-97F6-E9A57361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280" y="44280"/>
            <a:ext cx="8964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2971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2971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3887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1280" y="44280"/>
            <a:ext cx="8964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2971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2971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3887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280" y="44280"/>
            <a:ext cx="8964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2971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3887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280" y="44280"/>
            <a:ext cx="8964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971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971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887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3887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1280" y="44280"/>
            <a:ext cx="8964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2971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2971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2971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3887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3887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3887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280" y="44280"/>
            <a:ext cx="8964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1A4E-DADF-4483-B27E-BCA47A89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280" y="44280"/>
            <a:ext cx="8964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2971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2971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CDBB-0F2C-4005-8BDE-B9911BBC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280" y="44280"/>
            <a:ext cx="8964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DE40-8410-4743-A729-342175D1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1280" y="44280"/>
            <a:ext cx="896472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2BB6-C470-4BDA-B2B9-8E225DE5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1280" y="44280"/>
            <a:ext cx="8964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2971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2971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3887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492D-81AE-460A-BA41-C842B796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1280" y="44280"/>
            <a:ext cx="8964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2971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2971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3887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6168-EB78-4B07-BBCE-3B652A4E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1280" y="44280"/>
            <a:ext cx="8964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2971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2971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3887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41E3-B4CB-4A19-B495-3699C394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636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920" y="5364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4000" y="141264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23640" y="6473880"/>
            <a:ext cx="1368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árcio Morei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835280" y="6473880"/>
            <a:ext cx="5400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inimizando os </a:t>
            </a: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spams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com e-mails segu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80000" y="6473880"/>
            <a:ext cx="14396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59496E2-F80A-4F0B-A081-CAC08270C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85320" y="19080"/>
            <a:ext cx="911160" cy="119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3636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280" y="44280"/>
            <a:ext cx="8964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27640" y="5500800"/>
            <a:ext cx="1619280" cy="952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62280" y="5626080"/>
            <a:ext cx="388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Microsoft Sans Serif"/>
              </a:rPr>
              <a:t>Especialização 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Microsoft Sans Serif"/>
              </a:rPr>
              <a:t>Segurança da Inform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940440" y="4970520"/>
            <a:ext cx="2095560" cy="1771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8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9.wmf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9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sans.org/reading_room/whitepapers/email/1402.php" TargetMode="External"/><Relationship Id="rId2" Type="http://schemas.openxmlformats.org/officeDocument/2006/relationships/hyperlink" Target="http://technet.microsoft.com/pt-br/library/aa995984.aspx" TargetMode="External"/><Relationship Id="rId3" Type="http://schemas.openxmlformats.org/officeDocument/2006/relationships/hyperlink" Target="http://www.redbooks.ibm.com/abstracts/SG247017.html" TargetMode="External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certisign.com.br/receita/" TargetMode="External"/><Relationship Id="rId2" Type="http://schemas.openxmlformats.org/officeDocument/2006/relationships/hyperlink" Target="http://www.serasa.com.br/certificados/receitafederal.htm" TargetMode="External"/><Relationship Id="rId3" Type="http://schemas.openxmlformats.org/officeDocument/2006/relationships/hyperlink" Target="https://ccd.serpro.gov.br/certificados/" TargetMode="External"/><Relationship Id="rId4" Type="http://schemas.openxmlformats.org/officeDocument/2006/relationships/hyperlink" Target="https://ccd.serpro.gov.br/certificados/" TargetMode="External"/><Relationship Id="rId5" Type="http://schemas.openxmlformats.org/officeDocument/2006/relationships/hyperlink" Target="https://ccd.serpro.gov.br/certificados/" TargetMode="External"/><Relationship Id="rId6" Type="http://schemas.openxmlformats.org/officeDocument/2006/relationships/hyperlink" Target="https://ccd.serpro.gov.br/certificados/" TargetMode="External"/><Relationship Id="rId7" Type="http://schemas.openxmlformats.org/officeDocument/2006/relationships/hyperlink" Target="https://ccd.serpro.gov.br/certificados/" TargetMode="External"/><Relationship Id="rId8" Type="http://schemas.openxmlformats.org/officeDocument/2006/relationships/hyperlink" Target="https://ccd.serpro.gov.br/certificados/" TargetMode="External"/><Relationship Id="rId9" Type="http://schemas.openxmlformats.org/officeDocument/2006/relationships/hyperlink" Target="https://ccd.serpro.gov.br/certificados/" TargetMode="External"/><Relationship Id="rId10" Type="http://schemas.openxmlformats.org/officeDocument/2006/relationships/hyperlink" Target="https://ccd.serpro.gov.br/certificados/" TargetMode="External"/><Relationship Id="rId11" Type="http://schemas.openxmlformats.org/officeDocument/2006/relationships/hyperlink" Target="http://www.certisign.com.br/" TargetMode="External"/><Relationship Id="rId12" Type="http://schemas.openxmlformats.org/officeDocument/2006/relationships/hyperlink" Target="http://www.serasa.com.br/" TargetMode="External"/><Relationship Id="rId13" Type="http://schemas.openxmlformats.org/officeDocument/2006/relationships/hyperlink" Target="https://icp.caixa.gov.br/" TargetMode="External"/><Relationship Id="rId14" Type="http://schemas.openxmlformats.org/officeDocument/2006/relationships/hyperlink" Target="https://icp.caixa.gov.br/" TargetMode="External"/><Relationship Id="rId15" Type="http://schemas.openxmlformats.org/officeDocument/2006/relationships/hyperlink" Target="https://icp.caixa.gov.br/" TargetMode="External"/><Relationship Id="rId16" Type="http://schemas.openxmlformats.org/officeDocument/2006/relationships/hyperlink" Target="https://icp.caixa.gov.br/" TargetMode="External"/><Relationship Id="rId17" Type="http://schemas.openxmlformats.org/officeDocument/2006/relationships/hyperlink" Target="https://icp.caixa.gov.br/" TargetMode="External"/><Relationship Id="rId18" Type="http://schemas.openxmlformats.org/officeDocument/2006/relationships/hyperlink" Target="http://www.imesp.com.br/" TargetMode="External"/><Relationship Id="rId19" Type="http://schemas.openxmlformats.org/officeDocument/2006/relationships/hyperlink" Target="http://www.prodemge.gov.br/" TargetMode="External"/><Relationship Id="rId20" Type="http://schemas.openxmlformats.org/officeDocument/2006/relationships/hyperlink" Target="http://www.thawte.com/" TargetMode="External"/><Relationship Id="rId2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280" y="44280"/>
            <a:ext cx="8964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cc"/>
                </a:solidFill>
                <a:latin typeface="Verdana"/>
              </a:rPr>
              <a:t>Minimizando os </a:t>
            </a:r>
            <a:r>
              <a:rPr b="0" i="1" lang="pt-BR" sz="4800" spc="-1" strike="noStrike">
                <a:solidFill>
                  <a:srgbClr val="ffffcc"/>
                </a:solidFill>
                <a:latin typeface="Verdana"/>
              </a:rPr>
              <a:t>spams</a:t>
            </a:r>
            <a:br>
              <a:rPr sz="4800"/>
            </a:br>
            <a:r>
              <a:rPr b="0" lang="pt-BR" sz="4800" spc="-1" strike="noStrike">
                <a:solidFill>
                  <a:srgbClr val="ffffcc"/>
                </a:solidFill>
                <a:latin typeface="Verdana"/>
              </a:rPr>
              <a:t>com e-mails seguro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55640" y="292428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árcio A. R. Moreir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utubro de 2007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920" y="5364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Assinatura digital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820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Assinando uma mensagem: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Hash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= resumo(texto plano)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Assinatura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= cifra(hash, chave privada emissor)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Mensagem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= texto plano + assinatura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3440" y="3789360"/>
            <a:ext cx="8459640" cy="22320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áquina da 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88960" y="4581360"/>
            <a:ext cx="657360" cy="8478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765440" y="4653000"/>
            <a:ext cx="115236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2160" y="5300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94520" y="45100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094360" y="3954600"/>
            <a:ext cx="561960" cy="649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125800" y="399888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ve privada da Maria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60360" y="4869000"/>
            <a:ext cx="432000" cy="288720"/>
          </a:xfrm>
          <a:prstGeom prst="rightArrow">
            <a:avLst>
              <a:gd name="adj1" fmla="val 50000"/>
              <a:gd name="adj2" fmla="val 374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60720" y="4869000"/>
            <a:ext cx="431640" cy="288720"/>
          </a:xfrm>
          <a:prstGeom prst="rightArrow">
            <a:avLst>
              <a:gd name="adj1" fmla="val 50000"/>
              <a:gd name="adj2" fmla="val 3737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65440" y="4869000"/>
            <a:ext cx="576360" cy="28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84720" y="4869000"/>
            <a:ext cx="431640" cy="288720"/>
          </a:xfrm>
          <a:prstGeom prst="rightArrow">
            <a:avLst>
              <a:gd name="adj1" fmla="val 50000"/>
              <a:gd name="adj2" fmla="val 3737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9440" y="4653000"/>
            <a:ext cx="115272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gorit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cif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58600" y="4227480"/>
            <a:ext cx="136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in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62880" y="4869000"/>
            <a:ext cx="574560" cy="28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86520" y="4869000"/>
            <a:ext cx="431640" cy="288720"/>
          </a:xfrm>
          <a:prstGeom prst="rightArrow">
            <a:avLst>
              <a:gd name="adj1" fmla="val 50000"/>
              <a:gd name="adj2" fmla="val 3737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81800" y="4869000"/>
            <a:ext cx="432000" cy="288720"/>
          </a:xfrm>
          <a:prstGeom prst="rightArrow">
            <a:avLst>
              <a:gd name="adj1" fmla="val 50000"/>
              <a:gd name="adj2" fmla="val 374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7908840" y="4149720"/>
            <a:ext cx="657360" cy="847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958160" y="5013360"/>
            <a:ext cx="576360" cy="287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30120" y="537372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s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nizando os spams com e-mails segu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6DA3-299E-4100-AE44-9527094B73F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árcio Moreir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4920" y="5364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Verificando uma assinatura digital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Hash1 = resumo (texto plano)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Hash2 = decifra(assinatura, chave pública emissor)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87280" y="2492280"/>
            <a:ext cx="6697800" cy="388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áquina do Jo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008080" y="2581200"/>
            <a:ext cx="657360" cy="8478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356000" y="3068640"/>
            <a:ext cx="576360" cy="287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8000" y="27147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4520" y="2859120"/>
            <a:ext cx="136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in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63640" y="4076640"/>
            <a:ext cx="115272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2124000" y="3571920"/>
            <a:ext cx="432000" cy="288720"/>
          </a:xfrm>
          <a:prstGeom prst="rightArrow">
            <a:avLst>
              <a:gd name="adj1" fmla="val 50000"/>
              <a:gd name="adj2" fmla="val 374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50920" y="5445000"/>
            <a:ext cx="576360" cy="289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2124000" y="4983120"/>
            <a:ext cx="431640" cy="288720"/>
          </a:xfrm>
          <a:prstGeom prst="rightArrow">
            <a:avLst>
              <a:gd name="adj1" fmla="val 50000"/>
              <a:gd name="adj2" fmla="val 3737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99160" y="5372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5400000">
            <a:off x="4426920" y="3571560"/>
            <a:ext cx="432000" cy="289080"/>
          </a:xfrm>
          <a:prstGeom prst="rightArrow">
            <a:avLst>
              <a:gd name="adj1" fmla="val 50000"/>
              <a:gd name="adj2" fmla="val 373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95640" y="4076640"/>
            <a:ext cx="129708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gorit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decif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5435640" y="4076640"/>
            <a:ext cx="561960" cy="6494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724360" y="40338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ve púb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 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5400000">
            <a:off x="4429080" y="4983120"/>
            <a:ext cx="431640" cy="288720"/>
          </a:xfrm>
          <a:prstGeom prst="rightArrow">
            <a:avLst>
              <a:gd name="adj1" fmla="val 50000"/>
              <a:gd name="adj2" fmla="val 3737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54560" y="5445000"/>
            <a:ext cx="576360" cy="289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20480" y="5372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h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627280" y="5948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627280" y="580536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40000" y="580536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nizando os spams com e-mails segu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0EFA-F857-472F-AD7D-6AF1276E03F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árcio Moreir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4920" y="5364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Certificado Digital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É um arquivo que contém: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Proprietário: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dentificação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have pública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Certificado: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Número de séri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Período de validad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Autoridade Certificadora (CA) Emissora: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dentificação e Assinatura Digita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Autoridade Certificadora (CA) Raiz: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dentificação e Assinatura Digita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026040" y="1341360"/>
            <a:ext cx="2722680" cy="316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nizando os spams com e-mails segu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9722-2C6B-4656-8E6E-D75318E8F7D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árcio Moreir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1280" y="44280"/>
            <a:ext cx="8964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Funcionamento dos E-Mail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08000" y="1268280"/>
            <a:ext cx="1868400" cy="1773360"/>
          </a:xfrm>
          <a:prstGeom prst="rect">
            <a:avLst/>
          </a:prstGeom>
          <a:ln w="0">
            <a:noFill/>
          </a:ln>
        </p:spPr>
      </p:pic>
      <p:sp>
        <p:nvSpPr>
          <p:cNvPr id="196" name="Cloud"/>
          <p:cNvSpPr/>
          <p:nvPr/>
        </p:nvSpPr>
        <p:spPr>
          <a:xfrm>
            <a:off x="3470400" y="1411200"/>
            <a:ext cx="2736720" cy="20890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732720" y="1627200"/>
            <a:ext cx="2288880" cy="1406520"/>
          </a:xfrm>
          <a:prstGeom prst="rect">
            <a:avLst/>
          </a:prstGeom>
          <a:ln w="0">
            <a:noFill/>
          </a:ln>
        </p:spPr>
      </p:pic>
      <p:grpSp>
        <p:nvGrpSpPr>
          <p:cNvPr id="198" name=""/>
          <p:cNvGrpSpPr/>
          <p:nvPr/>
        </p:nvGrpSpPr>
        <p:grpSpPr>
          <a:xfrm>
            <a:off x="2246400" y="1843200"/>
            <a:ext cx="863640" cy="604800"/>
            <a:chOff x="2246400" y="1843200"/>
            <a:chExt cx="863640" cy="604800"/>
          </a:xfrm>
        </p:grpSpPr>
        <p:pic>
          <p:nvPicPr>
            <p:cNvPr id="199" name="" descr=""/>
            <p:cNvPicPr/>
            <p:nvPr/>
          </p:nvPicPr>
          <p:blipFill>
            <a:blip r:embed="rId3"/>
            <a:stretch/>
          </p:blipFill>
          <p:spPr>
            <a:xfrm>
              <a:off x="2246400" y="1843200"/>
              <a:ext cx="86364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2404800" y="1843200"/>
              <a:ext cx="54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@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050920" y="2498760"/>
            <a:ext cx="13478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002680" y="244008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s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4040" y="299556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i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60400" y="298944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6267600" y="2671560"/>
            <a:ext cx="431640" cy="43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265760" y="2282760"/>
            <a:ext cx="6179040" cy="368280"/>
            <a:chOff x="1265760" y="2282760"/>
            <a:chExt cx="6179040" cy="368280"/>
          </a:xfrm>
        </p:grpSpPr>
        <p:sp>
          <p:nvSpPr>
            <p:cNvPr id="207" name=""/>
            <p:cNvSpPr/>
            <p:nvPr/>
          </p:nvSpPr>
          <p:spPr>
            <a:xfrm>
              <a:off x="1265760" y="2282760"/>
              <a:ext cx="700560" cy="368280"/>
            </a:xfrm>
            <a:prstGeom prst="rect">
              <a:avLst/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U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44240" y="2282760"/>
              <a:ext cx="700560" cy="368280"/>
            </a:xfrm>
            <a:prstGeom prst="rect">
              <a:avLst/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U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543480" y="1401840"/>
            <a:ext cx="2734920" cy="1673280"/>
            <a:chOff x="3543480" y="1401840"/>
            <a:chExt cx="2734920" cy="1673280"/>
          </a:xfrm>
        </p:grpSpPr>
        <p:graphicFrame>
          <p:nvGraphicFramePr>
            <p:cNvPr id="210" name=""/>
            <p:cNvGraphicFramePr/>
            <p:nvPr/>
          </p:nvGraphicFramePr>
          <p:xfrm>
            <a:off x="3543480" y="1922400"/>
            <a:ext cx="782280" cy="1152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543480" y="1922400"/>
                      <a:ext cx="782280" cy="115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2" name=""/>
            <p:cNvSpPr/>
            <p:nvPr/>
          </p:nvSpPr>
          <p:spPr>
            <a:xfrm>
              <a:off x="3556080" y="2282760"/>
              <a:ext cx="676080" cy="368280"/>
            </a:xfrm>
            <a:prstGeom prst="rect">
              <a:avLst/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4286160" y="1706760"/>
              <a:ext cx="1149480" cy="792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4" name=""/>
            <p:cNvGraphicFramePr/>
            <p:nvPr/>
          </p:nvGraphicFramePr>
          <p:xfrm>
            <a:off x="5495760" y="1922400"/>
            <a:ext cx="782640" cy="11527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495760" y="1922400"/>
                      <a:ext cx="782640" cy="115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5515200" y="1401840"/>
              <a:ext cx="676080" cy="368280"/>
            </a:xfrm>
            <a:prstGeom prst="rect">
              <a:avLst/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866920" y="1798560"/>
              <a:ext cx="180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5520240" y="2940120"/>
            <a:ext cx="700560" cy="539640"/>
            <a:chOff x="5520240" y="2940120"/>
            <a:chExt cx="700560" cy="539640"/>
          </a:xfrm>
        </p:grpSpPr>
        <p:sp>
          <p:nvSpPr>
            <p:cNvPr id="219" name=""/>
            <p:cNvSpPr/>
            <p:nvPr/>
          </p:nvSpPr>
          <p:spPr>
            <a:xfrm flipH="1">
              <a:off x="5866920" y="2940120"/>
              <a:ext cx="180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20240" y="3111480"/>
              <a:ext cx="700560" cy="368280"/>
            </a:xfrm>
            <a:prstGeom prst="rect">
              <a:avLst/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435640" y="1979640"/>
            <a:ext cx="865080" cy="931320"/>
            <a:chOff x="5435640" y="1979640"/>
            <a:chExt cx="865080" cy="931320"/>
          </a:xfrm>
        </p:grpSpPr>
        <p:sp>
          <p:nvSpPr>
            <p:cNvPr id="222" name=""/>
            <p:cNvSpPr/>
            <p:nvPr/>
          </p:nvSpPr>
          <p:spPr>
            <a:xfrm>
              <a:off x="5510880" y="1979640"/>
              <a:ext cx="700560" cy="368280"/>
            </a:xfrm>
            <a:prstGeom prst="rect">
              <a:avLst/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35640" y="2550960"/>
              <a:ext cx="865080" cy="360000"/>
            </a:xfrm>
            <a:prstGeom prst="can">
              <a:avLst>
                <a:gd name="adj" fmla="val 25000"/>
              </a:avLst>
            </a:prstGeom>
            <a:solidFill>
              <a:srgbClr val="ffff99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ilbo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5866920" y="2373120"/>
              <a:ext cx="1800" cy="142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4920" y="5364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Agentes de e-mail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5680" y="3643200"/>
            <a:ext cx="8496360" cy="28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MUA: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00cc"/>
                </a:solidFill>
                <a:latin typeface="Arial"/>
              </a:rPr>
              <a:t>Mail User Agent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Agente do usuário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  <a:tab algn="l" pos="7367760"/>
                <a:tab algn="l" pos="771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Microsoft Outlook e Outlook Express, Lotus Notes, etc.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MTA: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00cc"/>
                </a:solidFill>
                <a:latin typeface="Arial"/>
              </a:rPr>
              <a:t>Mail Transfer Agent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Transferência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MDA: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00cc"/>
                </a:solidFill>
                <a:latin typeface="Arial"/>
              </a:rPr>
              <a:t>Mail Delivery Agent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Entrega na mailbox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MAA: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00cc"/>
                </a:solidFill>
                <a:latin typeface="Arial"/>
              </a:rPr>
              <a:t>Mail Access Agent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Acesso às conta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351000"/>
                <a:tab algn="l" pos="701640"/>
                <a:tab algn="l" pos="1052640"/>
                <a:tab algn="l" pos="1403280"/>
                <a:tab algn="l" pos="1754280"/>
                <a:tab algn="l" pos="2104920"/>
                <a:tab algn="l" pos="2455920"/>
                <a:tab algn="l" pos="2806560"/>
                <a:tab algn="l" pos="3157560"/>
                <a:tab algn="l" pos="3508200"/>
                <a:tab algn="l" pos="3859200"/>
                <a:tab algn="l" pos="4210200"/>
                <a:tab algn="l" pos="4560840"/>
                <a:tab algn="l" pos="4911840"/>
                <a:tab algn="l" pos="5262480"/>
                <a:tab algn="l" pos="5613480"/>
                <a:tab algn="l" pos="5964120"/>
                <a:tab algn="l" pos="6315120"/>
                <a:tab algn="l" pos="6665760"/>
                <a:tab algn="l" pos="701676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Protocolos mais comuns: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SMTP e POP3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269800" y="2276640"/>
            <a:ext cx="4684680" cy="1112760"/>
            <a:chOff x="2269800" y="2276640"/>
            <a:chExt cx="4684680" cy="1112760"/>
          </a:xfrm>
        </p:grpSpPr>
        <p:sp>
          <p:nvSpPr>
            <p:cNvPr id="228" name=""/>
            <p:cNvSpPr/>
            <p:nvPr/>
          </p:nvSpPr>
          <p:spPr>
            <a:xfrm>
              <a:off x="2269800" y="2708280"/>
              <a:ext cx="8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SM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164280" y="302112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POP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75160" y="2276640"/>
              <a:ext cx="8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SM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nizando os spams com e-mails segu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3F22-94D6-4BE7-A61E-BBF70961F67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árcio Moreir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1280" y="44280"/>
            <a:ext cx="8964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Análise dos protocolos existente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920" y="5364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Laboratório utilizado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40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Foi utilizada a seguinte infra-estrutura: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Hardware: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Software: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Ethereal (captura) e Outlook (MUA)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Windows XP e Internet Explorer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3203640" y="1916280"/>
          <a:ext cx="4464000" cy="33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916280"/>
                    <a:ext cx="4464000" cy="33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nizando os spams com e-mails segu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3640-3945-4D40-861F-142052C50A0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árcio Moreir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4920" y="5364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cc"/>
                </a:solidFill>
                <a:latin typeface="Arial"/>
              </a:rPr>
              <a:t>SMTP</a:t>
            </a:r>
            <a:br>
              <a:rPr sz="4000"/>
            </a:br>
            <a:r>
              <a:rPr b="0" i="1" lang="pt-BR" sz="4000" spc="-1" strike="noStrike">
                <a:solidFill>
                  <a:srgbClr val="0000cc"/>
                </a:solidFill>
                <a:latin typeface="Arial"/>
              </a:rPr>
              <a:t>Simple Mail Transfer Protocol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Autenticação (usuário/senha):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Insegura (padrão) ou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Segura (parâmetro ESMTP: requer aut. segura)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241280" y="2960640"/>
            <a:ext cx="73630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nizando os spams com e-mails segu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C141-8E8C-44A5-AF58-4E5328377E9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árcio Moreir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4920" y="5364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SMTP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34196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Corpo da mensagem: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nseguro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Não garante: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nfidencialidad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ntegridad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utenticidad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Conclusão: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Protocolo inseguro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317760" y="1266840"/>
            <a:ext cx="5732640" cy="521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nizando os spams com e-mails segu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1CE0-7910-44D1-9E6C-F187AC636EB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árcio Moreir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4920" y="5364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cc"/>
                </a:solidFill>
                <a:latin typeface="Arial"/>
              </a:rPr>
              <a:t>POP3</a:t>
            </a:r>
            <a:br>
              <a:rPr sz="4000"/>
            </a:br>
            <a:r>
              <a:rPr b="0" i="1" lang="pt-BR" sz="4000" spc="-1" strike="noStrike">
                <a:solidFill>
                  <a:srgbClr val="0000cc"/>
                </a:solidFill>
                <a:latin typeface="Arial"/>
              </a:rPr>
              <a:t>Post Office Protocol version 3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84720" y="1412640"/>
            <a:ext cx="3059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utenticação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segura (padrão)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APOP: raro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rpo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seguro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Não garante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onfidencialidade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Autenticidade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tegridade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nclusão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rotocolo Inseguro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5905440" cy="40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nizando os spams com e-mails segu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38B0-FD79-430C-B4F8-A67656BC93B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árcio Moreir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920" y="5364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ntrodução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riptografia de chave públic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uncionamento dos e-mails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nálise dos protocolos existentes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omo utilizar o S/MIME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O e-mail como prov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onclusões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nizando os spams com e-mails segu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5C6B-6C77-4A86-A418-E3D8DBC5232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árcio Moreir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4920" y="5364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cc"/>
                </a:solidFill>
                <a:latin typeface="Arial"/>
              </a:rPr>
              <a:t>IMAP</a:t>
            </a:r>
            <a:br>
              <a:rPr sz="4000"/>
            </a:br>
            <a:r>
              <a:rPr b="0" i="1" lang="pt-BR" sz="4000" spc="-1" strike="noStrike">
                <a:solidFill>
                  <a:srgbClr val="0000cc"/>
                </a:solidFill>
                <a:latin typeface="Arial"/>
              </a:rPr>
              <a:t>Internet Message Access Protocol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4560" y="1484280"/>
            <a:ext cx="3600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utenticação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segura (padrão)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gura (raro)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rpo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seguro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Não garante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onfidencialidade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Autenticidade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tegridade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nclusão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rotocolo inseguro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967120" y="1619280"/>
            <a:ext cx="8229600" cy="42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nizando os spams com e-mails segu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16EC-C1A4-4C2C-9A84-7FE0257CEE9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árcio Moreir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4920" y="5364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cc"/>
                </a:solidFill>
                <a:latin typeface="Arial"/>
              </a:rPr>
              <a:t>S/MIME</a:t>
            </a:r>
            <a:br>
              <a:rPr sz="4000"/>
            </a:br>
            <a:r>
              <a:rPr b="0" i="1" lang="fr-FR" sz="2800" spc="-1" strike="noStrike">
                <a:solidFill>
                  <a:srgbClr val="0000cc"/>
                </a:solidFill>
                <a:latin typeface="Arial"/>
              </a:rPr>
              <a:t>Secure / Multipurpose Internet Mail Extension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S/MIME x OpenPGP: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Conclusão: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Em termos de segurança: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Equivalente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Em termos de mercado: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S/MIME usa padrõe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244520" y="2035080"/>
          <a:ext cx="6515280" cy="2906640"/>
        </p:xfrm>
        <a:graphic>
          <a:graphicData uri="http://schemas.openxmlformats.org/drawingml/2006/table">
            <a:tbl>
              <a:tblPr/>
              <a:tblGrid>
                <a:gridCol w="1922400"/>
                <a:gridCol w="2308320"/>
                <a:gridCol w="228456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urs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/MIME v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nPG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mato da mensage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nário, baseado no CM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nário, baseado no PG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mato do certific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nário, baseado no X.509v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nário, baseado no PG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goritmo de cifrage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ipleDES (DES EDE3 CBC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ipleDES (DES EDE3 CFB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goritmo de assinatu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ffie-Helmman (X9.42) co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SS ou RS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Gamal com DS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goritmo </a:t>
                      </a:r>
                      <a:r>
                        <a:rPr b="0" i="1" lang="pt-BR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s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A-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A-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apsulamento MIM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dados assi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ltipartes assinadas o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mato CM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ltipartes assinadas co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CII arm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apsulamento MIM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dados cifr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licação do PKCS7-MIM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ltipartes cifrad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nizando os spams com e-mails segu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7D9B-B7BB-46C6-8295-D4F51453082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árcio Moreir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4920" y="5364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S/MIM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56000" y="1412640"/>
            <a:ext cx="2987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utenticação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gura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rpo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guro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Garante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onfidencialidade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Autenticidade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tegridade: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nclusão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rotocolo seguro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4920" y="1487520"/>
            <a:ext cx="6121440" cy="428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nizando os spams com e-mails segu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89B0-04B2-4A4E-A7BC-942107E83F2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árcio Moreir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4920" y="5364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cc"/>
                </a:solidFill>
                <a:latin typeface="Arial"/>
              </a:rPr>
              <a:t>SPF</a:t>
            </a:r>
            <a:br>
              <a:rPr sz="4000"/>
            </a:br>
            <a:r>
              <a:rPr b="0" i="1" lang="pt-BR" sz="4000" spc="-1" strike="noStrike">
                <a:solidFill>
                  <a:srgbClr val="0000cc"/>
                </a:solidFill>
                <a:latin typeface="Arial"/>
              </a:rPr>
              <a:t>Sender Policy Framework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Necessidades: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Domínio emissor: definir e publicar políticas de envio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Domínio receptor: definir critérios de aceitação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Permite ao MTA</a:t>
            </a:r>
            <a:r>
              <a:rPr b="0" lang="pt-BR" sz="2800" spc="-1" strike="noStrike" baseline="-25000">
                <a:solidFill>
                  <a:srgbClr val="0000cc"/>
                </a:solidFill>
                <a:latin typeface="Arial"/>
              </a:rPr>
              <a:t>rec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 verificar (+, -, ?, ~) e rejeitar mensagens cujo endereço de retorno seja forjado: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Implementação de listas brancas (</a:t>
            </a:r>
            <a:r>
              <a:rPr b="0" i="1" lang="pt-BR" sz="2400" spc="-1" strike="noStrike">
                <a:solidFill>
                  <a:srgbClr val="0000cc"/>
                </a:solidFill>
                <a:latin typeface="Arial"/>
              </a:rPr>
              <a:t>white lists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Ainda faltam adesões e implementações (novo: Abr/2006)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Mas, é um esforço da comunidade para minimizar os </a:t>
            </a:r>
            <a:r>
              <a:rPr b="0" i="1" lang="pt-BR" sz="2400" spc="-1" strike="noStrike">
                <a:solidFill>
                  <a:srgbClr val="0000cc"/>
                </a:solidFill>
                <a:latin typeface="Arial"/>
              </a:rPr>
              <a:t>spam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Extensão do SMTP: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Não garante: integridade, autenticidade e confidencialidad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Protocolo inseguro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nizando os spams com e-mails segu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8D4B-F1B7-4868-BD2B-A9F141CBE65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árcio Moreir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4920" y="5364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cc"/>
                </a:solidFill>
                <a:latin typeface="Arial"/>
              </a:rPr>
              <a:t>DKIM</a:t>
            </a:r>
            <a:br>
              <a:rPr sz="4000"/>
            </a:br>
            <a:r>
              <a:rPr b="0" i="1" lang="pt-BR" sz="4000" spc="-1" strike="noStrike">
                <a:solidFill>
                  <a:srgbClr val="0000cc"/>
                </a:solidFill>
                <a:latin typeface="Arial"/>
              </a:rPr>
              <a:t>DomainKeys Identified Mail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820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Revisado em Maio/2007 por: Sendmail, PGP, Yahoo e Cisco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Usa assinatura digital do MTA</a:t>
            </a:r>
            <a:r>
              <a:rPr b="0" lang="pt-BR" sz="2400" spc="-1" strike="noStrike" baseline="-25000">
                <a:solidFill>
                  <a:srgbClr val="0000cc"/>
                </a:solidFill>
                <a:latin typeface="Arial"/>
              </a:rPr>
              <a:t>emi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 ao MAA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Implementação de listas brancas entre os provedores </a:t>
            </a:r>
            <a:r>
              <a:rPr b="0" lang="pt-BR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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 indignação dos provedores com os </a:t>
            </a:r>
            <a:r>
              <a:rPr b="0" i="1" lang="pt-BR" sz="2400" spc="-1" strike="noStrike">
                <a:solidFill>
                  <a:srgbClr val="0000cc"/>
                </a:solidFill>
                <a:latin typeface="Arial"/>
              </a:rPr>
              <a:t>spams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 (bom sinal)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Conclusão: Protocolo inseguro nas regiões não assinada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411960" y="2320920"/>
            <a:ext cx="2665440" cy="2879640"/>
          </a:xfrm>
          <a:custGeom>
            <a:avLst/>
            <a:gdLst>
              <a:gd name="textAreaLeft" fmla="*/ 129960 w 2665440"/>
              <a:gd name="textAreaRight" fmla="*/ 2535480 w 2665440"/>
              <a:gd name="textAreaTop" fmla="*/ 129960 h 2879640"/>
              <a:gd name="textAreaBottom" fmla="*/ 2749680 h 2879640"/>
            </a:gdLst>
            <a:ahLst/>
            <a:rect l="textAreaLeft" t="textAreaTop" r="textAreaRight" b="textAreaBottom"/>
            <a:pathLst>
              <a:path w="21600" h="23336">
                <a:moveTo>
                  <a:pt x="3600" y="0"/>
                </a:moveTo>
                <a:arcTo wR="3600" hR="3600" stAng="16200000" swAng="-5400000"/>
                <a:lnTo>
                  <a:pt x="0" y="19736"/>
                </a:lnTo>
                <a:arcTo wR="3600" hR="3600" stAng="10800000" swAng="-5400000"/>
                <a:lnTo>
                  <a:pt x="18000" y="233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ão não assi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6320" y="2320920"/>
            <a:ext cx="3240000" cy="28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ão não assi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87600" y="2320920"/>
            <a:ext cx="2952720" cy="2879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ão assi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76320" y="2459160"/>
            <a:ext cx="1868400" cy="1773000"/>
          </a:xfrm>
          <a:prstGeom prst="rect">
            <a:avLst/>
          </a:prstGeom>
          <a:ln w="0">
            <a:noFill/>
          </a:ln>
        </p:spPr>
      </p:pic>
      <p:sp>
        <p:nvSpPr>
          <p:cNvPr id="263" name="Cloud"/>
          <p:cNvSpPr/>
          <p:nvPr/>
        </p:nvSpPr>
        <p:spPr>
          <a:xfrm>
            <a:off x="3438360" y="2608200"/>
            <a:ext cx="2737080" cy="20890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6700680" y="2817720"/>
            <a:ext cx="2289240" cy="14065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019240" y="3689280"/>
            <a:ext cx="13478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70640" y="36306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s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2360" y="418608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i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128720" y="41799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235560" y="3862080"/>
            <a:ext cx="432000" cy="431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34080" y="3473280"/>
            <a:ext cx="700560" cy="368280"/>
          </a:xfrm>
          <a:prstGeom prst="rect">
            <a:avLst/>
          </a:prstGeom>
          <a:solidFill>
            <a:srgbClr val="bbe0e3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511440" y="3112920"/>
          <a:ext cx="782640" cy="11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11440" y="3112920"/>
                    <a:ext cx="78264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6712560" y="3473280"/>
            <a:ext cx="700560" cy="368280"/>
          </a:xfrm>
          <a:prstGeom prst="rect">
            <a:avLst/>
          </a:prstGeom>
          <a:solidFill>
            <a:srgbClr val="bbe0e3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24400" y="3473280"/>
            <a:ext cx="676080" cy="368280"/>
          </a:xfrm>
          <a:prstGeom prst="rect">
            <a:avLst/>
          </a:prstGeom>
          <a:solidFill>
            <a:srgbClr val="bbe0e3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254480" y="2897280"/>
            <a:ext cx="1149480" cy="7920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5464080" y="3112920"/>
          <a:ext cx="782640" cy="115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64080" y="3112920"/>
                    <a:ext cx="78264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5478840" y="3170160"/>
            <a:ext cx="700560" cy="368280"/>
          </a:xfrm>
          <a:prstGeom prst="rect">
            <a:avLst/>
          </a:prstGeom>
          <a:solidFill>
            <a:srgbClr val="bbe0e3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835240" y="4130640"/>
            <a:ext cx="180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483160" y="2592360"/>
            <a:ext cx="676080" cy="368280"/>
          </a:xfrm>
          <a:prstGeom prst="rect">
            <a:avLst/>
          </a:prstGeom>
          <a:solidFill>
            <a:srgbClr val="bbe0e3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8560" y="4302000"/>
            <a:ext cx="700560" cy="368280"/>
          </a:xfrm>
          <a:prstGeom prst="rect">
            <a:avLst/>
          </a:prstGeom>
          <a:solidFill>
            <a:srgbClr val="bbe0e3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835240" y="2989440"/>
            <a:ext cx="1800" cy="14256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03960" y="3741840"/>
            <a:ext cx="865080" cy="360360"/>
          </a:xfrm>
          <a:prstGeom prst="can">
            <a:avLst>
              <a:gd name="adj" fmla="val 25000"/>
            </a:avLst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l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835240" y="3564000"/>
            <a:ext cx="180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587960" y="253692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nto de ris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2307240" y="3112200"/>
            <a:ext cx="718920" cy="289080"/>
          </a:xfrm>
          <a:prstGeom prst="rightArrow">
            <a:avLst>
              <a:gd name="adj1" fmla="val 50000"/>
              <a:gd name="adj2" fmla="val 62173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340680" y="253692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nto de ris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5400000">
            <a:off x="6225120" y="3112200"/>
            <a:ext cx="718920" cy="289080"/>
          </a:xfrm>
          <a:prstGeom prst="rightArrow">
            <a:avLst>
              <a:gd name="adj1" fmla="val 50000"/>
              <a:gd name="adj2" fmla="val 62173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nizando os spams com e-mails segu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5956-EC62-4E93-9134-6FACDDBE9AC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árcio Moreir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1280" y="44280"/>
            <a:ext cx="8964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omo utilizar o S/MIM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4920" y="5364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Provedores de serviços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Configurar e manter ambientes seguro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Open-source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0" i="1" lang="pt-BR" sz="2000" spc="-1" strike="noStrike">
                <a:solidFill>
                  <a:srgbClr val="0000cc"/>
                </a:solidFill>
                <a:latin typeface="Arial"/>
              </a:rPr>
              <a:t>Utilizing Open-Source Software to Build a (Relatively) Secure, Spam- and Virus-Free Mail Service</a:t>
            </a:r>
            <a:r>
              <a:rPr b="0" lang="pt-BR" sz="2000" spc="-1" strike="noStrike">
                <a:solidFill>
                  <a:srgbClr val="0000cc"/>
                </a:solidFill>
                <a:latin typeface="Arial"/>
              </a:rPr>
              <a:t>”, David Bailey, 2004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ans.org/reading_room/whitepapers/email/1402.php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0" i="1" lang="pt-BR" sz="2000" spc="-1" strike="noStrike">
                <a:solidFill>
                  <a:srgbClr val="0000cc"/>
                </a:solidFill>
                <a:latin typeface="Arial"/>
              </a:rPr>
              <a:t>Segurança em Servidores de Correio Eletrônico</a:t>
            </a:r>
            <a:r>
              <a:rPr b="0" lang="pt-BR" sz="2000" spc="-1" strike="noStrike">
                <a:solidFill>
                  <a:srgbClr val="0000cc"/>
                </a:solidFill>
                <a:latin typeface="Arial"/>
              </a:rPr>
              <a:t>“, Marcel Souza, 2006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Microsoft Exchange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The Changing Landscape of E-mail Security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“, disponível em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echnet.microsoft.com/pt-br/library/aa995984.aspx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IBM Lotus Notes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0" lang="pt-BR" sz="2000" spc="-1" strike="noStrike">
                <a:solidFill>
                  <a:srgbClr val="0000cc"/>
                </a:solidFill>
                <a:latin typeface="Arial"/>
              </a:rPr>
              <a:t>Lotus Security Handbook”, RedBook sg247017, disponível em: 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redbooks.ibm.com/abstracts/SG247017.htm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nizando os spams com e-mails segu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6F4F-CB61-4B86-BEC3-99401A0BA51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árcio Moreir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4920" y="5364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Usuários de e-mails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82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Necessidades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  <a:tab algn="l" pos="7567560"/>
                <a:tab algn="l" pos="7927920"/>
              </a:tabLst>
            </a:pPr>
            <a:r>
              <a:rPr b="0" lang="pt-BR" sz="2000" spc="-1" strike="noStrike">
                <a:solidFill>
                  <a:srgbClr val="0000cc"/>
                </a:solidFill>
                <a:latin typeface="Arial"/>
              </a:rPr>
              <a:t>Obter, instalar e publicar seus certificados digitai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Obtendo um certificado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  <a:tab algn="l" pos="7567560"/>
                <a:tab algn="l" pos="7927920"/>
              </a:tabLst>
            </a:pPr>
            <a:r>
              <a:rPr b="0" lang="pt-BR" sz="2000" spc="-1" strike="noStrike">
                <a:solidFill>
                  <a:srgbClr val="0000cc"/>
                </a:solidFill>
                <a:latin typeface="Arial"/>
              </a:rPr>
              <a:t>e-CPF e e-CNPJ: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●"/>
              <a:tabLst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  <a:tab algn="l" pos="7567560"/>
                <a:tab algn="l" pos="7927920"/>
                <a:tab algn="l" pos="8288280"/>
              </a:tabLst>
            </a:pPr>
            <a:r>
              <a:rPr b="0" lang="pt-BR" sz="1800" spc="-1" strike="noStrike">
                <a:solidFill>
                  <a:srgbClr val="0000cc"/>
                </a:solidFill>
                <a:latin typeface="Arial"/>
              </a:rPr>
              <a:t>CertSign:</a:t>
            </a:r>
            <a:r>
              <a:rPr b="0" lang="pt-BR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ertisign.com.br/receita/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●"/>
              <a:tabLst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  <a:tab algn="l" pos="7567560"/>
                <a:tab algn="l" pos="7927920"/>
                <a:tab algn="l" pos="8288280"/>
              </a:tabLst>
            </a:pPr>
            <a:r>
              <a:rPr b="0" lang="pt-BR" sz="1800" spc="-1" strike="noStrike">
                <a:solidFill>
                  <a:srgbClr val="0000cc"/>
                </a:solidFill>
                <a:latin typeface="Arial"/>
              </a:rPr>
              <a:t>Serasa:</a:t>
            </a:r>
            <a:r>
              <a:rPr b="0" lang="pt-BR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serasa.com.br/certificados/receitafederal.htm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●"/>
              <a:tabLst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  <a:tab algn="l" pos="7567560"/>
                <a:tab algn="l" pos="7927920"/>
                <a:tab algn="l" pos="8288280"/>
              </a:tabLst>
            </a:pPr>
            <a:r>
              <a:rPr b="0" lang="pt-BR" sz="1800" spc="-1" strike="noStrike">
                <a:solidFill>
                  <a:srgbClr val="0000cc"/>
                </a:solidFill>
                <a:latin typeface="Arial"/>
              </a:rPr>
              <a:t>Serpro:</a:t>
            </a:r>
            <a:r>
              <a:rPr b="0" lang="pt-BR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s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//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cd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serpro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.gov.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br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certificados/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  <a:tab algn="l" pos="7567560"/>
                <a:tab algn="l" pos="7927920"/>
              </a:tabLst>
            </a:pPr>
            <a:r>
              <a:rPr b="0" lang="pt-BR" sz="2000" spc="-1" strike="noStrike">
                <a:solidFill>
                  <a:srgbClr val="0000cc"/>
                </a:solidFill>
                <a:latin typeface="Arial"/>
              </a:rPr>
              <a:t>Outros certificados pagos: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●"/>
              <a:tabLst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  <a:tab algn="l" pos="7567560"/>
                <a:tab algn="l" pos="7927920"/>
                <a:tab algn="l" pos="8288280"/>
              </a:tabLst>
            </a:pPr>
            <a:r>
              <a:rPr b="0" lang="pt-BR" sz="1800" spc="-1" strike="noStrike">
                <a:solidFill>
                  <a:srgbClr val="0000cc"/>
                </a:solidFill>
                <a:latin typeface="Arial"/>
              </a:rPr>
              <a:t>CertiSign:</a:t>
            </a:r>
            <a:r>
              <a:rPr b="0" lang="pt-BR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certisign.com.b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●"/>
              <a:tabLst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  <a:tab algn="l" pos="7567560"/>
                <a:tab algn="l" pos="7927920"/>
                <a:tab algn="l" pos="8288280"/>
              </a:tabLst>
            </a:pPr>
            <a:r>
              <a:rPr b="0" lang="pt-BR" sz="1800" spc="-1" strike="noStrike">
                <a:solidFill>
                  <a:srgbClr val="0000cc"/>
                </a:solidFill>
                <a:latin typeface="Arial"/>
              </a:rPr>
              <a:t>Serasa:</a:t>
            </a:r>
            <a:r>
              <a:rPr b="0" lang="pt-BR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serasa.com.b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●"/>
              <a:tabLst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  <a:tab algn="l" pos="7567560"/>
                <a:tab algn="l" pos="7927920"/>
                <a:tab algn="l" pos="8288280"/>
              </a:tabLst>
            </a:pPr>
            <a:r>
              <a:rPr b="0" lang="pt-BR" sz="1800" spc="-1" strike="noStrike">
                <a:solidFill>
                  <a:srgbClr val="0000cc"/>
                </a:solidFill>
                <a:latin typeface="Arial"/>
              </a:rPr>
              <a:t>CEF:</a:t>
            </a:r>
            <a:r>
              <a:rPr b="0" lang="pt-BR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s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://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icp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.caixa.gov.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b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●"/>
              <a:tabLst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  <a:tab algn="l" pos="7567560"/>
                <a:tab algn="l" pos="7927920"/>
                <a:tab algn="l" pos="8288280"/>
              </a:tabLst>
            </a:pPr>
            <a:r>
              <a:rPr b="0" lang="pt-BR" sz="1800" spc="-1" strike="noStrike">
                <a:solidFill>
                  <a:srgbClr val="0000cc"/>
                </a:solidFill>
                <a:latin typeface="Arial"/>
              </a:rPr>
              <a:t>Imesp:</a:t>
            </a:r>
            <a:r>
              <a:rPr b="0" lang="pt-BR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imesp.com.b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●"/>
              <a:tabLst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  <a:tab algn="l" pos="7567560"/>
                <a:tab algn="l" pos="7927920"/>
                <a:tab algn="l" pos="8288280"/>
              </a:tabLst>
            </a:pPr>
            <a:r>
              <a:rPr b="0" lang="pt-BR" sz="1800" spc="-1" strike="noStrike">
                <a:solidFill>
                  <a:srgbClr val="0000cc"/>
                </a:solidFill>
                <a:latin typeface="Arial"/>
              </a:rPr>
              <a:t>Prodemge:</a:t>
            </a:r>
            <a:r>
              <a:rPr b="0" lang="pt-BR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prodemge.gov.b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  <a:tab algn="l" pos="7567560"/>
                <a:tab algn="l" pos="7927920"/>
              </a:tabLst>
            </a:pPr>
            <a:r>
              <a:rPr b="0" lang="pt-BR" sz="2000" spc="-1" strike="noStrike">
                <a:solidFill>
                  <a:srgbClr val="0000cc"/>
                </a:solidFill>
                <a:latin typeface="Arial"/>
              </a:rPr>
              <a:t>Outros certificados grátis: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●"/>
              <a:tabLst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  <a:tab algn="l" pos="7567560"/>
                <a:tab algn="l" pos="7927920"/>
                <a:tab algn="l" pos="8288280"/>
              </a:tabLst>
            </a:pPr>
            <a:r>
              <a:rPr b="0" lang="pt-BR" sz="1800" spc="-1" strike="noStrike">
                <a:solidFill>
                  <a:srgbClr val="0000cc"/>
                </a:solidFill>
                <a:latin typeface="Arial"/>
              </a:rPr>
              <a:t>Thawte:</a:t>
            </a:r>
            <a:r>
              <a:rPr b="0" lang="pt-BR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thawte.com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nizando os spams com e-mails segu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3616-7CE0-451C-9D66-BF51290E6CA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árcio Moreir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6516720" y="333360"/>
            <a:ext cx="2488680" cy="2592000"/>
            <a:chOff x="6516720" y="333360"/>
            <a:chExt cx="2488680" cy="2592000"/>
          </a:xfrm>
        </p:grpSpPr>
        <p:cxnSp>
          <p:nvCxnSpPr>
            <p:cNvPr id="295" name="_s48132"/>
            <p:cNvCxnSpPr>
              <a:stCxn id="296" idx="0"/>
              <a:endCxn id="297" idx="2"/>
            </p:cNvCxnSpPr>
            <p:nvPr/>
          </p:nvCxnSpPr>
          <p:spPr>
            <a:xfrm flipV="1">
              <a:off x="8258760" y="1953000"/>
              <a:ext cx="2160" cy="324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8" name="_s48133"/>
            <p:cNvCxnSpPr>
              <a:stCxn id="297" idx="1"/>
              <a:endCxn id="299" idx="2"/>
            </p:cNvCxnSpPr>
            <p:nvPr/>
          </p:nvCxnSpPr>
          <p:spPr>
            <a:xfrm rot="10800000">
              <a:off x="7262640" y="981360"/>
              <a:ext cx="249480" cy="6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9" name="_s48134"/>
            <p:cNvSpPr/>
            <p:nvPr/>
          </p:nvSpPr>
          <p:spPr>
            <a:xfrm>
              <a:off x="6516720" y="333360"/>
              <a:ext cx="1493280" cy="64800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ertificado Raiz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48135"/>
            <p:cNvSpPr/>
            <p:nvPr/>
          </p:nvSpPr>
          <p:spPr>
            <a:xfrm>
              <a:off x="7512120" y="1305360"/>
              <a:ext cx="1493280" cy="64800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ertificado d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utorida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rtificado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48136"/>
            <p:cNvSpPr/>
            <p:nvPr/>
          </p:nvSpPr>
          <p:spPr>
            <a:xfrm>
              <a:off x="7512120" y="2277360"/>
              <a:ext cx="1493280" cy="64800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ertificad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o Usuári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4920" y="5364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Instalando um certificado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6000" y="1052280"/>
            <a:ext cx="8496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Ordem de instalação: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Raiz, Autoridade Certificadora e Usuário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Raiz e Autoridade Certificadora: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Internet Explorer: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ertificado do usuário: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Outlook: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219640" y="2997360"/>
            <a:ext cx="3867120" cy="24001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179280" y="4361040"/>
            <a:ext cx="489600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nizando os spams com e-mails segu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8D0C-9734-4D3F-929C-F2448527C95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árcio Moreir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4920" y="5364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Publicando um certificado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ara receber mensagens assinadas: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O certificado pode vir junto com a mensagem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ara receber mensagens cifradas: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O certificado deve ser enviado antes do e-mai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Outlook: importar certificado do contato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6600" y="4092480"/>
            <a:ext cx="3638520" cy="10670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3340080" y="4062240"/>
            <a:ext cx="5762520" cy="23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nizando os spams com e-mails segu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DC78-7FCD-4DF8-9875-E7055D3CB8B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árcio Moreir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280" y="44280"/>
            <a:ext cx="8964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Introdução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4920" y="5364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Usando e-mails seguros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Enviando mensagens assinadas e cifradas: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Recebendo mensagens seguras: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5667480" cy="20383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826920" y="4653000"/>
            <a:ext cx="5753160" cy="171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nizando os spams com e-mails segu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CDF1-6452-4CF5-8E1F-A0C7CE27F0A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árcio Moreir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1280" y="44280"/>
            <a:ext cx="8964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O e-mail como prova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4920" y="5364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ocumento eletrônico e certificado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O documento eletrônico: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Surgiu no Decreto 3.714 de 03/01/2001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cc"/>
                </a:solidFill>
                <a:latin typeface="Arial"/>
              </a:rPr>
              <a:t>Remessa de informações por meios eletrônico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O certificado digital: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Primeira citação no Decreto 3.865 de 13/07/2001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cc"/>
                </a:solidFill>
                <a:latin typeface="Arial"/>
              </a:rPr>
              <a:t>Requisitos de aquisição de certificados pelo governo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Medida Provisória 2.200 de 24/08/2001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cc"/>
                </a:solidFill>
                <a:latin typeface="Arial"/>
              </a:rPr>
              <a:t>Criou o ICP-Brasil (Infra-Estrutura de Chaves Públicas Brasileira, Autoridade Certificadora Raiz)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Decreto 4.520 de 16/12/2002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cc"/>
                </a:solidFill>
                <a:latin typeface="Arial"/>
              </a:rPr>
              <a:t>Documentos enviados ao Diário Oficial só com certificado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nizando os spams com e-mails segu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EC5E-19AC-4C0F-A6B7-563FBCCE8CD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árcio Moreir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4920" y="5364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Assinaturas digitais em e-mails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Da negação absoluta ao uso como provas: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2000 - Angela Bittencourt Brasil: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0" i="1" lang="pt-BR" sz="2400" spc="-1" strike="noStrike">
                <a:solidFill>
                  <a:srgbClr val="0000cc"/>
                </a:solidFill>
                <a:latin typeface="Arial"/>
              </a:rPr>
              <a:t>Assinatura digital não é Assinatura formal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2001 - Paulo Sá Elias: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0" i="1" lang="pt-BR" sz="2400" spc="-1" strike="noStrike">
                <a:solidFill>
                  <a:srgbClr val="0000cc"/>
                </a:solidFill>
                <a:latin typeface="Arial"/>
              </a:rPr>
              <a:t>O documento eletrônico, a criptografia e o direito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2004 - Leonardo Netto Parentoni: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0" i="1" lang="pt-BR" sz="2400" spc="-1" strike="noStrike">
                <a:solidFill>
                  <a:srgbClr val="0000cc"/>
                </a:solidFill>
                <a:latin typeface="Arial"/>
              </a:rPr>
              <a:t>O documento eletrônico na jurisprudência do STJ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2006 - Lei 11419 de 19/12/2006: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Assinatura digital gerada por certificado emitido por CA credenciada é válida como identificação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nizando os spams com e-mails segu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ED64-E330-4948-918B-8C18FBA44A1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árcio Moreir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4920" y="5364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E-mails como provas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640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Não assinados: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17/05/2005 - Correio Brasiliense: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0" i="1" lang="pt-BR" sz="2400" spc="-1" strike="noStrike">
                <a:solidFill>
                  <a:srgbClr val="0000cc"/>
                </a:solidFill>
                <a:latin typeface="Arial"/>
              </a:rPr>
              <a:t>E-mail causa demissão justa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10/07/2006 - Folha Online: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0" i="1" lang="pt-BR" sz="2400" spc="-1" strike="noStrike">
                <a:solidFill>
                  <a:srgbClr val="0000cc"/>
                </a:solidFill>
                <a:latin typeface="Arial"/>
              </a:rPr>
              <a:t>Mau uso de e-mail da empresa gera demissão por justa causa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Out/2006 - TRT da 10ª Região: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Usando e-mails do funcionário como prova, condenou o Hotel Phenia ao pagamento de horas extra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nizando os spams com e-mails segu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DF8B-5C63-42D6-94B0-64D61B8DCF9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árcio Moreir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4920" y="5364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cc"/>
                </a:solidFill>
                <a:latin typeface="Arial"/>
              </a:rPr>
              <a:t>Condenação por </a:t>
            </a:r>
            <a:r>
              <a:rPr b="0" i="1" lang="pt-BR" sz="4400" spc="-1" strike="noStrike">
                <a:solidFill>
                  <a:srgbClr val="0000cc"/>
                </a:solidFill>
                <a:latin typeface="Arial"/>
              </a:rPr>
              <a:t>spam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Recurso do Terra Networks ao STJ: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Processo: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Recurso Especial 566.468 (RJ 2003/0132555-7)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Objetivo: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Evitar o pagamento de indenização por danos morais, a Iraci M. Carvalho, causados por </a:t>
            </a:r>
            <a:r>
              <a:rPr b="0" i="1" lang="pt-BR" sz="2400" spc="-1" strike="noStrike">
                <a:solidFill>
                  <a:srgbClr val="0000cc"/>
                </a:solidFill>
                <a:latin typeface="Arial"/>
              </a:rPr>
              <a:t>spams</a:t>
            </a: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 emitidos por cliente do Terra para Iraci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Resultado: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Negado por decisão unânim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Tornou-se um marco e jurisprudência do assunto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nizando os spams com e-mails segu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7C09-353C-44A6-88FB-B01D4AAD68D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árcio Moreir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1280" y="44280"/>
            <a:ext cx="8964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onclusõe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4920" y="5364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Conclusões 1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O S/MIME é um protocolo que atende aos requisitos dos e-mails seguros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Os protocolos SMTP, POP3, IMAP, SPF e DKIM não são seguros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As idéias do SPF e DKIM devem se somar ao S/MIME na batalha contra os </a:t>
            </a:r>
            <a:r>
              <a:rPr b="0" i="1" lang="pt-BR" sz="3200" spc="-1" strike="noStrike">
                <a:solidFill>
                  <a:srgbClr val="0000cc"/>
                </a:solidFill>
                <a:latin typeface="Arial"/>
              </a:rPr>
              <a:t>spams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Os e-mails (inclusive os não assinados digitalmente) estão sendo utilizados como provas em questões jurídicas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Já existe responsabilização através de </a:t>
            </a:r>
            <a:r>
              <a:rPr b="0" i="1" lang="pt-BR" sz="3200" spc="-1" strike="noStrike">
                <a:solidFill>
                  <a:srgbClr val="0000cc"/>
                </a:solidFill>
                <a:latin typeface="Arial"/>
              </a:rPr>
              <a:t>spam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nizando os spams com e-mails segu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B8E8-F352-49BA-A4D9-46A01B4B8B2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árcio Moreir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4920" y="5364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Conclusões 2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Os e-mails seguros responsabilizam seus emissores como autores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Os provedores serão contra a geração de </a:t>
            </a:r>
            <a:r>
              <a:rPr b="0" i="1" lang="pt-BR" sz="3200" spc="-1" strike="noStrike">
                <a:solidFill>
                  <a:srgbClr val="0000cc"/>
                </a:solidFill>
                <a:latin typeface="Arial"/>
              </a:rPr>
              <a:t>spams</a:t>
            </a: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 para evitar condenações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A comunidade da Internet não quer </a:t>
            </a:r>
            <a:r>
              <a:rPr b="0" i="1" lang="pt-BR" sz="3200" spc="-1" strike="noStrike">
                <a:solidFill>
                  <a:srgbClr val="0000cc"/>
                </a:solidFill>
                <a:latin typeface="Arial"/>
              </a:rPr>
              <a:t>spams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A adoção de e-mails seguros é simples e transparente para os provedores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Portanto, os e-mails seguros reduzirão a emissão de </a:t>
            </a:r>
            <a:r>
              <a:rPr b="0" i="1" lang="pt-BR" sz="3200" spc="-1" strike="noStrike">
                <a:solidFill>
                  <a:srgbClr val="0000cc"/>
                </a:solidFill>
                <a:latin typeface="Arial"/>
              </a:rPr>
              <a:t>spams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nizando os spams com e-mails segu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D67C-A8BC-4156-A4DE-989ABF3A97B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árcio Moreir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1280" y="44280"/>
            <a:ext cx="8964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Obrigado!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920" y="5364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cc"/>
                </a:solidFill>
                <a:latin typeface="Arial"/>
              </a:rPr>
              <a:t>Os </a:t>
            </a:r>
            <a:r>
              <a:rPr b="0" i="1" lang="pt-BR" sz="4400" spc="-1" strike="noStrike">
                <a:solidFill>
                  <a:srgbClr val="0000cc"/>
                </a:solidFill>
                <a:latin typeface="Arial"/>
              </a:rPr>
              <a:t>spams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5832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São mensagens, notícias ou propagandas não autorizadas e indesejada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Cresceram junto com os e-mail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O termo </a:t>
            </a:r>
            <a:r>
              <a:rPr b="0" i="1" lang="pt-BR" sz="2800" spc="-1" strike="noStrike">
                <a:solidFill>
                  <a:srgbClr val="0000cc"/>
                </a:solidFill>
                <a:latin typeface="Arial"/>
              </a:rPr>
              <a:t>spam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Presunto suíno na 2ª Guerra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Humoristas ingleses Monty Python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cc"/>
                </a:solidFill>
                <a:latin typeface="Arial"/>
              </a:rPr>
              <a:t>Sinônimo de algo não desejado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Mais de 55% das mensagens são </a:t>
            </a:r>
            <a:r>
              <a:rPr b="0" i="1" lang="pt-BR" sz="2800" spc="-1" strike="noStrike">
                <a:solidFill>
                  <a:srgbClr val="0000cc"/>
                </a:solidFill>
                <a:latin typeface="Arial"/>
              </a:rPr>
              <a:t>spams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 (MessageLabs)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2" name="280px-Spam_with_cans" descr=""/>
          <p:cNvPicPr/>
          <p:nvPr/>
        </p:nvPicPr>
        <p:blipFill>
          <a:blip r:embed="rId1"/>
          <a:stretch/>
        </p:blipFill>
        <p:spPr>
          <a:xfrm>
            <a:off x="5867280" y="155736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867280" y="4149720"/>
            <a:ext cx="4284720" cy="195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nizando os spams com e-mails segu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D6D1-80CD-498D-9335-1F414B13C0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árcio Moreir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920" y="5364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Justificativa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820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E-mails seguros: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Benefício dos pilares da segurança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Facilidade operaciona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Reforço do e-mail como ferramenta de negócio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Minimizando os </a:t>
            </a:r>
            <a:r>
              <a:rPr b="0" i="1" lang="pt-BR" sz="3200" spc="-1" strike="noStrike">
                <a:solidFill>
                  <a:srgbClr val="0000cc"/>
                </a:solidFill>
                <a:latin typeface="Arial"/>
              </a:rPr>
              <a:t>spams</a:t>
            </a: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Redução da perda de e-mails solicitado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Redução do gasto desnecessário de tempo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Redução do custo operaciona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Aumento de produtividade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Diminuição das fraudes eletrônica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nizando os spams com e-mails segu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1FC7-934E-4385-A97D-AD00CF7705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árcio Moreir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920" y="5364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Pesquisa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E-mails seguros: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Autenticidade, integridade e confidencialidade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Estratégia considerada: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3429000"/>
            <a:ext cx="2519640" cy="719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-mails seg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80000" y="3429000"/>
            <a:ext cx="1439640" cy="719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00720" y="3429000"/>
            <a:ext cx="2519280" cy="719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abiliz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00720" y="5452920"/>
            <a:ext cx="2519280" cy="719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dução de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sp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7480" y="5452920"/>
            <a:ext cx="1440000" cy="719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o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98" idx="3"/>
            <a:endCxn id="99" idx="1"/>
          </p:cNvCxnSpPr>
          <p:nvPr/>
        </p:nvCxnSpPr>
        <p:spPr>
          <a:xfrm>
            <a:off x="2698560" y="3789000"/>
            <a:ext cx="1081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4" name=""/>
          <p:cNvCxnSpPr>
            <a:stCxn id="99" idx="3"/>
            <a:endCxn id="100" idx="1"/>
          </p:cNvCxnSpPr>
          <p:nvPr/>
        </p:nvCxnSpPr>
        <p:spPr>
          <a:xfrm>
            <a:off x="5219280" y="3789000"/>
            <a:ext cx="1081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5" name=""/>
          <p:cNvCxnSpPr>
            <a:stCxn id="100" idx="2"/>
            <a:endCxn id="101" idx="0"/>
          </p:cNvCxnSpPr>
          <p:nvPr/>
        </p:nvCxnSpPr>
        <p:spPr>
          <a:xfrm>
            <a:off x="7561080" y="4148280"/>
            <a:ext cx="1080" cy="1305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101" idx="1"/>
            <a:endCxn id="102" idx="3"/>
          </p:cNvCxnSpPr>
          <p:nvPr/>
        </p:nvCxnSpPr>
        <p:spPr>
          <a:xfrm flipH="1">
            <a:off x="2157120" y="5812920"/>
            <a:ext cx="4143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102" idx="0"/>
            <a:endCxn id="98" idx="2"/>
          </p:cNvCxnSpPr>
          <p:nvPr/>
        </p:nvCxnSpPr>
        <p:spPr>
          <a:xfrm flipV="1">
            <a:off x="1437840" y="4147920"/>
            <a:ext cx="2520" cy="1305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2815200" y="34290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orç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66160" y="34290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orç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97800" y="54388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orç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7155000" y="456084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líb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1168920" y="45259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orç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nizando os spams com e-mails segu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2246-0C5A-449C-AFA8-ED90AC7D33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árcio Moreir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280" y="44280"/>
            <a:ext cx="8964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riptografia de Chave Pública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920" y="5364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Criptografia de chave pública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Assimétrica: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Usa chaves diferentes para cifrar e decifrar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Chave pública = função(chave privada)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É muito difícil calcular: chave privada = f(chave pública)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Confidencialidade: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ifrar com chave pública do destinatário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30920" y="3355920"/>
            <a:ext cx="3240000" cy="576360"/>
          </a:xfrm>
          <a:prstGeom prst="rightArrow">
            <a:avLst>
              <a:gd name="adj1" fmla="val 50000"/>
              <a:gd name="adj2" fmla="val 14053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69840" y="3357720"/>
            <a:ext cx="3240360" cy="576000"/>
          </a:xfrm>
          <a:prstGeom prst="rightArrow">
            <a:avLst>
              <a:gd name="adj1" fmla="val 50000"/>
              <a:gd name="adj2" fmla="val 14064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98440" y="3213000"/>
            <a:ext cx="657360" cy="847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474920" y="2565360"/>
            <a:ext cx="561960" cy="649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498680" y="3284640"/>
            <a:ext cx="151128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gorit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cif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1640" y="3932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68720" y="39322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f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99800" y="2421000"/>
            <a:ext cx="105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úb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Jo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3160" y="3292560"/>
            <a:ext cx="151128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gorit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decif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11280" y="2428920"/>
            <a:ext cx="105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Jo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242200" y="3213000"/>
            <a:ext cx="657360" cy="847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169840" y="3932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4249800" y="3213000"/>
            <a:ext cx="619200" cy="809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5505480" y="2565360"/>
            <a:ext cx="56196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nizando os spams com e-mails segu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37F3-1CEC-418B-9E41-DF24E65E462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árcio Moreir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920" y="5364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Autenticidad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Na origem: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Cifrar com a chave privada do emissor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No destinatário: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Decifrar com a chave pública do emissor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88000" y="3860640"/>
            <a:ext cx="4248000" cy="2232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áquina do Jo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3860640"/>
            <a:ext cx="4248000" cy="223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áquina da 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3640" y="4795920"/>
            <a:ext cx="3240360" cy="576360"/>
          </a:xfrm>
          <a:prstGeom prst="rightArrow">
            <a:avLst>
              <a:gd name="adj1" fmla="val 50000"/>
              <a:gd name="adj2" fmla="val 14055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42920" y="4797360"/>
            <a:ext cx="3240000" cy="576360"/>
          </a:xfrm>
          <a:prstGeom prst="rightArrow">
            <a:avLst>
              <a:gd name="adj1" fmla="val 50000"/>
              <a:gd name="adj2" fmla="val 14053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71520" y="4653000"/>
            <a:ext cx="657360" cy="847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547640" y="4005360"/>
            <a:ext cx="562320" cy="649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571760" y="4724280"/>
            <a:ext cx="151128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gorit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cif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720" y="5372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41800" y="53722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f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48040" y="3860640"/>
            <a:ext cx="110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 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56240" y="4732200"/>
            <a:ext cx="151128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gorit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decif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59880" y="3868560"/>
            <a:ext cx="110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úb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 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8315280" y="4653000"/>
            <a:ext cx="657360" cy="847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8242920" y="5372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4322880" y="4653000"/>
            <a:ext cx="618840" cy="809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5594400" y="4003560"/>
            <a:ext cx="56196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nizando os spams com e-mails segu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4EFA-3F2D-4612-AE65-D1D5F480BDD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árcio Moreir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00:36:56Z</dcterms:created>
  <dc:creator>Márcio Moreira</dc:creator>
  <dc:description/>
  <dc:language>en-US</dc:language>
  <cp:lastModifiedBy>marciorm</cp:lastModifiedBy>
  <dcterms:modified xsi:type="dcterms:W3CDTF">2007-10-19T18:55:04Z</dcterms:modified>
  <cp:revision>77</cp:revision>
  <dc:subject/>
  <dc:title>Minimizando os spams com e-mails seguros</dc:title>
</cp:coreProperties>
</file>