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1974-A116-417A-B0ED-06510E56DD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lique para adicionar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7BD-1C2D-4EDD-AD05-7CCD2647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240F-D034-41E6-B767-AF205137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6CB-10D5-4549-83CF-354DA206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7C9-9B47-4DEE-8EC3-D4F0484A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8C5F-F7A1-492C-A566-3E66A566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9D89-B50D-41C8-8ADF-17124B3B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8F9C-851A-46EC-899E-B391F1B0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48F2-3A72-4908-A369-F51FF824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5E68-FBAF-4169-A80D-08D0236E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99569-2BC6-41CA-88D8-C8ED3B4C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31B5-171F-4EB9-B532-26C7A5F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CEC-BE7A-45CE-8925-53570679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3378-B338-4755-857B-386F71AA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DD21-46D3-4B2D-AD20-C7706FC0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CEB7-716D-4F97-84E2-3B901B4C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2114-15E1-41AC-A5F9-69B221E4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A8E5-5AE7-47AA-BE21-38EF649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1C44-F2BA-4E2C-829C-1CB10198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ACFC-47BA-425D-AAEC-C412761A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9AE8-1FB1-46A1-9272-6C7DA7BE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0DB-4F1C-4F4E-B85D-91898E49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F58-9C02-4419-A517-BBBBE289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B32-719A-44F4-97D6-E7A27AE7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691-DDFF-487E-A938-B72BC3E2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1AD4-DC60-4C2B-A039-ED56BDABF508}" type="datetime">
              <a:rPr b="0" lang="pt-BR" sz="1200" spc="-1" strike="noStrike">
                <a:solidFill>
                  <a:srgbClr val="000000"/>
                </a:solidFill>
                <a:latin typeface="Verdan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57F3-65C0-495D-B19E-4F1368A74CEB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596360" y="404640"/>
            <a:ext cx="137160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E3CA-7CB0-4655-898B-65D24D864399}" type="datetime">
              <a:rPr b="0" lang="pt-BR" sz="1200" spc="-1" strike="noStrike">
                <a:solidFill>
                  <a:srgbClr val="000000"/>
                </a:solidFill>
                <a:latin typeface="Verdan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D7A3-D693-44CE-9DC3-37CFF8E5C14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2200" y="4436640"/>
            <a:ext cx="7921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0000ff"/>
                </a:solidFill>
                <a:latin typeface="Vogue"/>
              </a:rPr>
              <a:t>www.acc.com.br - Uberlândia - M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700" spc="-1" strike="noStrike">
                <a:solidFill>
                  <a:srgbClr val="0000ff"/>
                </a:solidFill>
                <a:latin typeface="Vogue"/>
              </a:rPr>
              <a:t>Márcio Moreira - marcio@acc.com.br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ff"/>
                </a:solidFill>
                <a:latin typeface="Vogue"/>
              </a:rPr>
              <a:t>Universidade Federal de Uberlândia - 04/200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4176720" y="29192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7859520" cy="1542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2636640"/>
            <a:ext cx="82090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000000"/>
                </a:solidFill>
                <a:latin typeface="Verdana"/>
              </a:rPr>
              <a:t>Tecnologias de</a:t>
            </a:r>
            <a:br>
              <a:rPr sz="5400"/>
            </a:br>
            <a:r>
              <a:rPr b="1" lang="pt-BR" sz="5400" spc="-1" strike="noStrike">
                <a:solidFill>
                  <a:srgbClr val="000000"/>
                </a:solidFill>
                <a:latin typeface="Verdana"/>
              </a:rPr>
              <a:t>Armazenamento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958A-5C66-494B-8C0A-F90EFD3A9EF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DEC71AD-FE7C-4FA6-A220-B4C7FBE0EF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- Definições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rilh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írculos concêntricos onde são gravados os d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 largura da trilha é igual à largura do cabeço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número de bits por trilha pode se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stant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ecnologia CAV (Constant Angular Velocity) utilizada nos H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ariável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Tecnologia CLV (Constant Linear Velocity) utilizada em CD-RO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Gap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spaços deixados entre as trilhas e os setores para evitar problem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12B1-71FD-48CC-A7E5-A3D9F9CE9B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47977-8ACF-4671-AD35-8C62F8102D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- Definiçõ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00280"/>
            <a:ext cx="8109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loc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nor parte lida/grava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um conjunto de set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et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Menor unidade endereçá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ara ler ou gravar um setor é acessado o blo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artes de um seto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nformações de controle (início/fi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Área de d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CC: Error Correcting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948360" y="5013360"/>
          <a:ext cx="2067120" cy="160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48360" y="5013360"/>
                    <a:ext cx="206712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5616720" y="2133720"/>
          <a:ext cx="3492360" cy="96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16720" y="2133720"/>
                    <a:ext cx="34923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57D6-CC0F-42A9-958A-78391DCE6D5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FBEF3-5A36-4775-B81D-3E018E6D3B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- Definições 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638172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ilindr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Trilhas de mesmo diâmetro da mesma superfíc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ados de um mesmo cilindro podem ser recuperados mais rapidam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ormatação Físic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Definições de trilhas e set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É feita na própria fáb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ormatação Lógic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Feita pelo SO: definição de blo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732720" y="1916280"/>
          <a:ext cx="2124000" cy="287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32720" y="1916280"/>
                    <a:ext cx="212400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6AA8-EFA8-4828-8C32-37A8E40AFA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4481D1-A811-428D-8218-EDB6083EA0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Hard Disk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Método de Acesso a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ara acessar um dado o cabeçote de leitura ou gravação deve ser posicionado no começo do setor no cilindro, trilha e superfície c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éto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HS: Cylinder, Head, Sec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BA: Linear Block Addr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Neste caso é necessário a conversão por hardware (firmware) do endereço lógico linear em coordenadas CH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3A3-34B8-4D13-B6AB-A6F62C5702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30585-84A7-4475-872F-0E6DD387B2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- Performance</a:t>
            </a:r>
            <a:br>
              <a:rPr sz="3800"/>
            </a:b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Elementos a consider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78487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empo de acesso [</a:t>
            </a:r>
            <a:r>
              <a:rPr b="0" i="1" lang="pt-BR" sz="2200" spc="-1" strike="noStrike">
                <a:solidFill>
                  <a:srgbClr val="0066ff"/>
                </a:solidFill>
                <a:latin typeface="Verdana"/>
              </a:rPr>
              <a:t>AT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] aos dados (3.6 a 15 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Tempo gasto para localizar o dado no próprio H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xa interna de transferência de dados [</a:t>
            </a:r>
            <a:r>
              <a:rPr b="0" i="1" lang="pt-BR" sz="2200" spc="-1" strike="noStrike">
                <a:solidFill>
                  <a:srgbClr val="0066ff"/>
                </a:solidFill>
                <a:latin typeface="Verdana"/>
              </a:rPr>
              <a:t>ITR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locidade de leitura/gravação do HD (475 a 891 Mbits/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Velocidade de rotação dos pratos dos d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iores RPM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menores </a:t>
            </a:r>
            <a:r>
              <a:rPr b="0" i="1" lang="pt-BR" sz="2000" spc="-1" strike="noStrike">
                <a:solidFill>
                  <a:srgbClr val="0066ff"/>
                </a:solidFill>
                <a:latin typeface="Verdana"/>
              </a:rPr>
              <a:t>IT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 menores </a:t>
            </a:r>
            <a:r>
              <a:rPr b="0" i="1" lang="pt-BR" sz="2000" spc="-1" strike="noStrike">
                <a:solidFill>
                  <a:srgbClr val="0066ff"/>
                </a:solidFill>
                <a:latin typeface="Verdana"/>
              </a:rPr>
              <a:t>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manho da memória cache do HD (2 a 8Mb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axa externa de transferência de d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elocidade de transferência dos dados entre o HD e a controladora (150 a 320 Mbytes/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elocidade do barramento de dados ou do canal de DMA (Direct Memory Acces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04000" y="2852640"/>
          <a:ext cx="2232000" cy="2000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04000" y="2852640"/>
                    <a:ext cx="223200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6D1-E99D-415F-A1B0-0F38650498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D0077B-5366-4150-96AC-DF8728FFB0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Hard Disk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Tempo de Acesso aos Dad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7129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 tempo gasto para acessar dados depende dos seguintes temp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empo de busca (S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empo de latência (L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Tempo de transferência (ITR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T = ST + LT + IT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465800" y="2733840"/>
          <a:ext cx="4643280" cy="335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65800" y="2733840"/>
                    <a:ext cx="4643280" cy="33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1A6-944A-48C1-9F49-D51BDDFEC9D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C20D6-3363-4D18-A942-A3C5B05D92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Hard Disk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Tempo de Busca (Seek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mpo gasto para localizar a trilh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Tem duas component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cionamento e aceleração do braç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empo de deslocamento até a tril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Não é linear, isto é, cada trilha terá um tempo de busca difer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Utiliza-se o Tempo Médio de Bus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ornecido pelos fabricantes (3 a 15 m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27E8-F6B5-4678-AAE5-3654FD57BFC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B555B-BE66-4C4B-AA7B-59CB2752FA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Hard Disk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Tempo de Latênci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empo gasto esperando o setor desejado passar sob o cabeço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ambém é chamado de tempo de latência rotacion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pende diretamente da velocidade de rotação dos pr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LT médio = Metade do tempo de uma rot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emplo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5400 RPM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1/  5400*60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11m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LT = 5.6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15000 RPM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1/15000*60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4ms </a:t>
            </a:r>
            <a:r>
              <a:rPr b="0" lang="pt-B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LT = 2.0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5CB-1739-4BEA-B50C-5743549097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5A3B2-1151-46AB-B1F7-BF8F6476E7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Hard Disk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Tamanho do Bloc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Ex: 32Kb / trilha, ST = 30ms, LT = 16,67/2 ms e ITR = 1 volta lê a trilha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Gráfico 1: Tamanho do Bloco x ITR possíve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Gráfico 2:</a:t>
            </a: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Tamanho do Bloco x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Taxa de Utilizaçã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Obs: Para arquivos médios de 1K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Verdana"/>
              </a:rPr>
              <a:t>Escolhas Padrões: 512b a 4K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4920" y="2262240"/>
          <a:ext cx="4824360" cy="23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920" y="2262240"/>
                    <a:ext cx="482436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3780000" y="3646440"/>
          <a:ext cx="5257800" cy="255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80000" y="3646440"/>
                    <a:ext cx="525780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67F-D3A8-4CCC-83BD-8F6BEA9CC8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88215C-9F82-4D06-ACBB-F81E9348FD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Hard Disk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Interleave e Fragmentaçã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Interleav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oncluído o acesso a um setor, se o próximo tiver que ser acessado não dá tempo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perde a rotaçã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olução: numerar os setores alternad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: 10 setores por trilha com Interleave = 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etores da Trilh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Fragmentaçã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pós algum tempo, os arquivos estarão gravados em blocos aleatóri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Ex: 2 arquivos na trilh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52800" indent="-3794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Considerando blo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olução: desfragment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076720" y="3573360"/>
          <a:ext cx="3924360" cy="395280"/>
        </p:xfrm>
        <a:graphic>
          <a:graphicData uri="http://schemas.openxmlformats.org/drawingml/2006/table">
            <a:tbl>
              <a:tblPr/>
              <a:tblGrid>
                <a:gridCol w="392400"/>
                <a:gridCol w="392040"/>
                <a:gridCol w="393480"/>
                <a:gridCol w="392400"/>
                <a:gridCol w="392040"/>
                <a:gridCol w="392040"/>
                <a:gridCol w="392040"/>
                <a:gridCol w="393840"/>
                <a:gridCol w="392040"/>
                <a:gridCol w="392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076720" y="4826160"/>
          <a:ext cx="3924360" cy="403200"/>
        </p:xfrm>
        <a:graphic>
          <a:graphicData uri="http://schemas.openxmlformats.org/drawingml/2006/table">
            <a:tbl>
              <a:tblPr/>
              <a:tblGrid>
                <a:gridCol w="392040"/>
                <a:gridCol w="392400"/>
                <a:gridCol w="393480"/>
                <a:gridCol w="392400"/>
                <a:gridCol w="392040"/>
                <a:gridCol w="392040"/>
                <a:gridCol w="392040"/>
                <a:gridCol w="393840"/>
                <a:gridCol w="392040"/>
                <a:gridCol w="392040"/>
              </a:tblGrid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076720" y="5661000"/>
          <a:ext cx="3924360" cy="403200"/>
        </p:xfrm>
        <a:graphic>
          <a:graphicData uri="http://schemas.openxmlformats.org/drawingml/2006/table">
            <a:tbl>
              <a:tblPr/>
              <a:tblGrid>
                <a:gridCol w="392040"/>
                <a:gridCol w="392400"/>
                <a:gridCol w="393480"/>
                <a:gridCol w="392400"/>
                <a:gridCol w="392040"/>
                <a:gridCol w="392040"/>
                <a:gridCol w="392040"/>
                <a:gridCol w="393840"/>
                <a:gridCol w="392040"/>
                <a:gridCol w="392040"/>
              </a:tblGrid>
              <a:tr h="4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bb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6804000" y="5300640"/>
            <a:ext cx="43200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3b2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2F0-56F0-400F-959E-010300B6E24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EB733-8C76-458C-AAF3-6D797DAE4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Dispositivos de Armazenam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680840"/>
            <a:ext cx="7750440" cy="44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incipa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ados acessados diretamente pela CP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Rápidos, caros, limitados e voláte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Memória RAM (Random Access Memory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Memória Cach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ecundári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ados acessados indiretamente (através de placas controladora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Lentos, baratos, amplos e permane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xempl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Discos Rígidos (HDs – Hard Disk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CD-ROM (Compact Disk - Read Only Memory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DVD-ROM (Digital Video Disk - ...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91680" indent="-391320">
              <a:lnSpc>
                <a:spcPct val="90000"/>
              </a:lnSpc>
              <a:spcBef>
                <a:spcPts val="42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Fitas (Acesso seqüencial aos dados </a:t>
            </a:r>
            <a:r>
              <a:rPr b="0" lang="pt-B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 backup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093080" y="1844640"/>
          <a:ext cx="1817640" cy="181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844640"/>
                    <a:ext cx="181764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7020000" y="4500720"/>
          <a:ext cx="1944720" cy="153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4500720"/>
                    <a:ext cx="1944720" cy="15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AD58-8981-45A8-91B1-4E7A1B3939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EF4C5-F6CC-4CC4-AABC-C4B7653E23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Hard Disk</a:t>
            </a:r>
            <a:br>
              <a:rPr sz="3400"/>
            </a:b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Controladoras IDE e SCSI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880" y="1752480"/>
            <a:ext cx="871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ntegrated Device Electronic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ovê barramento de dados para HDs, C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is barata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Todo desktop já tem 2 placas integr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ita 2 dispositivos por placa com perda d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delo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io Mode 0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 3,3MB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é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A 150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150MB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Small Computer Systems Interf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ais rápidas, mais caras e não vem integr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ão viáveis para servidores de rede 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ceita 15 dispositivos por placa sem perda d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delos: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SCSI 1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    5MB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té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Ultra 320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 320MB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7AD6-ACB0-45CD-9A12-BD03C84E7C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26E7C-90E5-4B65-A618-BBF74759F8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66640" y="1714680"/>
          <a:ext cx="8093160" cy="4413240"/>
        </p:xfrm>
        <a:graphic>
          <a:graphicData uri="http://schemas.openxmlformats.org/drawingml/2006/table">
            <a:tbl>
              <a:tblPr/>
              <a:tblGrid>
                <a:gridCol w="2936880"/>
                <a:gridCol w="924120"/>
                <a:gridCol w="1374840"/>
                <a:gridCol w="993600"/>
                <a:gridCol w="982800"/>
                <a:gridCol w="88092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tor Firebal 3-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 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gate ST340016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sung SP4002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D Caviar WD400B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gate ST36002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gate ST38002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A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gate ST336605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tra 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gate ST373405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ltra 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663-4DDA-4110-BF7D-46EB541B531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72524-FF81-48FF-987B-B88BE50958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AID: Redundant Array of Independent Disk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109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Um conjunto de HDs é visto pelo SO como uma única unidade de dis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Vantagen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Grande capacidade de armazenament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Acesso paralelo </a:t>
            </a:r>
            <a:r>
              <a:rPr b="0" lang="pt-B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 melhor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Permite o espelhamento de d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esvantagen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Custo: requer hardware ou software espec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Se espelhado: requer o dobro de espaç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Controladoras com fibra óptica de 133Mb/s a 4,25Gb/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950160" y="3305160"/>
          <a:ext cx="2085840" cy="127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50160" y="3305160"/>
                    <a:ext cx="208584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A912-6607-44E8-8BD5-0CE42CB2E9C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FC5217-986A-42A7-82BA-E81938DF16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íveis de RA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ível 0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oferece redundância </a:t>
            </a:r>
            <a:r>
              <a:rPr b="0" lang="pt-B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Altas IT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ível 1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ferece espelhamento em 2 ou mais H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lta disponibilida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ível 3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istribuição em 3 ou mais HDs operando em paralel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ferece as maiores IT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Verdana"/>
              </a:rPr>
              <a:t>Nível 5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esmos recursos do nível 3 com redundâ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É o mais utilizado atu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B8B-0706-4795-8A40-3DC6D77087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2D731-E060-4040-8BF0-AD9D33317B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lternativas de Backu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08040" y="1797120"/>
          <a:ext cx="7059600" cy="3431880"/>
        </p:xfrm>
        <a:graphic>
          <a:graphicData uri="http://schemas.openxmlformats.org/drawingml/2006/table">
            <a:tbl>
              <a:tblPr/>
              <a:tblGrid>
                <a:gridCol w="2936880"/>
                <a:gridCol w="1749600"/>
                <a:gridCol w="1379520"/>
                <a:gridCol w="99360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pac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z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imit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0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D Fixo / Removí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é 160 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ta Dat ou D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a 80 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D-R/W (Write 20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 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ip Dr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-750 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4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qu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 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 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7C30-2754-4D84-9335-E2CCCB39C95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F5966-BCEB-4DE4-B79E-187D9782F3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http://paginas.faccat.b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http://venus.rdc.puc-rio.b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ww.hp.com e www.hp.com.b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ww.inf.pucrs.b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ww.iomega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ww.maxtor.com e www.quantum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ww.pctechguid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ww.samsung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www.seagate.co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6D6F-8964-4337-9D30-7D64E2ADE87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3CD56-883B-40D1-BF7E-03CA1C129B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Transferência de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310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ara serem executados os dados precisam estar na memória princip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ara serem armazenados devem estar na memória secundá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Gargal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empo de acesso aos dados no disposi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Prioridade na eficiência na recuperação em detrimento do consumo espaç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 transferência entre as memóri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7771-3C9C-4E81-B6A9-7A13AB9ED4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2EFF6-395D-417F-B61D-58AD7562B8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Arquitetura Bás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700280"/>
          <a:ext cx="7807320" cy="439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780732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D14-A008-4A3D-A8BD-17CDFC28D0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246B5C-E153-46D5-B804-A2FA2D69F7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Verdana"/>
              </a:rPr>
              <a:t>Tendências da Capacidade de Armazenamento Para Desktop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66640" y="1752480"/>
          <a:ext cx="800100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6640" y="1752480"/>
                    <a:ext cx="80010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52760" y="5794200"/>
            <a:ext cx="76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Fonte: http://www.seagate.com/docs/pdf/training/SG_DISC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A8E5-C611-4BCE-92F5-5DFDEB2682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0A374-7145-4A70-85AC-12F84336F2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&amp; Cabeço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700280"/>
          <a:ext cx="3924000" cy="242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700280"/>
                    <a:ext cx="3924000" cy="24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50920" y="4149720"/>
          <a:ext cx="3924360" cy="201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4149720"/>
                    <a:ext cx="392436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4068720" y="2351160"/>
          <a:ext cx="4824360" cy="366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68720" y="2351160"/>
                    <a:ext cx="48243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57F8-9D52-4C51-ABB5-E563B9D1E7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235AB9-C96C-4ABB-BCE4-0941C3E949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- Detal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apacidad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Quantidade de bytes que cabem no dis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Gravaçã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m uma ou nas duas superfí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abricaçã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Base circular de material plást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evestimento de material magnét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Podem ser confeccionados “n” discos empilhados (disk pack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A16C-70B8-45A1-B4B7-313173F01A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5585A-CD35-4022-9D41-060F1E5063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- Nomencla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773360"/>
          <a:ext cx="7632720" cy="438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773360"/>
                    <a:ext cx="763272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316-9C2B-4C2D-AD43-375E3F1E8A7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BF77D-B539-4453-BAA8-BC24509BE7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Hard Disk - Organiz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1627200"/>
          <a:ext cx="8207280" cy="45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627200"/>
                    <a:ext cx="820728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c - Sua casa de soluçõ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F69-F247-45E4-ACF0-F9D14C7468D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CA6B8-1DFC-4F83-8F4C-1852FCEB43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árcio Moreira</cp:lastModifiedBy>
  <dcterms:modified xsi:type="dcterms:W3CDTF">2003-04-23T00:46:07Z</dcterms:modified>
  <cp:revision>137</cp:revision>
  <dc:subject/>
  <dc:title>Apresentação do PowerPoint</dc:title>
</cp:coreProperties>
</file>