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5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7.wmf" ContentType="image/x-wmf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8.wmf" ContentType="image/x-wmf"/>
  <Override PartName="/ppt/media/image6.jpeg" ContentType="image/jpeg"/>
  <Override PartName="/ppt/media/image4.png" ContentType="image/png"/>
  <Override PartName="/ppt/media/image12.wmf" ContentType="image/x-wmf"/>
  <Override PartName="/ppt/media/image9.wmf" ContentType="image/x-wmf"/>
  <Override PartName="/ppt/media/image8.wmf" ContentType="image/x-wmf"/>
  <Override PartName="/ppt/media/image17.jpeg" ContentType="image/jpeg"/>
  <Override PartName="/ppt/media/image3.png" ContentType="image/png"/>
  <Override PartName="/ppt/media/image11.wmf" ContentType="image/x-wmf"/>
  <Override PartName="/ppt/media/image30.jpeg" ContentType="image/jpeg"/>
  <Override PartName="/ppt/media/image34.jpeg" ContentType="image/jpeg"/>
  <Override PartName="/ppt/media/image35.jpeg" ContentType="image/jpeg"/>
  <Override PartName="/ppt/media/image36.wmf" ContentType="image/x-wmf"/>
  <Override PartName="/ppt/media/image5.wmf" ContentType="image/x-wmf"/>
  <Override PartName="/ppt/media/image16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7.jpeg" ContentType="image/jpeg"/>
  <Override PartName="/ppt/media/image31.wmf" ContentType="image/x-wmf"/>
  <Override PartName="/ppt/media/image19.jpeg" ContentType="image/jpeg"/>
  <Override PartName="/ppt/media/image13.jpeg" ContentType="image/jpeg"/>
  <Override PartName="/ppt/media/image1.png" ContentType="image/png"/>
  <Override PartName="/ppt/media/image14.wmf" ContentType="image/x-wmf"/>
  <Override PartName="/ppt/media/image15.jpeg" ContentType="image/jpeg"/>
  <Override PartName="/ppt/media/image18.jpeg" ContentType="image/jpeg"/>
  <Override PartName="/ppt/media/image20.jpeg" ContentType="image/jpeg"/>
  <Override PartName="/ppt/media/image32.wmf" ContentType="image/x-wm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B473-7C35-4ADE-9BA4-4CF9496898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22A-C9B6-4712-9E00-125AD9C4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287-68CE-4335-941F-2E91E774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29E-FB20-4BDB-8460-4061F604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B24-4092-4104-89EA-9B3CC345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6982-8E4E-42CE-BC24-BB45CD84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AD59-828C-4BE5-B372-024DE460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63DB-94BC-48EE-8C2D-36A2C3B5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28C7-1123-4E79-8992-C33511F3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6A87-369D-4829-A6B4-B91A05AC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9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0B63-3CD5-4BCD-A5AE-02BD82AC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23F8-355C-4516-BD26-2DC96736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01E-9FB9-4DE6-B57C-763AB29D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0C67-A004-41DE-ABF4-C1CD6D31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58E9-854C-49C8-8BD3-C58209DD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CE4F-F9DE-4B72-8A8C-26A46DFE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47AF-CE77-4A45-A618-CDF1A510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0E50-7FF6-4464-8883-99B43BFD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DC1-4691-45D9-AEB0-CB9E656E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530-C466-42A6-ADB3-4F688F9B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12F-1416-4DF7-B685-7F145EBF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9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6A7-303C-4F46-917F-56F83679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02C-F058-451A-9952-9594B840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E4A-EB7A-4BC6-8F17-5172B81E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778-C76C-4E5D-A694-507406BE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" name=""/>
            <p:cNvGrpSpPr/>
            <p:nvPr/>
          </p:nvGrpSpPr>
          <p:grpSpPr>
            <a:xfrm>
              <a:off x="0" y="533520"/>
              <a:ext cx="9144000" cy="5943600"/>
              <a:chOff x="0" y="533520"/>
              <a:chExt cx="9144000" cy="5943600"/>
            </a:xfrm>
          </p:grpSpPr>
          <p:sp>
            <p:nvSpPr>
              <p:cNvPr id="21" name=""/>
              <p:cNvSpPr/>
              <p:nvPr/>
            </p:nvSpPr>
            <p:spPr>
              <a:xfrm>
                <a:off x="0" y="53352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99072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144792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190512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236232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281952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327672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373392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419112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64832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510552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56272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647712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" name=""/>
          <p:cNvSpPr/>
          <p:nvPr/>
        </p:nvSpPr>
        <p:spPr>
          <a:xfrm rot="5400000">
            <a:off x="3962520" y="-3429000"/>
            <a:ext cx="1218960" cy="868680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" name=""/>
          <p:cNvGrpSpPr/>
          <p:nvPr/>
        </p:nvGrpSpPr>
        <p:grpSpPr>
          <a:xfrm>
            <a:off x="609480" y="6476760"/>
            <a:ext cx="7925040" cy="381240"/>
            <a:chOff x="609480" y="6476760"/>
            <a:chExt cx="7925040" cy="381240"/>
          </a:xfrm>
        </p:grpSpPr>
        <p:sp>
          <p:nvSpPr>
            <p:cNvPr id="37" name=""/>
            <p:cNvSpPr/>
            <p:nvPr/>
          </p:nvSpPr>
          <p:spPr>
            <a:xfrm flipV="1" rot="16200000">
              <a:off x="7358760" y="5667480"/>
              <a:ext cx="366840" cy="1984320"/>
            </a:xfrm>
            <a:custGeom>
              <a:avLst/>
              <a:gdLst/>
              <a:ahLst/>
              <a:rect l="l" t="t" r="r" b="b"/>
              <a:pathLst>
                <a:path w="290" h="1250">
                  <a:moveTo>
                    <a:pt x="0" y="2"/>
                  </a:moveTo>
                  <a:cubicBezTo>
                    <a:pt x="0" y="2"/>
                    <a:pt x="120" y="2"/>
                    <a:pt x="240" y="2"/>
                  </a:cubicBezTo>
                  <a:cubicBezTo>
                    <a:pt x="262" y="0"/>
                    <a:pt x="290" y="12"/>
                    <a:pt x="288" y="50"/>
                  </a:cubicBezTo>
                  <a:cubicBezTo>
                    <a:pt x="288" y="626"/>
                    <a:pt x="288" y="1202"/>
                    <a:pt x="288" y="1202"/>
                  </a:cubicBezTo>
                  <a:cubicBezTo>
                    <a:pt x="288" y="1232"/>
                    <a:pt x="274" y="1250"/>
                    <a:pt x="240" y="1250"/>
                  </a:cubicBezTo>
                  <a:cubicBezTo>
                    <a:pt x="120" y="1250"/>
                    <a:pt x="0" y="1250"/>
                    <a:pt x="0" y="125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 rot="16200000">
              <a:off x="7516800" y="5851440"/>
              <a:ext cx="31680" cy="198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 rot="16200000">
              <a:off x="1425960" y="5667480"/>
              <a:ext cx="366840" cy="1984680"/>
            </a:xfrm>
            <a:custGeom>
              <a:avLst/>
              <a:gdLst/>
              <a:ahLst/>
              <a:rect l="l" t="t" r="r" b="b"/>
              <a:pathLst>
                <a:path w="290" h="1250">
                  <a:moveTo>
                    <a:pt x="0" y="2"/>
                  </a:moveTo>
                  <a:cubicBezTo>
                    <a:pt x="0" y="2"/>
                    <a:pt x="120" y="2"/>
                    <a:pt x="240" y="2"/>
                  </a:cubicBezTo>
                  <a:cubicBezTo>
                    <a:pt x="262" y="0"/>
                    <a:pt x="290" y="12"/>
                    <a:pt x="288" y="50"/>
                  </a:cubicBezTo>
                  <a:cubicBezTo>
                    <a:pt x="288" y="626"/>
                    <a:pt x="288" y="1202"/>
                    <a:pt x="288" y="1202"/>
                  </a:cubicBezTo>
                  <a:cubicBezTo>
                    <a:pt x="288" y="1232"/>
                    <a:pt x="274" y="1250"/>
                    <a:pt x="240" y="1250"/>
                  </a:cubicBezTo>
                  <a:cubicBezTo>
                    <a:pt x="120" y="1250"/>
                    <a:pt x="0" y="1250"/>
                    <a:pt x="0" y="125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 rot="16200000">
              <a:off x="1584360" y="5851440"/>
              <a:ext cx="31680" cy="1981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V="1" rot="16200000">
              <a:off x="4393800" y="5217480"/>
              <a:ext cx="366840" cy="2884680"/>
            </a:xfrm>
            <a:custGeom>
              <a:avLst/>
              <a:gdLst/>
              <a:ahLst/>
              <a:rect l="l" t="t" r="r" b="b"/>
              <a:pathLst>
                <a:path w="290" h="1250">
                  <a:moveTo>
                    <a:pt x="0" y="2"/>
                  </a:moveTo>
                  <a:cubicBezTo>
                    <a:pt x="0" y="2"/>
                    <a:pt x="120" y="2"/>
                    <a:pt x="240" y="2"/>
                  </a:cubicBezTo>
                  <a:cubicBezTo>
                    <a:pt x="262" y="0"/>
                    <a:pt x="290" y="12"/>
                    <a:pt x="288" y="50"/>
                  </a:cubicBezTo>
                  <a:cubicBezTo>
                    <a:pt x="288" y="626"/>
                    <a:pt x="288" y="1202"/>
                    <a:pt x="288" y="1202"/>
                  </a:cubicBezTo>
                  <a:cubicBezTo>
                    <a:pt x="288" y="1232"/>
                    <a:pt x="274" y="1250"/>
                    <a:pt x="240" y="1250"/>
                  </a:cubicBezTo>
                  <a:cubicBezTo>
                    <a:pt x="120" y="1250"/>
                    <a:pt x="0" y="1250"/>
                    <a:pt x="0" y="125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V="1" rot="16200000">
              <a:off x="4548240" y="5402160"/>
              <a:ext cx="31680" cy="2880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techstri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518160"/>
            <a:ext cx="19051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C748-AC89-43BE-8060-F0081E83DBAE}" type="datetime">
              <a:rPr b="0" lang="pt-BR" sz="1400" spc="-1" strike="noStrike">
                <a:solidFill>
                  <a:srgbClr val="99cccc"/>
                </a:solidFill>
                <a:latin typeface="Arial Narrow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518160"/>
            <a:ext cx="28958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c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518160"/>
            <a:ext cx="19051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D4AE-8404-4EA3-BC7C-9B853B7336A6}" type="slidenum">
              <a:rPr b="0" lang="en-US" sz="1400" spc="-1" strike="noStrike">
                <a:solidFill>
                  <a:srgbClr val="99ccc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504960" y="-990360"/>
            <a:ext cx="2133720" cy="761976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techstrip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7918-B721-439C-BFCC-6D4DE1F8615F}" type="datetime">
              <a:rPr b="0" lang="pt-BR" sz="1400" spc="-1" strike="noStrike">
                <a:solidFill>
                  <a:srgbClr val="000000"/>
                </a:solidFill>
                <a:latin typeface="Arial Narrow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5BA1-9179-4117-8D51-63ABC358F8D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 rot="16200000">
            <a:off x="3842640" y="-2937240"/>
            <a:ext cx="1458720" cy="761976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4.wmf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c545"/>
                </a:solidFill>
                <a:latin typeface="Impact"/>
              </a:rPr>
              <a:t>Gerência de Projeto Usando</a:t>
            </a:r>
            <a:br>
              <a:rPr sz="4800"/>
            </a:br>
            <a:r>
              <a:rPr b="0" lang="pt-BR" sz="4800" spc="-1" strike="noStrike">
                <a:solidFill>
                  <a:srgbClr val="ffc545"/>
                </a:solidFill>
                <a:latin typeface="Impact"/>
              </a:rPr>
              <a:t>o Modelo de Maturidade</a:t>
            </a:r>
            <a:endParaRPr b="0" lang="en-US" sz="48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41144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Disciplina: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Gerência de Centros de Informática – Mamed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Alunos: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Gustavo Alexandre de O. Silva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1971267-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Gustavo Salvador Baptista do Carmo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1002282-7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Márcio Aurélio Ribeiro Moreira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1981272-3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Rodrigo França Porto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1981286-3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Data: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Abril/200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4176720" y="2919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ufu-color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446040" cy="435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371600" y="228600"/>
            <a:ext cx="7010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c545"/>
                </a:solidFill>
                <a:latin typeface="Vogue"/>
              </a:rPr>
              <a:t>Universidade Federal de Uberlând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c545"/>
                </a:solidFill>
                <a:latin typeface="Vogue"/>
              </a:rPr>
              <a:t>Faculdade de Computaçã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Características do Nível 1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Simulação de apoio à gerência de projeto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Virtualmente nenhum suporte dos executivo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Pequenos bolsões de interess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Nenhuma tentativa de reconhecer os benefícios da gerência de projeto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Nenhum investimento em treinamento ou educação em gerência de projeto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A0C-9D9D-438C-9532-F442FBAB0F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C3FD9-817A-4981-9298-245BE07119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c545"/>
                </a:solidFill>
                <a:latin typeface="Impact"/>
              </a:rPr>
              <a:t>Obstáculos ao Avanço Para o Nível 2</a:t>
            </a:r>
            <a:endParaRPr b="0" lang="en-US" sz="42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2590920"/>
            <a:ext cx="4495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Resistência a mudanç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Deixe isto de lad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Não inventando aqu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Não é aplicável a nó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Não precisamos dis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-57960" y="2615400"/>
            <a:ext cx="2325600" cy="3175920"/>
            <a:chOff x="-57960" y="2615400"/>
            <a:chExt cx="2325600" cy="3175920"/>
          </a:xfrm>
        </p:grpSpPr>
        <p:sp>
          <p:nvSpPr>
            <p:cNvPr id="261" name=""/>
            <p:cNvSpPr/>
            <p:nvPr/>
          </p:nvSpPr>
          <p:spPr>
            <a:xfrm rot="18900000">
              <a:off x="0" y="3238200"/>
              <a:ext cx="2209680" cy="1079280"/>
            </a:xfrm>
            <a:prstGeom prst="rightArrow">
              <a:avLst>
                <a:gd name="adj1" fmla="val 34713"/>
                <a:gd name="adj2" fmla="val 7786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0440" y="4419720"/>
              <a:ext cx="1981440" cy="1371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476f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cc"/>
                  </a:solidFill>
                  <a:latin typeface="Times New Roman"/>
                </a:rPr>
                <a:t>Nível 1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cc"/>
                  </a:solidFill>
                  <a:latin typeface="Times New Roman"/>
                </a:rPr>
                <a:t>Linguag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cc"/>
                  </a:solidFill>
                  <a:latin typeface="Times New Roman"/>
                </a:rPr>
                <a:t>Comu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514600" y="1905120"/>
            <a:ext cx="1600200" cy="4114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F16-1662-445A-B034-5EB196C530E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A58E8-9C67-4613-BBF3-E0657F72B9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Critérios Para Avançar Para o Nível 2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11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 Narrow"/>
              </a:rPr>
              <a:t>Treinamento e educaçã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11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 Narrow"/>
              </a:rPr>
              <a:t>Contrataçã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11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 Narrow"/>
              </a:rPr>
              <a:t>Linguagem comum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11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 Narrow"/>
              </a:rPr>
              <a:t>Ferramenta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11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 Narrow"/>
              </a:rPr>
              <a:t>PMBOK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2895480"/>
            <a:ext cx="1752840" cy="1981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4038480"/>
            <a:ext cx="17524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Nível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Lingu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Co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 rot="480000">
            <a:off x="228600" y="2818440"/>
            <a:ext cx="762120" cy="2057760"/>
          </a:xfrm>
          <a:custGeom>
            <a:avLst/>
            <a:gdLst>
              <a:gd name="textAreaLeft" fmla="*/ 101880 w 762120"/>
              <a:gd name="textAreaRight" fmla="*/ 660240 w 762120"/>
              <a:gd name="textAreaTop" fmla="*/ 360000 h 2057760"/>
              <a:gd name="textAreaBottom" fmla="*/ 1491840 h 205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6FD-5882-4C08-9EEC-ABADC953E3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D2593-685A-4BA4-BA46-31ABE533C6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c545"/>
                </a:solidFill>
                <a:latin typeface="Impact"/>
              </a:rPr>
              <a:t>Fatores Que Influenciam na Conclusão</a:t>
            </a:r>
            <a:endParaRPr b="0" lang="en-US" sz="42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Tipo de companhi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Tamanho e natureza dos projeto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Grau de suporte dos executivo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Visibilidade do suport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Cultura da organização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Experiência anterior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Rentabilidade da companhi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Condições econômica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Velocidade de conclusão do treinamento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"/>
          <p:cNvSpPr/>
          <p:nvPr/>
        </p:nvSpPr>
        <p:spPr>
          <a:xfrm>
            <a:off x="6553080" y="2666880"/>
            <a:ext cx="1752840" cy="1981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00800" y="3809880"/>
            <a:ext cx="17524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Nível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Lingu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Co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 rot="480000">
            <a:off x="5943600" y="2589840"/>
            <a:ext cx="762120" cy="2057760"/>
          </a:xfrm>
          <a:custGeom>
            <a:avLst/>
            <a:gdLst>
              <a:gd name="textAreaLeft" fmla="*/ 101880 w 762120"/>
              <a:gd name="textAreaRight" fmla="*/ 660240 w 762120"/>
              <a:gd name="textAreaTop" fmla="*/ 360000 h 2057760"/>
              <a:gd name="textAreaBottom" fmla="*/ 1491840 h 205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B69-1A72-40E5-9399-770A7E21CB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277D4-F9C3-4277-A161-86F1775340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Riscos de Estagnação no Nível 1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876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0000"/>
                </a:solidFill>
                <a:latin typeface="Arial Narrow"/>
              </a:rPr>
              <a:t>Reporte a mais de um gerente</a:t>
            </a:r>
            <a:endParaRPr b="1" lang="en-US" sz="3500" spc="-1" strike="noStrike">
              <a:solidFill>
                <a:srgbClr val="000000"/>
              </a:solidFill>
              <a:latin typeface="Arial Narrow"/>
            </a:endParaRPr>
          </a:p>
          <a:p>
            <a:pPr marL="222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Arial Narrow"/>
            </a:endParaRPr>
          </a:p>
          <a:p>
            <a:pPr marL="222480" indent="-222480">
              <a:lnSpc>
                <a:spcPct val="90000"/>
              </a:lnSpc>
              <a:spcBef>
                <a:spcPts val="876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0000"/>
                </a:solidFill>
                <a:latin typeface="Arial Narrow"/>
              </a:rPr>
              <a:t>Medo de reestruturação organizacional</a:t>
            </a:r>
            <a:endParaRPr b="1" lang="en-US" sz="3500" spc="-1" strike="noStrike">
              <a:solidFill>
                <a:srgbClr val="000000"/>
              </a:solidFill>
              <a:latin typeface="Arial Narrow"/>
            </a:endParaRPr>
          </a:p>
          <a:p>
            <a:pPr marL="222480" indent="-222480">
              <a:lnSpc>
                <a:spcPct val="90000"/>
              </a:lnSpc>
              <a:spcBef>
                <a:spcPts val="876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0000"/>
                </a:solidFill>
                <a:latin typeface="Arial Narrow"/>
              </a:rPr>
              <a:t>Medo de mudança de papéis e responsabilidades</a:t>
            </a:r>
            <a:endParaRPr b="1" lang="en-US" sz="3500" spc="-1" strike="noStrike">
              <a:solidFill>
                <a:srgbClr val="000000"/>
              </a:solidFill>
              <a:latin typeface="Arial Narrow"/>
            </a:endParaRPr>
          </a:p>
          <a:p>
            <a:pPr marL="222480" indent="-222480">
              <a:lnSpc>
                <a:spcPct val="90000"/>
              </a:lnSpc>
              <a:spcBef>
                <a:spcPts val="876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0000"/>
                </a:solidFill>
                <a:latin typeface="Arial Narrow"/>
              </a:rPr>
              <a:t>Medo de mudanças de prioridades</a:t>
            </a:r>
            <a:endParaRPr b="1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"/>
          <p:cNvSpPr/>
          <p:nvPr/>
        </p:nvSpPr>
        <p:spPr>
          <a:xfrm>
            <a:off x="6629400" y="5243400"/>
            <a:ext cx="17524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Nível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Lingu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Co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j0078741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2471760" cy="37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277-A771-4B24-939C-FBEDC8ACFB4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3951B-0C73-4C74-8983-B2C01C53B7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Gerência de Projeto Usando o Modelo de Maturidad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Introduçã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1: Linguagem Comu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</a:rPr>
              <a:t>Nível 2: Processos Comu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3: Metodologia Própri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4: Benchmark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5: Melhoria Contínu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Conclusã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95A-9B7D-4DC8-A806-60E6AFFEFD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AED60-E055-45F1-A384-45353F33C942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Nível 2: Processos Comun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ão basta ter profissionais certificad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Esforço para utilizar a gerência de projet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Criar os processos necessári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Criar as metodologias necessária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Disseminar a cultura da gerência de projetos por toda a organizaçã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Como fazer isto?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2971800"/>
            <a:ext cx="1752480" cy="1981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114800"/>
            <a:ext cx="17528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Nível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Lingu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Co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 rot="480000">
            <a:off x="152280" y="2742120"/>
            <a:ext cx="762120" cy="2057760"/>
          </a:xfrm>
          <a:custGeom>
            <a:avLst/>
            <a:gdLst>
              <a:gd name="textAreaLeft" fmla="*/ 101880 w 762120"/>
              <a:gd name="textAreaRight" fmla="*/ 660240 w 762120"/>
              <a:gd name="textAreaTop" fmla="*/ 360000 h 2057760"/>
              <a:gd name="textAreaBottom" fmla="*/ 1491840 h 205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AC3-7F37-4342-93A2-A63DC60267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AD826-2193-463A-B9CD-4C7E8791A3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Nível 2: Característica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1752480"/>
            <a:ext cx="1752840" cy="441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320" y="1600200"/>
            <a:ext cx="3429000" cy="1600200"/>
            <a:chOff x="76320" y="1600200"/>
            <a:chExt cx="3429000" cy="1600200"/>
          </a:xfrm>
        </p:grpSpPr>
        <p:sp>
          <p:nvSpPr>
            <p:cNvPr id="288" name=""/>
            <p:cNvSpPr/>
            <p:nvPr/>
          </p:nvSpPr>
          <p:spPr>
            <a:xfrm>
              <a:off x="228600" y="2819520"/>
              <a:ext cx="2514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Benefíc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j0316773" descr=""/>
            <p:cNvPicPr/>
            <p:nvPr/>
          </p:nvPicPr>
          <p:blipFill>
            <a:blip r:embed="rId1"/>
            <a:stretch/>
          </p:blipFill>
          <p:spPr>
            <a:xfrm>
              <a:off x="1447920" y="1600200"/>
              <a:ext cx="16761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j0177752" descr=""/>
            <p:cNvPicPr/>
            <p:nvPr/>
          </p:nvPicPr>
          <p:blipFill>
            <a:blip r:embed="rId2"/>
            <a:stretch/>
          </p:blipFill>
          <p:spPr>
            <a:xfrm>
              <a:off x="76320" y="16002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3200400" y="2057400"/>
              <a:ext cx="304920" cy="457200"/>
            </a:xfrm>
            <a:prstGeom prst="rightArrow">
              <a:avLst>
                <a:gd name="adj1" fmla="val 48611"/>
                <a:gd name="adj2" fmla="val 50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35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447920" y="2971800"/>
            <a:ext cx="2057400" cy="1981080"/>
            <a:chOff x="1447920" y="2971800"/>
            <a:chExt cx="2057400" cy="1981080"/>
          </a:xfrm>
        </p:grpSpPr>
        <p:grpSp>
          <p:nvGrpSpPr>
            <p:cNvPr id="293" name=""/>
            <p:cNvGrpSpPr/>
            <p:nvPr/>
          </p:nvGrpSpPr>
          <p:grpSpPr>
            <a:xfrm>
              <a:off x="1447920" y="2971800"/>
              <a:ext cx="1706400" cy="1981080"/>
              <a:chOff x="1447920" y="2971800"/>
              <a:chExt cx="1706400" cy="1981080"/>
            </a:xfrm>
          </p:grpSpPr>
          <p:pic>
            <p:nvPicPr>
              <p:cNvPr id="294" name="bd05515_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3880" y="2971800"/>
                <a:ext cx="163044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1447920" y="4648320"/>
                <a:ext cx="1676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Times New Roman"/>
                  </a:rPr>
                  <a:t>Suporte Tot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3200400" y="3962520"/>
              <a:ext cx="304920" cy="457200"/>
            </a:xfrm>
            <a:prstGeom prst="rightArrow">
              <a:avLst>
                <a:gd name="adj1" fmla="val 48611"/>
                <a:gd name="adj2" fmla="val 50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35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638320" y="1600200"/>
            <a:ext cx="2978640" cy="2133720"/>
            <a:chOff x="5638320" y="1600200"/>
            <a:chExt cx="2978640" cy="2133720"/>
          </a:xfrm>
        </p:grpSpPr>
        <p:pic>
          <p:nvPicPr>
            <p:cNvPr id="298" name="bs00561_" descr=""/>
            <p:cNvPicPr/>
            <p:nvPr/>
          </p:nvPicPr>
          <p:blipFill>
            <a:blip r:embed="rId4"/>
            <a:stretch/>
          </p:blipFill>
          <p:spPr>
            <a:xfrm>
              <a:off x="6019920" y="1600200"/>
              <a:ext cx="259704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019920" y="342900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Controle de Cus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637960" y="2362320"/>
              <a:ext cx="304920" cy="457200"/>
            </a:xfrm>
            <a:prstGeom prst="rightArrow">
              <a:avLst>
                <a:gd name="adj1" fmla="val 48611"/>
                <a:gd name="adj2" fmla="val 50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35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638320" y="3835440"/>
            <a:ext cx="3277080" cy="2108160"/>
            <a:chOff x="5638320" y="3835440"/>
            <a:chExt cx="3277080" cy="2108160"/>
          </a:xfrm>
        </p:grpSpPr>
        <p:pic>
          <p:nvPicPr>
            <p:cNvPr id="302" name="pe01561_" descr=""/>
            <p:cNvPicPr/>
            <p:nvPr/>
          </p:nvPicPr>
          <p:blipFill>
            <a:blip r:embed="rId5"/>
            <a:stretch/>
          </p:blipFill>
          <p:spPr>
            <a:xfrm>
              <a:off x="6095880" y="3835440"/>
              <a:ext cx="274320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019920" y="5638680"/>
              <a:ext cx="289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Métodos &amp; Proces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637960" y="4648320"/>
              <a:ext cx="304920" cy="457200"/>
            </a:xfrm>
            <a:prstGeom prst="rightArrow">
              <a:avLst>
                <a:gd name="adj1" fmla="val 48611"/>
                <a:gd name="adj2" fmla="val 50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35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219320" y="4971960"/>
            <a:ext cx="2286000" cy="1505160"/>
            <a:chOff x="1219320" y="4971960"/>
            <a:chExt cx="2286000" cy="1505160"/>
          </a:xfrm>
        </p:grpSpPr>
        <p:sp>
          <p:nvSpPr>
            <p:cNvPr id="306" name=""/>
            <p:cNvSpPr/>
            <p:nvPr/>
          </p:nvSpPr>
          <p:spPr>
            <a:xfrm>
              <a:off x="3200400" y="5562720"/>
              <a:ext cx="304920" cy="457200"/>
            </a:xfrm>
            <a:prstGeom prst="rightArrow">
              <a:avLst>
                <a:gd name="adj1" fmla="val 48611"/>
                <a:gd name="adj2" fmla="val 50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35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1219320" y="4971960"/>
              <a:ext cx="2133360" cy="1505160"/>
              <a:chOff x="1219320" y="4971960"/>
              <a:chExt cx="2133360" cy="1505160"/>
            </a:xfrm>
          </p:grpSpPr>
          <p:sp>
            <p:nvSpPr>
              <p:cNvPr id="308" name=""/>
              <p:cNvSpPr/>
              <p:nvPr/>
            </p:nvSpPr>
            <p:spPr>
              <a:xfrm>
                <a:off x="1219320" y="6172200"/>
                <a:ext cx="2133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Times New Roman"/>
                  </a:rPr>
                  <a:t>Treinamen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9" name="BD06630_" descr=""/>
              <p:cNvPicPr/>
              <p:nvPr/>
            </p:nvPicPr>
            <p:blipFill>
              <a:blip r:embed="rId6"/>
              <a:stretch/>
            </p:blipFill>
            <p:spPr>
              <a:xfrm>
                <a:off x="1523880" y="4971960"/>
                <a:ext cx="1600200" cy="127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5BB-E6A8-43A3-A38E-67D45766741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11DA5-3148-48DD-9676-673CFE5FDF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545"/>
                </a:solidFill>
                <a:latin typeface="Impact"/>
              </a:rPr>
              <a:t>Forças Propulsoras da Gerência de Projetos</a:t>
            </a:r>
            <a:endParaRPr b="0" lang="en-US" sz="36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2362320"/>
            <a:ext cx="1828800" cy="3276360"/>
          </a:xfrm>
          <a:prstGeom prst="flowChartAlternateProcess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Sobrevivê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2362320"/>
            <a:ext cx="2590920" cy="53316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ojetos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3733920"/>
            <a:ext cx="2590920" cy="53316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xpectativas de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5105520"/>
            <a:ext cx="2590920" cy="53316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mpetitividade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19920" y="2362320"/>
            <a:ext cx="2590560" cy="53316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Compreensão dos Execu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19920" y="3733920"/>
            <a:ext cx="2590560" cy="53316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Desenvolver Produto No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19920" y="5105520"/>
            <a:ext cx="2590560" cy="53316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ficiência e Efetiv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200400" y="2362320"/>
            <a:ext cx="2742840" cy="3200400"/>
            <a:chOff x="3200400" y="2362320"/>
            <a:chExt cx="2742840" cy="3200400"/>
          </a:xfrm>
        </p:grpSpPr>
        <p:sp>
          <p:nvSpPr>
            <p:cNvPr id="319" name=""/>
            <p:cNvSpPr/>
            <p:nvPr/>
          </p:nvSpPr>
          <p:spPr>
            <a:xfrm>
              <a:off x="3200400" y="3733920"/>
              <a:ext cx="304920" cy="457200"/>
            </a:xfrm>
            <a:prstGeom prst="rightArrow">
              <a:avLst>
                <a:gd name="adj1" fmla="val 48611"/>
                <a:gd name="adj2" fmla="val 50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637960" y="3733920"/>
              <a:ext cx="304920" cy="457200"/>
            </a:xfrm>
            <a:prstGeom prst="rightArrow">
              <a:avLst>
                <a:gd name="adj1" fmla="val 48611"/>
                <a:gd name="adj2" fmla="val 50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00400" y="5105520"/>
              <a:ext cx="304920" cy="457200"/>
            </a:xfrm>
            <a:prstGeom prst="rightArrow">
              <a:avLst>
                <a:gd name="adj1" fmla="val 48611"/>
                <a:gd name="adj2" fmla="val 50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00400" y="2362320"/>
              <a:ext cx="304920" cy="457200"/>
            </a:xfrm>
            <a:prstGeom prst="rightArrow">
              <a:avLst>
                <a:gd name="adj1" fmla="val 48611"/>
                <a:gd name="adj2" fmla="val 50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637960" y="2438280"/>
              <a:ext cx="304920" cy="457200"/>
            </a:xfrm>
            <a:prstGeom prst="rightArrow">
              <a:avLst>
                <a:gd name="adj1" fmla="val 48611"/>
                <a:gd name="adj2" fmla="val 50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637960" y="5105520"/>
              <a:ext cx="304920" cy="457200"/>
            </a:xfrm>
            <a:prstGeom prst="rightArrow">
              <a:avLst>
                <a:gd name="adj1" fmla="val 48611"/>
                <a:gd name="adj2" fmla="val 50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D1C-97BB-4DB8-BA27-C7D4F1945E5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46ABF-EB82-46EA-947A-C44538EF95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Fases do Ciclo de Vida do Nível 2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9880" y="1676160"/>
            <a:ext cx="5105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Nós precisamos da gerência de projeto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Ela pode nos trazer benefício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Ela pode ser aplicada em várias partes do nosso negócio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Algumas mudanças serão necessárias para a sua implementação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Precisamos convencer outro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"/>
          <p:cNvSpPr/>
          <p:nvPr/>
        </p:nvSpPr>
        <p:spPr>
          <a:xfrm>
            <a:off x="1143000" y="4572000"/>
            <a:ext cx="1523880" cy="60948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mbrioná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714-D17D-45DF-A824-4AB08F4CA0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D35AD-93AB-4E99-BCAC-AD28BE64A9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Gerência de Projeto Usando o Modelo de Maturidad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</a:rPr>
              <a:t>Introduçã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1: Linguagem Comu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2: Processos Comu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3: Metodologia Própri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4: Benchmark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5: Melhoria Contínu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Conclusã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3FA-C72F-49C1-B15E-DCF0E2CE83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11388-5D8F-4C01-8D18-E88D6B2D31DA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43000" y="4572000"/>
            <a:ext cx="1523880" cy="60948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mbrioná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Aceitação Pela Gerência Executiv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9880" y="1676160"/>
            <a:ext cx="5105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Suporte visível dos executivo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Os executivos entendendo a gerência de projeto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Patrocínio de projeto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Vontade de mudar o modo como a companhia faz negócio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62120" y="3809880"/>
            <a:ext cx="2286000" cy="1523880"/>
            <a:chOff x="762120" y="3809880"/>
            <a:chExt cx="2286000" cy="1523880"/>
          </a:xfrm>
        </p:grpSpPr>
        <p:sp>
          <p:nvSpPr>
            <p:cNvPr id="332" name=""/>
            <p:cNvSpPr/>
            <p:nvPr/>
          </p:nvSpPr>
          <p:spPr>
            <a:xfrm>
              <a:off x="762120" y="3809880"/>
              <a:ext cx="2286000" cy="1523880"/>
            </a:xfrm>
            <a:prstGeom prst="flowChartAlternateProcess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Aceitação Pe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Gerência Executi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43000" y="4571640"/>
              <a:ext cx="1523880" cy="609840"/>
            </a:xfrm>
            <a:prstGeom prst="flowChartAlternateProcess">
              <a:avLst/>
            </a:prstGeom>
            <a:solidFill>
              <a:srgbClr val="c0c0c0"/>
            </a:solidFill>
            <a:ln cap="sq"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Embrioná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4AB-5B88-4288-BA12-9C415BF5BC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47D1D-163D-4616-9C6A-E62E32899B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Aceitação Pela Gerência de Linh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9880" y="1676160"/>
            <a:ext cx="5105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Suporte visível dos gerentes de linha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Eles se comprometem com a gerência de projeto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Educação dos gerentes de linha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Liberação dos empregados para serem treinados em gerência de projeto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62120" y="3809880"/>
            <a:ext cx="2286000" cy="1523880"/>
            <a:chOff x="762120" y="3809880"/>
            <a:chExt cx="2286000" cy="1523880"/>
          </a:xfrm>
        </p:grpSpPr>
        <p:sp>
          <p:nvSpPr>
            <p:cNvPr id="337" name=""/>
            <p:cNvSpPr/>
            <p:nvPr/>
          </p:nvSpPr>
          <p:spPr>
            <a:xfrm>
              <a:off x="762120" y="3809880"/>
              <a:ext cx="2286000" cy="1523880"/>
            </a:xfrm>
            <a:prstGeom prst="flowChartAlternateProcess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Aceitação Pe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Gerência Executi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43000" y="4571640"/>
              <a:ext cx="1523880" cy="609840"/>
            </a:xfrm>
            <a:prstGeom prst="flowChartAlternateProcess">
              <a:avLst/>
            </a:prstGeom>
            <a:solidFill>
              <a:srgbClr val="c0c0c0"/>
            </a:solidFill>
            <a:ln cap="sq"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Embrioná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09480" y="3048120"/>
            <a:ext cx="2590920" cy="2514600"/>
            <a:chOff x="609480" y="3048120"/>
            <a:chExt cx="2590920" cy="2514600"/>
          </a:xfrm>
        </p:grpSpPr>
        <p:sp>
          <p:nvSpPr>
            <p:cNvPr id="340" name=""/>
            <p:cNvSpPr/>
            <p:nvPr/>
          </p:nvSpPr>
          <p:spPr>
            <a:xfrm>
              <a:off x="609480" y="3048120"/>
              <a:ext cx="2590920" cy="2514600"/>
            </a:xfrm>
            <a:prstGeom prst="flowChartAlternateProcess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Aceitação Pe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Gerência de Linh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61760" y="3810240"/>
              <a:ext cx="2286000" cy="1600200"/>
              <a:chOff x="761760" y="3810240"/>
              <a:chExt cx="2286000" cy="1600200"/>
            </a:xfrm>
          </p:grpSpPr>
          <p:sp>
            <p:nvSpPr>
              <p:cNvPr id="342" name=""/>
              <p:cNvSpPr/>
              <p:nvPr/>
            </p:nvSpPr>
            <p:spPr>
              <a:xfrm>
                <a:off x="761760" y="3810240"/>
                <a:ext cx="2286000" cy="1600200"/>
              </a:xfrm>
              <a:prstGeom prst="flowChartAlternateProcess">
                <a:avLst/>
              </a:prstGeom>
              <a:solidFill>
                <a:srgbClr val="c0c0c0"/>
              </a:solidFill>
              <a:ln cap="sq"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Aceitação Pel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ência Executiv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142640" y="4572360"/>
                <a:ext cx="1523880" cy="609480"/>
              </a:xfrm>
              <a:prstGeom prst="flowChartAlternateProcess">
                <a:avLst/>
              </a:prstGeom>
              <a:solidFill>
                <a:srgbClr val="c0c0c0"/>
              </a:solidFill>
              <a:ln cap="sq"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Embrionár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AD9-B927-4585-A5E5-0CF88FCD991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36EDC-F65D-440C-BE37-8556B21132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Fase de Cresciment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9880" y="1676160"/>
            <a:ext cx="5105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Desenvolvimento dos ciclos de vida de gerência de projeto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Desenvolvimento de uma metodologia própria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Compromisso com os plano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Minimização de mudanças de escopo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Seleção de um software para suportar a metodologia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3048120"/>
            <a:ext cx="2590920" cy="2514600"/>
            <a:chOff x="609480" y="3048120"/>
            <a:chExt cx="2590920" cy="2514600"/>
          </a:xfrm>
        </p:grpSpPr>
        <p:sp>
          <p:nvSpPr>
            <p:cNvPr id="347" name=""/>
            <p:cNvSpPr/>
            <p:nvPr/>
          </p:nvSpPr>
          <p:spPr>
            <a:xfrm>
              <a:off x="609480" y="3048120"/>
              <a:ext cx="2590920" cy="2514600"/>
            </a:xfrm>
            <a:prstGeom prst="flowChartAlternateProcess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Aceitação Pe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Gerência de Linh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761760" y="3810240"/>
              <a:ext cx="2286000" cy="1600200"/>
              <a:chOff x="761760" y="3810240"/>
              <a:chExt cx="2286000" cy="1600200"/>
            </a:xfrm>
          </p:grpSpPr>
          <p:sp>
            <p:nvSpPr>
              <p:cNvPr id="349" name=""/>
              <p:cNvSpPr/>
              <p:nvPr/>
            </p:nvSpPr>
            <p:spPr>
              <a:xfrm>
                <a:off x="761760" y="3810240"/>
                <a:ext cx="2286000" cy="1600200"/>
              </a:xfrm>
              <a:prstGeom prst="flowChartAlternateProcess">
                <a:avLst/>
              </a:prstGeom>
              <a:solidFill>
                <a:srgbClr val="c0c0c0"/>
              </a:solidFill>
              <a:ln cap="sq"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Aceitação Pel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ência Executiv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42640" y="4572360"/>
                <a:ext cx="1523880" cy="609480"/>
              </a:xfrm>
              <a:prstGeom prst="flowChartAlternateProcess">
                <a:avLst/>
              </a:prstGeom>
              <a:solidFill>
                <a:srgbClr val="c0c0c0"/>
              </a:solidFill>
              <a:ln cap="sq"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Embrionár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457200" y="2590920"/>
            <a:ext cx="2895480" cy="3124080"/>
            <a:chOff x="457200" y="2590920"/>
            <a:chExt cx="2895480" cy="3124080"/>
          </a:xfrm>
        </p:grpSpPr>
        <p:sp>
          <p:nvSpPr>
            <p:cNvPr id="352" name=""/>
            <p:cNvSpPr/>
            <p:nvPr/>
          </p:nvSpPr>
          <p:spPr>
            <a:xfrm>
              <a:off x="457200" y="2590920"/>
              <a:ext cx="2895480" cy="3124080"/>
            </a:xfrm>
            <a:prstGeom prst="flowChartAlternateProcess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Cresci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609480" y="3048120"/>
              <a:ext cx="2590920" cy="2514600"/>
              <a:chOff x="609480" y="3048120"/>
              <a:chExt cx="2590920" cy="2514600"/>
            </a:xfrm>
          </p:grpSpPr>
          <p:sp>
            <p:nvSpPr>
              <p:cNvPr id="354" name=""/>
              <p:cNvSpPr/>
              <p:nvPr/>
            </p:nvSpPr>
            <p:spPr>
              <a:xfrm>
                <a:off x="609480" y="3048120"/>
                <a:ext cx="2590920" cy="2514600"/>
              </a:xfrm>
              <a:prstGeom prst="flowChartAlternateProcess">
                <a:avLst/>
              </a:prstGeom>
              <a:solidFill>
                <a:srgbClr val="c0c0c0"/>
              </a:solidFill>
              <a:ln cap="sq"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Aceitação Pel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ência de Linh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761760" y="3810240"/>
                <a:ext cx="2286000" cy="1600200"/>
                <a:chOff x="761760" y="3810240"/>
                <a:chExt cx="2286000" cy="16002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761760" y="3810240"/>
                  <a:ext cx="2286000" cy="1600200"/>
                </a:xfrm>
                <a:prstGeom prst="flowChartAlternateProcess">
                  <a:avLst/>
                </a:prstGeom>
                <a:solidFill>
                  <a:srgbClr val="c0c0c0"/>
                </a:solidFill>
                <a:ln cap="sq"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Times New Roman"/>
                    </a:rPr>
                    <a:t>Aceitação P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Times New Roman"/>
                    </a:rPr>
                    <a:t>Gerência Executiv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142640" y="4572360"/>
                  <a:ext cx="1523880" cy="609480"/>
                </a:xfrm>
                <a:prstGeom prst="flowChartAlternateProcess">
                  <a:avLst/>
                </a:prstGeom>
                <a:solidFill>
                  <a:srgbClr val="c0c0c0"/>
                </a:solidFill>
                <a:ln cap="sq"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Times New Roman"/>
                    </a:rPr>
                    <a:t>Embrionár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9AF-E801-4FDD-9316-A6AEC2B41C0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F494E-56F8-49C5-9F90-F3CA09BF7E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Fase da Maturidad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9880" y="1676160"/>
            <a:ext cx="5105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Desenvolvimento de uma gerência de custo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217800" indent="-217800">
              <a:lnSpc>
                <a:spcPct val="90000"/>
              </a:lnSpc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Criação de um sistema de controle de cronograma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217800" indent="-217800">
              <a:lnSpc>
                <a:spcPct val="90000"/>
              </a:lnSpc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Integração do cronograma ao controle de custo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217800" indent="-217800">
              <a:lnSpc>
                <a:spcPct val="90000"/>
              </a:lnSpc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Criação de um currículo contínuo de treinamento para suportar a gerência de projeto e melhorar as habilidades individuai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57200" y="2590920"/>
            <a:ext cx="2895480" cy="3124080"/>
            <a:chOff x="457200" y="2590920"/>
            <a:chExt cx="2895480" cy="3124080"/>
          </a:xfrm>
        </p:grpSpPr>
        <p:sp>
          <p:nvSpPr>
            <p:cNvPr id="361" name=""/>
            <p:cNvSpPr/>
            <p:nvPr/>
          </p:nvSpPr>
          <p:spPr>
            <a:xfrm>
              <a:off x="457200" y="2590920"/>
              <a:ext cx="2895480" cy="3124080"/>
            </a:xfrm>
            <a:prstGeom prst="flowChartAlternateProcess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Cresci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09480" y="3048120"/>
              <a:ext cx="2590920" cy="2514600"/>
              <a:chOff x="609480" y="3048120"/>
              <a:chExt cx="2590920" cy="2514600"/>
            </a:xfrm>
          </p:grpSpPr>
          <p:sp>
            <p:nvSpPr>
              <p:cNvPr id="363" name=""/>
              <p:cNvSpPr/>
              <p:nvPr/>
            </p:nvSpPr>
            <p:spPr>
              <a:xfrm>
                <a:off x="609480" y="3048120"/>
                <a:ext cx="2590920" cy="2514600"/>
              </a:xfrm>
              <a:prstGeom prst="flowChartAlternateProcess">
                <a:avLst/>
              </a:prstGeom>
              <a:solidFill>
                <a:srgbClr val="c0c0c0"/>
              </a:solidFill>
              <a:ln cap="sq"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Aceitação Pel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ência de Linh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761760" y="3810240"/>
                <a:ext cx="2286000" cy="1600200"/>
                <a:chOff x="761760" y="3810240"/>
                <a:chExt cx="2286000" cy="16002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61760" y="3810240"/>
                  <a:ext cx="2286000" cy="1600200"/>
                </a:xfrm>
                <a:prstGeom prst="flowChartAlternateProcess">
                  <a:avLst/>
                </a:prstGeom>
                <a:solidFill>
                  <a:srgbClr val="c0c0c0"/>
                </a:solidFill>
                <a:ln cap="sq"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Times New Roman"/>
                    </a:rPr>
                    <a:t>Aceitação P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Times New Roman"/>
                    </a:rPr>
                    <a:t>Gerência Executiv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142640" y="4572360"/>
                  <a:ext cx="1523880" cy="609480"/>
                </a:xfrm>
                <a:prstGeom prst="flowChartAlternateProcess">
                  <a:avLst/>
                </a:prstGeom>
                <a:solidFill>
                  <a:srgbClr val="c0c0c0"/>
                </a:solidFill>
                <a:ln cap="sq"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Times New Roman"/>
                    </a:rPr>
                    <a:t>Embrionár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7" name=""/>
          <p:cNvGrpSpPr/>
          <p:nvPr/>
        </p:nvGrpSpPr>
        <p:grpSpPr>
          <a:xfrm>
            <a:off x="304920" y="2133720"/>
            <a:ext cx="3200400" cy="3733560"/>
            <a:chOff x="304920" y="2133720"/>
            <a:chExt cx="3200400" cy="3733560"/>
          </a:xfrm>
        </p:grpSpPr>
        <p:sp>
          <p:nvSpPr>
            <p:cNvPr id="368" name=""/>
            <p:cNvSpPr/>
            <p:nvPr/>
          </p:nvSpPr>
          <p:spPr>
            <a:xfrm>
              <a:off x="304920" y="2133720"/>
              <a:ext cx="3200400" cy="3733560"/>
            </a:xfrm>
            <a:prstGeom prst="flowChartAlternateProcess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Matur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457200" y="2590560"/>
              <a:ext cx="2895480" cy="3123720"/>
              <a:chOff x="457200" y="2590560"/>
              <a:chExt cx="2895480" cy="3123720"/>
            </a:xfrm>
          </p:grpSpPr>
          <p:sp>
            <p:nvSpPr>
              <p:cNvPr id="370" name=""/>
              <p:cNvSpPr/>
              <p:nvPr/>
            </p:nvSpPr>
            <p:spPr>
              <a:xfrm>
                <a:off x="457200" y="2590560"/>
                <a:ext cx="2895480" cy="3123720"/>
              </a:xfrm>
              <a:prstGeom prst="flowChartAlternateProcess">
                <a:avLst/>
              </a:prstGeom>
              <a:solidFill>
                <a:srgbClr val="c0c0c0"/>
              </a:solidFill>
              <a:ln cap="sq"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Crescime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609480" y="3047400"/>
                <a:ext cx="2590920" cy="2514240"/>
                <a:chOff x="609480" y="3047400"/>
                <a:chExt cx="2590920" cy="25142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09480" y="3047400"/>
                  <a:ext cx="2590920" cy="2514240"/>
                </a:xfrm>
                <a:prstGeom prst="flowChartAlternateProcess">
                  <a:avLst/>
                </a:prstGeom>
                <a:solidFill>
                  <a:srgbClr val="c0c0c0"/>
                </a:solidFill>
                <a:ln cap="sq"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Times New Roman"/>
                    </a:rPr>
                    <a:t>Aceitação P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Times New Roman"/>
                    </a:rPr>
                    <a:t>Gerência de Linh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3" name=""/>
                <p:cNvGrpSpPr/>
                <p:nvPr/>
              </p:nvGrpSpPr>
              <p:grpSpPr>
                <a:xfrm>
                  <a:off x="761760" y="3809160"/>
                  <a:ext cx="2286000" cy="1599840"/>
                  <a:chOff x="761760" y="3809160"/>
                  <a:chExt cx="2286000" cy="1599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761760" y="3809160"/>
                    <a:ext cx="2286000" cy="1599840"/>
                  </a:xfrm>
                  <a:prstGeom prst="flowChartAlternateProcess">
                    <a:avLst/>
                  </a:prstGeom>
                  <a:solidFill>
                    <a:srgbClr val="c0c0c0"/>
                  </a:solidFill>
                  <a:ln cap="sq" w="1260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ceitação Pel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erência Executiv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142640" y="4570920"/>
                    <a:ext cx="1523880" cy="609120"/>
                  </a:xfrm>
                  <a:prstGeom prst="flowChartAlternateProcess">
                    <a:avLst/>
                  </a:prstGeom>
                  <a:solidFill>
                    <a:srgbClr val="c0c0c0"/>
                  </a:solidFill>
                  <a:ln cap="sq" w="1260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mbrionári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FA8-79BB-43CE-B6B6-2B8C606A39C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2FDAA-1E1F-4AC9-90EA-DBBB41E183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c545"/>
                </a:solidFill>
                <a:latin typeface="Impact"/>
              </a:rPr>
              <a:t>Obstáculos ao Progresso Para o Nível 3</a:t>
            </a:r>
            <a:endParaRPr b="0" lang="en-US" sz="42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2133720"/>
            <a:ext cx="4495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Resistência a uma nova metodolog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O que nós já fazemos b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Crença que a metodologia precisa de política e procedimentos rígi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Resistência à contabilidade horizo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bd05158_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1905120" cy="380988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-57960" y="2615400"/>
            <a:ext cx="2325600" cy="3175920"/>
            <a:chOff x="-57960" y="2615400"/>
            <a:chExt cx="2325600" cy="3175920"/>
          </a:xfrm>
        </p:grpSpPr>
        <p:sp>
          <p:nvSpPr>
            <p:cNvPr id="380" name=""/>
            <p:cNvSpPr/>
            <p:nvPr/>
          </p:nvSpPr>
          <p:spPr>
            <a:xfrm rot="18900000">
              <a:off x="0" y="3238200"/>
              <a:ext cx="2209680" cy="1079280"/>
            </a:xfrm>
            <a:prstGeom prst="rightArrow">
              <a:avLst>
                <a:gd name="adj1" fmla="val 34713"/>
                <a:gd name="adj2" fmla="val 77866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0440" y="4419720"/>
              <a:ext cx="1981440" cy="1371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476f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Nível 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Proces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Comu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C2C-EC05-4241-B5AF-1BAE9704D40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B82CF-7A6C-44ED-9572-5329EC9589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Critérios Para Avançar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Criar uma cultura que suporte o lado quantitativo e comportamental da gerência de projet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Reconhecer as forças, a necessidade e os benefíci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Criar processos e metodologias que possam ser repetida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Criar um currículo de treinamento contínuo para todos os empregad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362320"/>
            <a:ext cx="1752840" cy="296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óp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3505320"/>
            <a:ext cx="1752480" cy="1981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520" y="4648320"/>
            <a:ext cx="175248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 rot="480000">
            <a:off x="228600" y="2208600"/>
            <a:ext cx="762120" cy="2057760"/>
          </a:xfrm>
          <a:custGeom>
            <a:avLst/>
            <a:gdLst>
              <a:gd name="textAreaLeft" fmla="*/ 101880 w 762120"/>
              <a:gd name="textAreaRight" fmla="*/ 660240 w 762120"/>
              <a:gd name="textAreaTop" fmla="*/ 360000 h 2057760"/>
              <a:gd name="textAreaBottom" fmla="*/ 1491840 h 205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8AF-FA60-48C3-ADF4-F7CE803043F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FC843-3042-413E-B079-74A2FCAFC0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Riscos de Estagnaçã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Companhia orientada ou não para projeto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Visibilidade do suporte dos executivo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Força da cultura da corporação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Resistência a mudança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Tempo gasto na criação de uma boa e exeqüível metodologi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Existência de um executivo campeão para dirigir a criação da metodologi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Velocidade de percepção dos benefício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324480" y="1600200"/>
            <a:ext cx="2471760" cy="4633920"/>
            <a:chOff x="6324480" y="1600200"/>
            <a:chExt cx="2471760" cy="4633920"/>
          </a:xfrm>
        </p:grpSpPr>
        <p:sp>
          <p:nvSpPr>
            <p:cNvPr id="391" name=""/>
            <p:cNvSpPr/>
            <p:nvPr/>
          </p:nvSpPr>
          <p:spPr>
            <a:xfrm>
              <a:off x="6629400" y="5243400"/>
              <a:ext cx="1752480" cy="990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Nível 2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Proces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Comu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j0078741" descr=""/>
            <p:cNvPicPr/>
            <p:nvPr/>
          </p:nvPicPr>
          <p:blipFill>
            <a:blip r:embed="rId1"/>
            <a:stretch/>
          </p:blipFill>
          <p:spPr>
            <a:xfrm>
              <a:off x="6324480" y="1600200"/>
              <a:ext cx="2471760" cy="371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FED-96D2-4DC4-B8C1-DA2BF2947F4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A37C0-E9EC-481B-A553-891C549A35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Sobrepondo Nívei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Treinar o pessoal enquanto a metodologia é desenvolvid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Ao concluir a metodologia, inclui-la nos treinamento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Um curso dos princípios da gerência de projetos pode ser dado em três dia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No quarto dia podem ser cobertos as metodologias e os processo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Com isto os empregados podem ver os conceitos da gerência de projeto aplicados em sua própria companhi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"/>
          <p:cNvSpPr/>
          <p:nvPr/>
        </p:nvSpPr>
        <p:spPr>
          <a:xfrm>
            <a:off x="838080" y="2971800"/>
            <a:ext cx="1752840" cy="1981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4114800"/>
            <a:ext cx="17524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Nível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Lingu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Co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 rot="2700000">
            <a:off x="151560" y="3276360"/>
            <a:ext cx="1219320" cy="1218960"/>
          </a:xfrm>
          <a:custGeom>
            <a:avLst/>
            <a:gdLst>
              <a:gd name="textAreaLeft" fmla="*/ 349920 w 1219320"/>
              <a:gd name="textAreaRight" fmla="*/ 1044360 w 1219320"/>
              <a:gd name="textAreaTop" fmla="*/ 698040 h 1218960"/>
              <a:gd name="textAreaBottom" fmla="*/ 10440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5434"/>
                </a:moveTo>
                <a:lnTo>
                  <a:pt x="6200" y="9268"/>
                </a:lnTo>
                <a:lnTo>
                  <a:pt x="6200" y="12368"/>
                </a:lnTo>
                <a:lnTo>
                  <a:pt x="12368" y="12368"/>
                </a:lnTo>
                <a:lnTo>
                  <a:pt x="12368" y="6200"/>
                </a:lnTo>
                <a:lnTo>
                  <a:pt x="9268" y="6200"/>
                </a:lnTo>
                <a:lnTo>
                  <a:pt x="15434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2D8-F863-4CF6-93A8-41B635A7583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05F84-8050-4584-B739-2376ECAC42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Instrumento de Avaliação do Nível 2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20 Questões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Respostas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-3: Discordo fortemen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-2: Discord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-1: Discordo levemen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0: Sem opiniã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+1: Concordo levemen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+2: Concord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+3: Concordo fortemen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Minha companhia reconhece a necessidade da gerência de projeto, em todos os níveis de gerência, incluindo os executivos senior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Minha companhia tem um sistema para gerenciar custos e cronogramas. O sistema requer carga de números e contas de custos. O sistema reporta variâncias dos objetivos planejado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08E-6E14-40C2-B51F-E745FA28D10A}" type="slidenum">
              <a:t>2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A95E7-C342-406A-BFD9-118A11FBAD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Gerência de Projeto Usando o Modelo de Maturidad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Introduçã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1: Linguagem Comu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2: Processos Comu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</a:rPr>
              <a:t>Nível 3: Metodologia Própri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4: Benchmark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5: Melhoria Contínu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Conclusã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F9D-D3E3-492B-AD9C-D23E105D60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4E538-E3C4-4E06-9BCE-D88D508FD460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Introdução à Gerência de Projeto Usando o PM3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PMMM ou PM3: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ject Management Using a Project Management Maturity Mod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Maturidade e Excelênci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Planejamento estratégico para gerenciamento de projet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Modelos para o planejament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DA5-F080-48B0-92DF-506B7A76A8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77461-7B76-49EE-B52E-94423CB0E2FB}" type="datetime1">
              <a:rPr lang="en-US"/>
              <a:t>07/30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Características do Nível 3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14600" y="1676160"/>
            <a:ext cx="632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Processos integrad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Suporte cultura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Suporte dos gerentes de todos os nívei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Gerência de projeto informa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Retorno do investimento para treinament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Excelência comportamenta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1905120"/>
            <a:ext cx="1752480" cy="4114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óp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A2C-BC9A-492D-8552-48203D215EF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82700-413A-4AF5-A337-D3308D9F63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Hexágono de Excelênci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1905120"/>
            <a:ext cx="2362320" cy="1828800"/>
          </a:xfrm>
          <a:prstGeom prst="triangle">
            <a:avLst>
              <a:gd name="adj" fmla="val 50000"/>
            </a:avLst>
          </a:prstGeom>
          <a:solidFill>
            <a:srgbClr val="000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Excel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Comporta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3886200"/>
            <a:ext cx="2362320" cy="1828800"/>
          </a:xfrm>
          <a:prstGeom prst="triangle">
            <a:avLst>
              <a:gd name="adj" fmla="val 50000"/>
            </a:avLst>
          </a:prstGeom>
          <a:solidFill>
            <a:srgbClr val="000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Trei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905120"/>
            <a:ext cx="2362320" cy="1828800"/>
          </a:xfrm>
          <a:prstGeom prst="triangle">
            <a:avLst>
              <a:gd name="adj" fmla="val 50000"/>
            </a:avLst>
          </a:prstGeom>
          <a:solidFill>
            <a:srgbClr val="000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Su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200400" y="1905120"/>
            <a:ext cx="2362320" cy="18288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Integrad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828800" y="3886200"/>
            <a:ext cx="2362320" cy="18288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imes New Roman"/>
              </a:rPr>
              <a:t>Gerênci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imes New Roman"/>
              </a:rPr>
              <a:t>Pro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imes New Roman"/>
              </a:rPr>
              <a:t>In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572000" y="3886200"/>
            <a:ext cx="2362320" cy="18288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Su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Ger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28800" y="579132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Símbolo da Administ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767-76C3-4045-98FD-27390BC4959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D3C3E-FC50-460C-A261-9B80D4384D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657600" y="35053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791320" y="2438280"/>
            <a:ext cx="3047760" cy="3048120"/>
            <a:chOff x="5791320" y="2438280"/>
            <a:chExt cx="3047760" cy="3048120"/>
          </a:xfrm>
        </p:grpSpPr>
        <p:sp>
          <p:nvSpPr>
            <p:cNvPr id="416" name=""/>
            <p:cNvSpPr/>
            <p:nvPr/>
          </p:nvSpPr>
          <p:spPr>
            <a:xfrm>
              <a:off x="5791320" y="2438280"/>
              <a:ext cx="3047760" cy="30481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Processos Integr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19920" y="2971800"/>
              <a:ext cx="1371600" cy="137160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Gerê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de Proj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38880" y="2971800"/>
              <a:ext cx="1371600" cy="137160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Gerênci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Qua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29400" y="3962160"/>
              <a:ext cx="1371600" cy="137160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Engenh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Concorr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04920" y="2438280"/>
            <a:ext cx="3047760" cy="3048120"/>
            <a:chOff x="304920" y="2438280"/>
            <a:chExt cx="3047760" cy="3048120"/>
          </a:xfrm>
        </p:grpSpPr>
        <p:sp>
          <p:nvSpPr>
            <p:cNvPr id="421" name=""/>
            <p:cNvSpPr/>
            <p:nvPr/>
          </p:nvSpPr>
          <p:spPr>
            <a:xfrm>
              <a:off x="304920" y="2438280"/>
              <a:ext cx="3047760" cy="30481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Processos Separ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880" y="2743200"/>
              <a:ext cx="1371240" cy="1371600"/>
            </a:xfrm>
            <a:prstGeom prst="ellipse">
              <a:avLst/>
            </a:prstGeom>
            <a:solidFill>
              <a:srgbClr val="99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Gerê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de Proj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04760" y="2743200"/>
              <a:ext cx="1371240" cy="1371600"/>
            </a:xfrm>
            <a:prstGeom prst="ellipse">
              <a:avLst/>
            </a:prstGeom>
            <a:solidFill>
              <a:srgbClr val="99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Gerênci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Qua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2640" y="4038480"/>
              <a:ext cx="1371240" cy="1371600"/>
            </a:xfrm>
            <a:prstGeom prst="ellipse">
              <a:avLst/>
            </a:prstGeom>
            <a:solidFill>
              <a:srgbClr val="99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Engenh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Concorr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Processos Integrado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828800" y="1523880"/>
            <a:ext cx="5562360" cy="4876560"/>
            <a:chOff x="1828800" y="1523880"/>
            <a:chExt cx="5562360" cy="4876560"/>
          </a:xfrm>
        </p:grpSpPr>
        <p:sp>
          <p:nvSpPr>
            <p:cNvPr id="427" name=""/>
            <p:cNvSpPr/>
            <p:nvPr/>
          </p:nvSpPr>
          <p:spPr>
            <a:xfrm>
              <a:off x="1828800" y="1523880"/>
              <a:ext cx="5562360" cy="48765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Processos </a:t>
              </a: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Integr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1942200" y="1625400"/>
              <a:ext cx="5334480" cy="4571640"/>
              <a:chOff x="1942200" y="1625400"/>
              <a:chExt cx="5334480" cy="4571640"/>
            </a:xfrm>
          </p:grpSpPr>
          <p:sp>
            <p:nvSpPr>
              <p:cNvPr id="429" name=""/>
              <p:cNvSpPr/>
              <p:nvPr/>
            </p:nvSpPr>
            <p:spPr>
              <a:xfrm>
                <a:off x="1942200" y="1625400"/>
                <a:ext cx="5334480" cy="4571640"/>
              </a:xfrm>
              <a:prstGeom prst="ellipse">
                <a:avLst/>
              </a:prstGeom>
              <a:solidFill>
                <a:srgbClr val="6699ff">
                  <a:alpha val="50000"/>
                </a:srgbClr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ênc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de Proje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52560" y="2437920"/>
                <a:ext cx="2043000" cy="1828440"/>
              </a:xfrm>
              <a:prstGeom prst="ellipse">
                <a:avLst/>
              </a:prstGeom>
              <a:solidFill>
                <a:srgbClr val="6699ff">
                  <a:alpha val="50000"/>
                </a:srgbClr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ência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Qualida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Tot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736720" y="2437920"/>
                <a:ext cx="2043000" cy="1828440"/>
              </a:xfrm>
              <a:prstGeom prst="ellipse">
                <a:avLst/>
              </a:prstGeom>
              <a:solidFill>
                <a:srgbClr val="6699ff">
                  <a:alpha val="50000"/>
                </a:srgbClr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Engenhar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Concorr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736720" y="4063680"/>
                <a:ext cx="2043000" cy="1828440"/>
              </a:xfrm>
              <a:prstGeom prst="ellipse">
                <a:avLst/>
              </a:prstGeom>
              <a:solidFill>
                <a:srgbClr val="6699ff">
                  <a:alpha val="50000"/>
                </a:srgbClr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ência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Mudanç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552560" y="4063680"/>
                <a:ext cx="2043000" cy="1828440"/>
              </a:xfrm>
              <a:prstGeom prst="ellipse">
                <a:avLst/>
              </a:prstGeom>
              <a:solidFill>
                <a:srgbClr val="6699ff">
                  <a:alpha val="50000"/>
                </a:srgbClr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ênc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de Ris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02A5-CB95-4E1C-A04E-DB2518161B6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8A568-F35C-441A-AF68-966266C27C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Nível 3: Metodologia Própri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Obstáculos: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Não conserte se não quebrar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Responsabilidades divididas são freqüentemente vistas como um risco alto pelos gerentes de linh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Como avançar para o nível 4?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Riscos: (alto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Mudar a cultura, aceitação da metodologia e da gerênci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Sobreposição de níveis: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Este nível geralmente não se sobrepõe ao nível 2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156-E240-4B4C-953E-0E008055BE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D5420-ED2F-44B1-AE4F-2864925296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Gerência de Projeto Usando o Modelo de Maturidad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Introduçã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1: Linguagem Comu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2: Processos Comu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3: Metodologia Própri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</a:rPr>
              <a:t>Nível 4: Benchmark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5: Melhoria Contínu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Conclusã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FC7-5977-49C3-A698-A66D08EE552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666F2-CCAB-4333-B0C1-18E0B45DDE2F}" type="datetime1">
              <a:rPr lang="en-US"/>
              <a:t>07/30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Nível 4: Benchmarking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563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Comparação das práticas de sua empresa com os líderes do mercado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Objetivo: Obter informações para melhorar o desempenho da empres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Melhorar metodologias e processos para sermos mais competitivo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Compare os aspectos críticos para o sucesso do processo ou do negócio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Pode não ser tão fácil obter os dado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0" name="j0214917" descr=""/>
          <p:cNvPicPr/>
          <p:nvPr/>
        </p:nvPicPr>
        <p:blipFill>
          <a:blip r:embed="rId1"/>
          <a:stretch/>
        </p:blipFill>
        <p:spPr>
          <a:xfrm>
            <a:off x="5943600" y="1647720"/>
            <a:ext cx="2819520" cy="2772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74320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j0144495" descr=""/>
          <p:cNvPicPr/>
          <p:nvPr/>
        </p:nvPicPr>
        <p:blipFill>
          <a:blip r:embed="rId2"/>
          <a:stretch/>
        </p:blipFill>
        <p:spPr>
          <a:xfrm>
            <a:off x="5943600" y="4521240"/>
            <a:ext cx="2743200" cy="180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C97-ADA0-441F-8F79-3AB3EAA30BE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8ED99-C133-42BE-B856-561424AB30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Código de Conduta do Benchmarking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28600" y="3733920"/>
            <a:ext cx="3276720" cy="533160"/>
            <a:chOff x="228600" y="3733920"/>
            <a:chExt cx="3276720" cy="533160"/>
          </a:xfrm>
        </p:grpSpPr>
        <p:sp>
          <p:nvSpPr>
            <p:cNvPr id="445" name=""/>
            <p:cNvSpPr/>
            <p:nvPr/>
          </p:nvSpPr>
          <p:spPr>
            <a:xfrm>
              <a:off x="228600" y="3733920"/>
              <a:ext cx="259092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Seja Confiden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00400" y="3733920"/>
              <a:ext cx="304920" cy="457200"/>
            </a:xfrm>
            <a:prstGeom prst="rightArrow">
              <a:avLst>
                <a:gd name="adj1" fmla="val 48611"/>
                <a:gd name="adj2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638320" y="3733920"/>
            <a:ext cx="3124800" cy="533160"/>
            <a:chOff x="5638320" y="3733920"/>
            <a:chExt cx="3124800" cy="533160"/>
          </a:xfrm>
        </p:grpSpPr>
        <p:sp>
          <p:nvSpPr>
            <p:cNvPr id="448" name=""/>
            <p:cNvSpPr/>
            <p:nvPr/>
          </p:nvSpPr>
          <p:spPr>
            <a:xfrm>
              <a:off x="6172200" y="3733920"/>
              <a:ext cx="259092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Não Repasse D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5637960" y="3733920"/>
              <a:ext cx="304920" cy="457200"/>
            </a:xfrm>
            <a:prstGeom prst="rightArrow">
              <a:avLst>
                <a:gd name="adj1" fmla="val 48611"/>
                <a:gd name="adj2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28600" y="1905120"/>
            <a:ext cx="3241440" cy="1031400"/>
            <a:chOff x="228600" y="1905120"/>
            <a:chExt cx="3241440" cy="1031400"/>
          </a:xfrm>
        </p:grpSpPr>
        <p:sp>
          <p:nvSpPr>
            <p:cNvPr id="451" name=""/>
            <p:cNvSpPr/>
            <p:nvPr/>
          </p:nvSpPr>
          <p:spPr>
            <a:xfrm>
              <a:off x="228600" y="1905120"/>
              <a:ext cx="2590920" cy="533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Use Dados Lega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2700000">
              <a:off x="3047760" y="2438280"/>
              <a:ext cx="304920" cy="457200"/>
            </a:xfrm>
            <a:prstGeom prst="rightArrow">
              <a:avLst>
                <a:gd name="adj1" fmla="val 48611"/>
                <a:gd name="adj2" fmla="val 50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28600" y="4988160"/>
            <a:ext cx="3317400" cy="1107720"/>
            <a:chOff x="228600" y="4988160"/>
            <a:chExt cx="3317400" cy="1107720"/>
          </a:xfrm>
        </p:grpSpPr>
        <p:sp>
          <p:nvSpPr>
            <p:cNvPr id="454" name=""/>
            <p:cNvSpPr/>
            <p:nvPr/>
          </p:nvSpPr>
          <p:spPr>
            <a:xfrm>
              <a:off x="228600" y="5562720"/>
              <a:ext cx="2590920" cy="533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Compartilhe D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900000">
              <a:off x="3123720" y="5028840"/>
              <a:ext cx="304920" cy="457200"/>
            </a:xfrm>
            <a:prstGeom prst="rightArrow">
              <a:avLst>
                <a:gd name="adj1" fmla="val 48611"/>
                <a:gd name="adj2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429000" y="2857680"/>
            <a:ext cx="2286000" cy="2552400"/>
            <a:chOff x="3429000" y="2857680"/>
            <a:chExt cx="2286000" cy="2552400"/>
          </a:xfrm>
        </p:grpSpPr>
        <p:pic>
          <p:nvPicPr>
            <p:cNvPr id="457" name="j0214917" descr=""/>
            <p:cNvPicPr/>
            <p:nvPr/>
          </p:nvPicPr>
          <p:blipFill>
            <a:blip r:embed="rId9"/>
            <a:stretch/>
          </p:blipFill>
          <p:spPr>
            <a:xfrm>
              <a:off x="3429000" y="2857680"/>
              <a:ext cx="2286000" cy="22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3733920" y="5105520"/>
              <a:ext cx="1676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Benchmar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673960" y="1905120"/>
            <a:ext cx="3089160" cy="1031400"/>
            <a:chOff x="5673960" y="1905120"/>
            <a:chExt cx="3089160" cy="1031400"/>
          </a:xfrm>
        </p:grpSpPr>
        <p:sp>
          <p:nvSpPr>
            <p:cNvPr id="460" name=""/>
            <p:cNvSpPr/>
            <p:nvPr/>
          </p:nvSpPr>
          <p:spPr>
            <a:xfrm>
              <a:off x="6172200" y="1905120"/>
              <a:ext cx="2590920" cy="533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ndisclo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rot="18900000">
              <a:off x="5790240" y="2438280"/>
              <a:ext cx="304920" cy="457200"/>
            </a:xfrm>
            <a:prstGeom prst="rightArrow">
              <a:avLst>
                <a:gd name="adj1" fmla="val 48611"/>
                <a:gd name="adj2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674320" y="4988520"/>
            <a:ext cx="3088800" cy="1107360"/>
            <a:chOff x="5674320" y="4988520"/>
            <a:chExt cx="3088800" cy="1107360"/>
          </a:xfrm>
        </p:grpSpPr>
        <p:sp>
          <p:nvSpPr>
            <p:cNvPr id="463" name=""/>
            <p:cNvSpPr/>
            <p:nvPr/>
          </p:nvSpPr>
          <p:spPr>
            <a:xfrm>
              <a:off x="6172200" y="5562720"/>
              <a:ext cx="2590920" cy="5331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Evite Confl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rot="2700000">
              <a:off x="5791320" y="5028840"/>
              <a:ext cx="304560" cy="457200"/>
            </a:xfrm>
            <a:prstGeom prst="rightArrow">
              <a:avLst>
                <a:gd name="adj1" fmla="val 48611"/>
                <a:gd name="adj2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C51-5316-4AD7-820C-8C09CE62C9D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69D7F-199C-43BF-85DC-F004C5DFB3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Nível 4: Característica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66" name=""/>
          <p:cNvSpPr/>
          <p:nvPr/>
        </p:nvSpPr>
        <p:spPr>
          <a:xfrm>
            <a:off x="3809880" y="1752480"/>
            <a:ext cx="1752840" cy="441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29000" y="2057400"/>
            <a:ext cx="304920" cy="457200"/>
          </a:xfrm>
          <a:prstGeom prst="rightArrow">
            <a:avLst>
              <a:gd name="adj1" fmla="val 48611"/>
              <a:gd name="adj2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791320" y="2438280"/>
            <a:ext cx="304560" cy="457200"/>
          </a:xfrm>
          <a:prstGeom prst="rightArrow">
            <a:avLst>
              <a:gd name="adj1" fmla="val 48611"/>
              <a:gd name="adj2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5791320" y="4724280"/>
            <a:ext cx="304560" cy="457200"/>
          </a:xfrm>
          <a:prstGeom prst="rightArrow">
            <a:avLst>
              <a:gd name="adj1" fmla="val 48611"/>
              <a:gd name="adj2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29000" y="5334120"/>
            <a:ext cx="304920" cy="457200"/>
          </a:xfrm>
          <a:prstGeom prst="rightArrow">
            <a:avLst>
              <a:gd name="adj1" fmla="val 48611"/>
              <a:gd name="adj2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28600" y="1600200"/>
            <a:ext cx="3103560" cy="1447920"/>
            <a:chOff x="228600" y="1600200"/>
            <a:chExt cx="3103560" cy="1447920"/>
          </a:xfrm>
        </p:grpSpPr>
        <p:sp>
          <p:nvSpPr>
            <p:cNvPr id="472" name=""/>
            <p:cNvSpPr/>
            <p:nvPr/>
          </p:nvSpPr>
          <p:spPr>
            <a:xfrm>
              <a:off x="304560" y="2666880"/>
              <a:ext cx="289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Escritórios / Cen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PH01619J" descr=""/>
            <p:cNvPicPr/>
            <p:nvPr/>
          </p:nvPicPr>
          <p:blipFill>
            <a:blip r:embed="rId5"/>
            <a:stretch/>
          </p:blipFill>
          <p:spPr>
            <a:xfrm>
              <a:off x="228600" y="1600200"/>
              <a:ext cx="15238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j0182462" descr=""/>
            <p:cNvPicPr/>
            <p:nvPr/>
          </p:nvPicPr>
          <p:blipFill>
            <a:blip r:embed="rId6"/>
            <a:stretch/>
          </p:blipFill>
          <p:spPr>
            <a:xfrm>
              <a:off x="1752480" y="1600200"/>
              <a:ext cx="157968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"/>
          <p:cNvGrpSpPr/>
          <p:nvPr/>
        </p:nvGrpSpPr>
        <p:grpSpPr>
          <a:xfrm>
            <a:off x="1143000" y="3124080"/>
            <a:ext cx="2209680" cy="1828800"/>
            <a:chOff x="1143000" y="3124080"/>
            <a:chExt cx="2209680" cy="1828800"/>
          </a:xfrm>
        </p:grpSpPr>
        <p:pic>
          <p:nvPicPr>
            <p:cNvPr id="476" name="j0078616" descr=""/>
            <p:cNvPicPr/>
            <p:nvPr/>
          </p:nvPicPr>
          <p:blipFill>
            <a:blip r:embed="rId7"/>
            <a:stretch/>
          </p:blipFill>
          <p:spPr>
            <a:xfrm>
              <a:off x="1143000" y="3124080"/>
              <a:ext cx="220968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1219320" y="457200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edic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248520" y="1676520"/>
            <a:ext cx="2666880" cy="2057400"/>
            <a:chOff x="6248520" y="1676520"/>
            <a:chExt cx="2666880" cy="2057400"/>
          </a:xfrm>
        </p:grpSpPr>
        <p:sp>
          <p:nvSpPr>
            <p:cNvPr id="479" name=""/>
            <p:cNvSpPr/>
            <p:nvPr/>
          </p:nvSpPr>
          <p:spPr>
            <a:xfrm>
              <a:off x="6248520" y="342900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Quantitativo (P&amp;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0" name="ph02039k" descr=""/>
            <p:cNvPicPr/>
            <p:nvPr/>
          </p:nvPicPr>
          <p:blipFill>
            <a:blip r:embed="rId8"/>
            <a:stretch/>
          </p:blipFill>
          <p:spPr>
            <a:xfrm>
              <a:off x="6248520" y="1676520"/>
              <a:ext cx="2666880" cy="17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1" name=""/>
          <p:cNvGrpSpPr/>
          <p:nvPr/>
        </p:nvGrpSpPr>
        <p:grpSpPr>
          <a:xfrm>
            <a:off x="6248520" y="3886200"/>
            <a:ext cx="2743200" cy="2361960"/>
            <a:chOff x="6248520" y="3886200"/>
            <a:chExt cx="2743200" cy="2361960"/>
          </a:xfrm>
        </p:grpSpPr>
        <p:sp>
          <p:nvSpPr>
            <p:cNvPr id="482" name=""/>
            <p:cNvSpPr/>
            <p:nvPr/>
          </p:nvSpPr>
          <p:spPr>
            <a:xfrm>
              <a:off x="6248520" y="5943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Qualitativo (Cultur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3" name="ph01908j" descr=""/>
            <p:cNvPicPr/>
            <p:nvPr/>
          </p:nvPicPr>
          <p:blipFill>
            <a:blip r:embed="rId9"/>
            <a:stretch/>
          </p:blipFill>
          <p:spPr>
            <a:xfrm>
              <a:off x="6262560" y="3886200"/>
              <a:ext cx="135756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j0178434" descr=""/>
            <p:cNvPicPr/>
            <p:nvPr/>
          </p:nvPicPr>
          <p:blipFill>
            <a:blip r:embed="rId10"/>
            <a:stretch/>
          </p:blipFill>
          <p:spPr>
            <a:xfrm>
              <a:off x="7620120" y="3886200"/>
              <a:ext cx="137160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5" name=""/>
          <p:cNvGrpSpPr/>
          <p:nvPr/>
        </p:nvGrpSpPr>
        <p:grpSpPr>
          <a:xfrm>
            <a:off x="152280" y="4952880"/>
            <a:ext cx="3200400" cy="1524240"/>
            <a:chOff x="152280" y="4952880"/>
            <a:chExt cx="3200400" cy="1524240"/>
          </a:xfrm>
        </p:grpSpPr>
        <p:sp>
          <p:nvSpPr>
            <p:cNvPr id="486" name=""/>
            <p:cNvSpPr/>
            <p:nvPr/>
          </p:nvSpPr>
          <p:spPr>
            <a:xfrm>
              <a:off x="228600" y="6095880"/>
              <a:ext cx="3124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Ind. Similares ou N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7" name="j0180741" descr=""/>
            <p:cNvPicPr/>
            <p:nvPr/>
          </p:nvPicPr>
          <p:blipFill>
            <a:blip r:embed="rId11"/>
            <a:stretch/>
          </p:blipFill>
          <p:spPr>
            <a:xfrm>
              <a:off x="1676520" y="4952880"/>
              <a:ext cx="16761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j0178474" descr=""/>
            <p:cNvPicPr/>
            <p:nvPr/>
          </p:nvPicPr>
          <p:blipFill>
            <a:blip r:embed="rId12"/>
            <a:stretch/>
          </p:blipFill>
          <p:spPr>
            <a:xfrm>
              <a:off x="152280" y="4952880"/>
              <a:ext cx="152424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"/>
          <p:cNvSpPr/>
          <p:nvPr/>
        </p:nvSpPr>
        <p:spPr>
          <a:xfrm>
            <a:off x="3429000" y="3657600"/>
            <a:ext cx="304920" cy="457200"/>
          </a:xfrm>
          <a:prstGeom prst="rightArrow">
            <a:avLst>
              <a:gd name="adj1" fmla="val 48611"/>
              <a:gd name="adj2" fmla="val 50000"/>
            </a:avLst>
          </a:prstGeom>
          <a:blipFill rotWithShape="0">
            <a:blip r:embed="rId1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5F5C-9192-43AA-A824-6E4ED43A150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03D34-4D6D-49AA-9475-E62BAF2081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700" spc="-1" strike="noStrike">
                <a:solidFill>
                  <a:srgbClr val="ffc545"/>
                </a:solidFill>
                <a:latin typeface="Impact"/>
              </a:rPr>
              <a:t>Escritório de Projeto x Centro de Excelência</a:t>
            </a:r>
            <a:endParaRPr b="0" lang="en-US" sz="37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4800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O conhecimento da gerência de projeto é essencial para a sobrevivência da empres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Deve pertencer à organização e não aos indivídu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39840" y="1600200"/>
            <a:ext cx="8423280" cy="3057480"/>
            <a:chOff x="339840" y="1600200"/>
            <a:chExt cx="8423280" cy="3057480"/>
          </a:xfrm>
        </p:grpSpPr>
        <p:grpSp>
          <p:nvGrpSpPr>
            <p:cNvPr id="493" name=""/>
            <p:cNvGrpSpPr/>
            <p:nvPr/>
          </p:nvGrpSpPr>
          <p:grpSpPr>
            <a:xfrm>
              <a:off x="344520" y="1604880"/>
              <a:ext cx="8413920" cy="3048120"/>
              <a:chOff x="344520" y="1604880"/>
              <a:chExt cx="8413920" cy="3048120"/>
            </a:xfrm>
          </p:grpSpPr>
          <p:grpSp>
            <p:nvGrpSpPr>
              <p:cNvPr id="494" name=""/>
              <p:cNvGrpSpPr/>
              <p:nvPr/>
            </p:nvGrpSpPr>
            <p:grpSpPr>
              <a:xfrm>
                <a:off x="344520" y="1604880"/>
                <a:ext cx="3921120" cy="609480"/>
                <a:chOff x="344520" y="1604880"/>
                <a:chExt cx="3921120" cy="60948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44520" y="1604880"/>
                  <a:ext cx="3921120" cy="6094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6" name=""/>
                <p:cNvGrpSpPr/>
                <p:nvPr/>
              </p:nvGrpSpPr>
              <p:grpSpPr>
                <a:xfrm>
                  <a:off x="344520" y="1604880"/>
                  <a:ext cx="3921120" cy="609480"/>
                  <a:chOff x="344520" y="1604880"/>
                  <a:chExt cx="3921120" cy="60948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412920" y="1604880"/>
                    <a:ext cx="3784320" cy="60948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3200" spc="-1" strike="noStrike">
                        <a:solidFill>
                          <a:srgbClr val="000000"/>
                        </a:solidFill>
                        <a:latin typeface="Impact"/>
                        <a:ea typeface="Times New Roman"/>
                      </a:rPr>
                      <a:t>Escritório de Projet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344520" y="1604880"/>
                    <a:ext cx="3921120" cy="6094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9" name=""/>
              <p:cNvGrpSpPr/>
              <p:nvPr/>
            </p:nvGrpSpPr>
            <p:grpSpPr>
              <a:xfrm>
                <a:off x="4265640" y="1604880"/>
                <a:ext cx="4492800" cy="609480"/>
                <a:chOff x="4265640" y="1604880"/>
                <a:chExt cx="4492800" cy="6094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4265640" y="1604880"/>
                  <a:ext cx="4492800" cy="6094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1" name=""/>
                <p:cNvGrpSpPr/>
                <p:nvPr/>
              </p:nvGrpSpPr>
              <p:grpSpPr>
                <a:xfrm>
                  <a:off x="4265640" y="1604880"/>
                  <a:ext cx="4492800" cy="609480"/>
                  <a:chOff x="4265640" y="1604880"/>
                  <a:chExt cx="4492800" cy="60948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4334040" y="1604880"/>
                    <a:ext cx="4356000" cy="60948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3200" spc="-1" strike="noStrike">
                        <a:solidFill>
                          <a:srgbClr val="000000"/>
                        </a:solidFill>
                        <a:latin typeface="Impact"/>
                        <a:ea typeface="Times New Roman"/>
                      </a:rPr>
                      <a:t>Centro de Excelência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4265640" y="1604880"/>
                    <a:ext cx="4492800" cy="6094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4" name=""/>
              <p:cNvGrpSpPr/>
              <p:nvPr/>
            </p:nvGrpSpPr>
            <p:grpSpPr>
              <a:xfrm>
                <a:off x="344520" y="2214360"/>
                <a:ext cx="3921120" cy="609840"/>
                <a:chOff x="344520" y="2214360"/>
                <a:chExt cx="3921120" cy="60984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44520" y="2214360"/>
                  <a:ext cx="3921120" cy="6098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6" name=""/>
                <p:cNvGrpSpPr/>
                <p:nvPr/>
              </p:nvGrpSpPr>
              <p:grpSpPr>
                <a:xfrm>
                  <a:off x="344520" y="2214360"/>
                  <a:ext cx="3921120" cy="609840"/>
                  <a:chOff x="344520" y="2214360"/>
                  <a:chExt cx="3921120" cy="60984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412920" y="2214360"/>
                    <a:ext cx="3784320" cy="6098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Função de linha permanente para gerente de proje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344520" y="2214360"/>
                    <a:ext cx="3921120" cy="6098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9" name=""/>
              <p:cNvGrpSpPr/>
              <p:nvPr/>
            </p:nvGrpSpPr>
            <p:grpSpPr>
              <a:xfrm>
                <a:off x="4265640" y="2214360"/>
                <a:ext cx="4492800" cy="609840"/>
                <a:chOff x="4265640" y="2214360"/>
                <a:chExt cx="4492800" cy="6098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265640" y="2214360"/>
                  <a:ext cx="4492800" cy="6098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1" name=""/>
                <p:cNvGrpSpPr/>
                <p:nvPr/>
              </p:nvGrpSpPr>
              <p:grpSpPr>
                <a:xfrm>
                  <a:off x="4265640" y="2214360"/>
                  <a:ext cx="4492800" cy="609840"/>
                  <a:chOff x="4265640" y="2214360"/>
                  <a:chExt cx="4492800" cy="60984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>
                    <a:off x="4334040" y="2214360"/>
                    <a:ext cx="4356000" cy="6098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de ser um comitê formal ou informal (e pode ser de tempo parcial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4265640" y="2214360"/>
                    <a:ext cx="4492800" cy="6098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4" name=""/>
              <p:cNvGrpSpPr/>
              <p:nvPr/>
            </p:nvGrpSpPr>
            <p:grpSpPr>
              <a:xfrm>
                <a:off x="344520" y="2824200"/>
                <a:ext cx="3921120" cy="609480"/>
                <a:chOff x="344520" y="2824200"/>
                <a:chExt cx="3921120" cy="60948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344520" y="2824200"/>
                  <a:ext cx="3921120" cy="6094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6" name=""/>
                <p:cNvGrpSpPr/>
                <p:nvPr/>
              </p:nvGrpSpPr>
              <p:grpSpPr>
                <a:xfrm>
                  <a:off x="344520" y="2824200"/>
                  <a:ext cx="3921120" cy="609480"/>
                  <a:chOff x="344520" y="2824200"/>
                  <a:chExt cx="3921120" cy="60948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>
                    <a:off x="412920" y="2824200"/>
                    <a:ext cx="3784320" cy="6094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Foco nas lições aprendidas internamen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344520" y="2824200"/>
                    <a:ext cx="3921120" cy="6094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4265640" y="2824200"/>
                <a:ext cx="4492800" cy="609480"/>
                <a:chOff x="4265640" y="2824200"/>
                <a:chExt cx="4492800" cy="60948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265640" y="2824200"/>
                  <a:ext cx="4492800" cy="6094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4265640" y="2824200"/>
                  <a:ext cx="4492800" cy="609480"/>
                  <a:chOff x="4265640" y="2824200"/>
                  <a:chExt cx="4492800" cy="60948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4334040" y="2824200"/>
                    <a:ext cx="4356000" cy="6094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Focado no benchmarking extern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4265640" y="2824200"/>
                    <a:ext cx="4492800" cy="6094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4" name=""/>
              <p:cNvGrpSpPr/>
              <p:nvPr/>
            </p:nvGrpSpPr>
            <p:grpSpPr>
              <a:xfrm>
                <a:off x="344520" y="3433680"/>
                <a:ext cx="3921120" cy="609480"/>
                <a:chOff x="344520" y="3433680"/>
                <a:chExt cx="3921120" cy="60948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344520" y="3433680"/>
                  <a:ext cx="3921120" cy="6094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344520" y="3433680"/>
                  <a:ext cx="3921120" cy="609480"/>
                  <a:chOff x="344520" y="3433680"/>
                  <a:chExt cx="3921120" cy="60948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412920" y="3433680"/>
                    <a:ext cx="3784320" cy="6094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quer um campeão para a implantação da metodologi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344520" y="3433680"/>
                    <a:ext cx="3921120" cy="6094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9" name=""/>
              <p:cNvGrpSpPr/>
              <p:nvPr/>
            </p:nvGrpSpPr>
            <p:grpSpPr>
              <a:xfrm>
                <a:off x="4265640" y="3433680"/>
                <a:ext cx="4492800" cy="609480"/>
                <a:chOff x="4265640" y="3433680"/>
                <a:chExt cx="4492800" cy="60948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265640" y="3433680"/>
                  <a:ext cx="4492800" cy="6094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1" name=""/>
                <p:cNvGrpSpPr/>
                <p:nvPr/>
              </p:nvGrpSpPr>
              <p:grpSpPr>
                <a:xfrm>
                  <a:off x="4265640" y="3433680"/>
                  <a:ext cx="4492800" cy="609480"/>
                  <a:chOff x="4265640" y="3433680"/>
                  <a:chExt cx="4492800" cy="60948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4334040" y="3433680"/>
                    <a:ext cx="4356000" cy="6094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quer um campeão para melhoramento e benchmarking contínuo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4265640" y="3433680"/>
                    <a:ext cx="4492800" cy="6094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4" name=""/>
              <p:cNvGrpSpPr/>
              <p:nvPr/>
            </p:nvGrpSpPr>
            <p:grpSpPr>
              <a:xfrm>
                <a:off x="344520" y="4043160"/>
                <a:ext cx="3921120" cy="609840"/>
                <a:chOff x="344520" y="4043160"/>
                <a:chExt cx="3921120" cy="60984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344520" y="4043160"/>
                  <a:ext cx="3921120" cy="6098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6" name=""/>
                <p:cNvGrpSpPr/>
                <p:nvPr/>
              </p:nvGrpSpPr>
              <p:grpSpPr>
                <a:xfrm>
                  <a:off x="344520" y="4043160"/>
                  <a:ext cx="3921120" cy="609840"/>
                  <a:chOff x="344520" y="4043160"/>
                  <a:chExt cx="3921120" cy="60984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412920" y="4043160"/>
                    <a:ext cx="3784320" cy="6098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quer perícia no uso de ferramentas de gerência de proje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344520" y="4043160"/>
                    <a:ext cx="3921120" cy="6098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9" name=""/>
              <p:cNvGrpSpPr/>
              <p:nvPr/>
            </p:nvGrpSpPr>
            <p:grpSpPr>
              <a:xfrm>
                <a:off x="4265640" y="4043160"/>
                <a:ext cx="4492800" cy="609840"/>
                <a:chOff x="4265640" y="4043160"/>
                <a:chExt cx="4492800" cy="60984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4265640" y="4043160"/>
                  <a:ext cx="4492800" cy="6098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1" name=""/>
                <p:cNvGrpSpPr/>
                <p:nvPr/>
              </p:nvGrpSpPr>
              <p:grpSpPr>
                <a:xfrm>
                  <a:off x="4265640" y="4043160"/>
                  <a:ext cx="4492800" cy="609840"/>
                  <a:chOff x="4265640" y="4043160"/>
                  <a:chExt cx="4492800" cy="60984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>
                    <a:off x="4334040" y="4043160"/>
                    <a:ext cx="4356000" cy="6098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quer perícia na identificação de ferramentas de gerência de proje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4265640" y="4043160"/>
                    <a:ext cx="4492800" cy="6098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4" name=""/>
            <p:cNvSpPr/>
            <p:nvPr/>
          </p:nvSpPr>
          <p:spPr>
            <a:xfrm>
              <a:off x="339840" y="1600200"/>
              <a:ext cx="8423280" cy="30574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EB74-FAC6-40F6-8E30-CA6574C7B0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D8547-F457-4047-AEBD-4638FA3B17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Oportunidades Quantitativa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46" name=""/>
          <p:cNvSpPr/>
          <p:nvPr/>
        </p:nvSpPr>
        <p:spPr>
          <a:xfrm>
            <a:off x="533520" y="3886200"/>
            <a:ext cx="1295280" cy="6094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Oportunida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de Integraçã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3886200"/>
            <a:ext cx="1295280" cy="6094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Atualizaçã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Metodológic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09880" y="3886200"/>
            <a:ext cx="1295640" cy="6094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Gerência 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Qualidade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09880" y="3048120"/>
            <a:ext cx="1295640" cy="6094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Engenhar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Concorr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09880" y="2209680"/>
            <a:ext cx="1295640" cy="609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Gerência 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Proje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09880" y="4724280"/>
            <a:ext cx="1295640" cy="609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G.de Mudanç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de Escop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09880" y="5562720"/>
            <a:ext cx="1295640" cy="6094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Gerência 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Ris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"/>
          <p:cNvCxnSpPr>
            <a:stCxn id="546" idx="3"/>
            <a:endCxn id="547" idx="1"/>
          </p:cNvCxnSpPr>
          <p:nvPr/>
        </p:nvCxnSpPr>
        <p:spPr>
          <a:xfrm>
            <a:off x="1828440" y="4190760"/>
            <a:ext cx="229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54" name=""/>
          <p:cNvCxnSpPr>
            <a:stCxn id="547" idx="3"/>
            <a:endCxn id="548" idx="1"/>
          </p:cNvCxnSpPr>
          <p:nvPr/>
        </p:nvCxnSpPr>
        <p:spPr>
          <a:xfrm>
            <a:off x="3352680" y="4190760"/>
            <a:ext cx="457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55" name=""/>
          <p:cNvCxnSpPr>
            <a:stCxn id="547" idx="3"/>
            <a:endCxn id="550" idx="1"/>
          </p:cNvCxnSpPr>
          <p:nvPr/>
        </p:nvCxnSpPr>
        <p:spPr>
          <a:xfrm flipV="1">
            <a:off x="3352680" y="2513880"/>
            <a:ext cx="457920" cy="167724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56" name=""/>
          <p:cNvCxnSpPr>
            <a:stCxn id="547" idx="3"/>
            <a:endCxn id="549" idx="1"/>
          </p:cNvCxnSpPr>
          <p:nvPr/>
        </p:nvCxnSpPr>
        <p:spPr>
          <a:xfrm flipV="1">
            <a:off x="3352680" y="3351960"/>
            <a:ext cx="457920" cy="83916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47" idx="3"/>
            <a:endCxn id="551" idx="1"/>
          </p:cNvCxnSpPr>
          <p:nvPr/>
        </p:nvCxnSpPr>
        <p:spPr>
          <a:xfrm>
            <a:off x="3352680" y="4191120"/>
            <a:ext cx="457920" cy="83880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47" idx="3"/>
            <a:endCxn id="552" idx="1"/>
          </p:cNvCxnSpPr>
          <p:nvPr/>
        </p:nvCxnSpPr>
        <p:spPr>
          <a:xfrm>
            <a:off x="3352680" y="4191120"/>
            <a:ext cx="457920" cy="167688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5486400" y="2209680"/>
            <a:ext cx="304812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ntrole de Custos Ajus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Modelo de Recursos da Corpo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Eficiência &amp; Efetiv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86400" y="3048120"/>
            <a:ext cx="304812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ronogramas Parciais e Id. de Ris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nálise de Restrições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Envolvimento dos Fornec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86400" y="3886200"/>
            <a:ext cx="304812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Baixo Custo da Qual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Envolvimento dos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Envolvimento dos Fornec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86400" y="4724280"/>
            <a:ext cx="304812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nálise de Impa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Gerenciamento 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Encarecimento de Proje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86400" y="5562720"/>
            <a:ext cx="304812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nálises da EAP (WB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nálises Técnicas de Ris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Envolvimento dos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5105520" y="5638680"/>
            <a:ext cx="381240" cy="457200"/>
            <a:chOff x="5105520" y="5638680"/>
            <a:chExt cx="381240" cy="457200"/>
          </a:xfrm>
        </p:grpSpPr>
        <p:cxnSp>
          <p:nvCxnSpPr>
            <p:cNvPr id="565" name=""/>
            <p:cNvCxnSpPr/>
            <p:nvPr/>
          </p:nvCxnSpPr>
          <p:spPr>
            <a:xfrm>
              <a:off x="5105520" y="5866920"/>
              <a:ext cx="3816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566" name=""/>
            <p:cNvSpPr/>
            <p:nvPr/>
          </p:nvSpPr>
          <p:spPr>
            <a:xfrm>
              <a:off x="5334120" y="56386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5320800" y="609588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320800" y="565128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105520" y="4800600"/>
            <a:ext cx="381240" cy="457200"/>
            <a:chOff x="5105520" y="4800600"/>
            <a:chExt cx="381240" cy="457200"/>
          </a:xfrm>
        </p:grpSpPr>
        <p:cxnSp>
          <p:nvCxnSpPr>
            <p:cNvPr id="570" name=""/>
            <p:cNvCxnSpPr/>
            <p:nvPr/>
          </p:nvCxnSpPr>
          <p:spPr>
            <a:xfrm>
              <a:off x="5105520" y="5028840"/>
              <a:ext cx="3816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571" name=""/>
            <p:cNvSpPr/>
            <p:nvPr/>
          </p:nvSpPr>
          <p:spPr>
            <a:xfrm>
              <a:off x="5334120" y="480060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5320800" y="525780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5320800" y="481320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105520" y="3962520"/>
            <a:ext cx="381240" cy="457200"/>
            <a:chOff x="5105520" y="3962520"/>
            <a:chExt cx="381240" cy="457200"/>
          </a:xfrm>
        </p:grpSpPr>
        <p:cxnSp>
          <p:nvCxnSpPr>
            <p:cNvPr id="575" name=""/>
            <p:cNvCxnSpPr/>
            <p:nvPr/>
          </p:nvCxnSpPr>
          <p:spPr>
            <a:xfrm>
              <a:off x="5105520" y="4190760"/>
              <a:ext cx="3816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576" name=""/>
            <p:cNvSpPr/>
            <p:nvPr/>
          </p:nvSpPr>
          <p:spPr>
            <a:xfrm>
              <a:off x="5334120" y="3962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320800" y="441972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5320800" y="397512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105520" y="3124080"/>
            <a:ext cx="381240" cy="457200"/>
            <a:chOff x="5105520" y="3124080"/>
            <a:chExt cx="381240" cy="457200"/>
          </a:xfrm>
        </p:grpSpPr>
        <p:cxnSp>
          <p:nvCxnSpPr>
            <p:cNvPr id="580" name=""/>
            <p:cNvCxnSpPr/>
            <p:nvPr/>
          </p:nvCxnSpPr>
          <p:spPr>
            <a:xfrm>
              <a:off x="5105520" y="3352320"/>
              <a:ext cx="3816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581" name=""/>
            <p:cNvSpPr/>
            <p:nvPr/>
          </p:nvSpPr>
          <p:spPr>
            <a:xfrm>
              <a:off x="5334120" y="31240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5320800" y="358128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5320800" y="313668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105520" y="2286000"/>
            <a:ext cx="381240" cy="457200"/>
            <a:chOff x="5105520" y="2286000"/>
            <a:chExt cx="381240" cy="457200"/>
          </a:xfrm>
        </p:grpSpPr>
        <p:cxnSp>
          <p:nvCxnSpPr>
            <p:cNvPr id="585" name=""/>
            <p:cNvCxnSpPr/>
            <p:nvPr/>
          </p:nvCxnSpPr>
          <p:spPr>
            <a:xfrm>
              <a:off x="5105520" y="2514240"/>
              <a:ext cx="3816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586" name=""/>
            <p:cNvSpPr/>
            <p:nvPr/>
          </p:nvSpPr>
          <p:spPr>
            <a:xfrm>
              <a:off x="5334120" y="228600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5320800" y="274320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320800" y="229860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9" name="ph02039k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667240" cy="176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977-F91F-4D2C-8B7E-5D1CFDDA59E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8D8D6-FC9E-462F-BB0B-0AEECBA5AB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867280" y="1523880"/>
            <a:ext cx="1676520" cy="22100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Análises Inter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1523880"/>
            <a:ext cx="1676520" cy="22100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Análises Exter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Planejamento Estratégico Básic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1600200"/>
            <a:ext cx="1523880" cy="609480"/>
          </a:xfrm>
          <a:prstGeom prst="rect">
            <a:avLst/>
          </a:prstGeom>
          <a:solidFill>
            <a:srgbClr val="66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Oportun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e Ameaç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76520" y="2666880"/>
            <a:ext cx="1523880" cy="609840"/>
          </a:xfrm>
          <a:prstGeom prst="rect">
            <a:avLst/>
          </a:prstGeom>
          <a:solidFill>
            <a:srgbClr val="66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Responsabil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Social da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600200"/>
            <a:ext cx="1524240" cy="609480"/>
          </a:xfrm>
          <a:prstGeom prst="rect">
            <a:avLst/>
          </a:prstGeom>
          <a:solidFill>
            <a:srgbClr val="66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Junta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nforma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1600200"/>
            <a:ext cx="1523880" cy="609480"/>
          </a:xfrm>
          <a:prstGeom prst="rect">
            <a:avLst/>
          </a:prstGeom>
          <a:solidFill>
            <a:srgbClr val="66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Fortalezas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Fraquez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2666880"/>
            <a:ext cx="1523880" cy="609840"/>
          </a:xfrm>
          <a:prstGeom prst="rect">
            <a:avLst/>
          </a:prstGeom>
          <a:solidFill>
            <a:srgbClr val="66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dministra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2666880"/>
            <a:ext cx="1524240" cy="609840"/>
          </a:xfrm>
          <a:prstGeom prst="rect">
            <a:avLst/>
          </a:prstGeom>
          <a:solidFill>
            <a:srgbClr val="66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valia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nforma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3733920"/>
            <a:ext cx="1524240" cy="609480"/>
          </a:xfrm>
          <a:prstGeom prst="rect">
            <a:avLst/>
          </a:prstGeom>
          <a:solidFill>
            <a:srgbClr val="66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vali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4800600"/>
            <a:ext cx="1524240" cy="609480"/>
          </a:xfrm>
          <a:prstGeom prst="rect">
            <a:avLst/>
          </a:prstGeom>
          <a:solidFill>
            <a:srgbClr val="66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Sele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5867280"/>
            <a:ext cx="1524240" cy="609840"/>
          </a:xfrm>
          <a:prstGeom prst="rect">
            <a:avLst/>
          </a:prstGeom>
          <a:solidFill>
            <a:srgbClr val="66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mplement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29000" y="1676520"/>
            <a:ext cx="304920" cy="457200"/>
          </a:xfrm>
          <a:prstGeom prst="rightArrow">
            <a:avLst>
              <a:gd name="adj1" fmla="val 48611"/>
              <a:gd name="adj2" fmla="val 50000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304920" cy="457200"/>
          </a:xfrm>
          <a:prstGeom prst="rightArrow">
            <a:avLst>
              <a:gd name="adj1" fmla="val 48611"/>
              <a:gd name="adj2" fmla="val 50000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409360" y="1676520"/>
            <a:ext cx="304920" cy="457200"/>
          </a:xfrm>
          <a:prstGeom prst="rightArrow">
            <a:avLst>
              <a:gd name="adj1" fmla="val 48611"/>
              <a:gd name="adj2" fmla="val 50000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409360" y="2743200"/>
            <a:ext cx="304920" cy="457200"/>
          </a:xfrm>
          <a:prstGeom prst="rightArrow">
            <a:avLst>
              <a:gd name="adj1" fmla="val 48611"/>
              <a:gd name="adj2" fmla="val 50000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rot="16200000">
            <a:off x="4419360" y="2209680"/>
            <a:ext cx="304920" cy="457200"/>
          </a:xfrm>
          <a:prstGeom prst="rightArrow">
            <a:avLst>
              <a:gd name="adj1" fmla="val 48611"/>
              <a:gd name="adj2" fmla="val 50000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rot="16200000">
            <a:off x="4419360" y="3276360"/>
            <a:ext cx="304920" cy="457200"/>
          </a:xfrm>
          <a:prstGeom prst="rightArrow">
            <a:avLst>
              <a:gd name="adj1" fmla="val 48611"/>
              <a:gd name="adj2" fmla="val 50000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419720" y="4343400"/>
            <a:ext cx="304560" cy="457200"/>
          </a:xfrm>
          <a:prstGeom prst="rightArrow">
            <a:avLst>
              <a:gd name="adj1" fmla="val 48611"/>
              <a:gd name="adj2" fmla="val 50000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rot="16200000">
            <a:off x="4419360" y="5410080"/>
            <a:ext cx="304920" cy="457200"/>
          </a:xfrm>
          <a:prstGeom prst="rightArrow">
            <a:avLst>
              <a:gd name="adj1" fmla="val 48611"/>
              <a:gd name="adj2" fmla="val 50000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662-CC2B-43E9-931E-0976366C18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E0764-CF14-4352-B510-E5536F3F7AA6}" type="datetime1">
              <a:rPr lang="en-US"/>
              <a:t>07/30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Oportunidades Qualitativa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228600" y="1828800"/>
            <a:ext cx="2728800" cy="2057400"/>
            <a:chOff x="228600" y="1828800"/>
            <a:chExt cx="2728800" cy="2057400"/>
          </a:xfrm>
        </p:grpSpPr>
        <p:pic>
          <p:nvPicPr>
            <p:cNvPr id="592" name="ph01908j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135720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j0178434" descr=""/>
            <p:cNvPicPr/>
            <p:nvPr/>
          </p:nvPicPr>
          <p:blipFill>
            <a:blip r:embed="rId2"/>
            <a:stretch/>
          </p:blipFill>
          <p:spPr>
            <a:xfrm>
              <a:off x="1585800" y="1828800"/>
              <a:ext cx="137160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4" name=""/>
          <p:cNvSpPr/>
          <p:nvPr/>
        </p:nvSpPr>
        <p:spPr>
          <a:xfrm>
            <a:off x="152280" y="4267080"/>
            <a:ext cx="1295640" cy="7621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Oportunida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de Melhori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de Desempenh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76520" y="4267080"/>
            <a:ext cx="1295280" cy="7621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Atualizaçã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Metodológic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429000" y="4800600"/>
            <a:ext cx="1295280" cy="60948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429000" y="3962520"/>
            <a:ext cx="1295280" cy="60948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Process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429000" y="2895480"/>
            <a:ext cx="1295280" cy="6098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Aceitação 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Corporaçã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5638680"/>
            <a:ext cx="1295280" cy="6098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Encarecime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do 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4" idx="3"/>
            <a:endCxn id="595" idx="1"/>
          </p:cNvCxnSpPr>
          <p:nvPr/>
        </p:nvCxnSpPr>
        <p:spPr>
          <a:xfrm>
            <a:off x="1447560" y="4647960"/>
            <a:ext cx="229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01" name=""/>
          <p:cNvCxnSpPr>
            <a:stCxn id="595" idx="3"/>
            <a:endCxn id="598" idx="1"/>
          </p:cNvCxnSpPr>
          <p:nvPr/>
        </p:nvCxnSpPr>
        <p:spPr>
          <a:xfrm flipV="1">
            <a:off x="2971800" y="3200040"/>
            <a:ext cx="457920" cy="144864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02" name=""/>
          <p:cNvCxnSpPr>
            <a:stCxn id="595" idx="3"/>
            <a:endCxn id="597" idx="1"/>
          </p:cNvCxnSpPr>
          <p:nvPr/>
        </p:nvCxnSpPr>
        <p:spPr>
          <a:xfrm flipV="1">
            <a:off x="2971800" y="4266360"/>
            <a:ext cx="457920" cy="38196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03" name=""/>
          <p:cNvCxnSpPr>
            <a:stCxn id="595" idx="3"/>
            <a:endCxn id="599" idx="1"/>
          </p:cNvCxnSpPr>
          <p:nvPr/>
        </p:nvCxnSpPr>
        <p:spPr>
          <a:xfrm>
            <a:off x="2971800" y="4648320"/>
            <a:ext cx="457920" cy="129600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604" name=""/>
          <p:cNvSpPr/>
          <p:nvPr/>
        </p:nvSpPr>
        <p:spPr>
          <a:xfrm>
            <a:off x="5105520" y="2666880"/>
            <a:ext cx="380988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umento de uso/lealdade dos usuários exist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tração de novos usuários inte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esencoraje a criação de metodologias parale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Mostre os benefícios atuais e fut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Mostre o custo do trabalho paral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105520" y="4038480"/>
            <a:ext cx="3809880" cy="457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ntegração de processos exist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ntegração de novos proces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05520" y="4800600"/>
            <a:ext cx="380988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ndústrias não simila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Novas Idéias e Aplica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ndústrias simil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105520" y="5715000"/>
            <a:ext cx="3809880" cy="457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tualizações Inter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Novas Comp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723920" y="2743200"/>
            <a:ext cx="381600" cy="457560"/>
            <a:chOff x="4723920" y="2743200"/>
            <a:chExt cx="381600" cy="457560"/>
          </a:xfrm>
        </p:grpSpPr>
        <p:cxnSp>
          <p:nvCxnSpPr>
            <p:cNvPr id="609" name=""/>
            <p:cNvCxnSpPr/>
            <p:nvPr/>
          </p:nvCxnSpPr>
          <p:spPr>
            <a:xfrm>
              <a:off x="4723920" y="3200040"/>
              <a:ext cx="3819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610" name=""/>
            <p:cNvSpPr/>
            <p:nvPr/>
          </p:nvSpPr>
          <p:spPr>
            <a:xfrm>
              <a:off x="4952880" y="274320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4939920" y="274320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4939920" y="298476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3" name=""/>
          <p:cNvCxnSpPr>
            <a:stCxn id="595" idx="3"/>
            <a:endCxn id="596" idx="1"/>
          </p:cNvCxnSpPr>
          <p:nvPr/>
        </p:nvCxnSpPr>
        <p:spPr>
          <a:xfrm>
            <a:off x="2971800" y="4648320"/>
            <a:ext cx="457920" cy="45792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grpSp>
        <p:nvGrpSpPr>
          <p:cNvPr id="614" name=""/>
          <p:cNvGrpSpPr/>
          <p:nvPr/>
        </p:nvGrpSpPr>
        <p:grpSpPr>
          <a:xfrm>
            <a:off x="4723920" y="5791320"/>
            <a:ext cx="381240" cy="304560"/>
            <a:chOff x="4723920" y="5791320"/>
            <a:chExt cx="381240" cy="304560"/>
          </a:xfrm>
        </p:grpSpPr>
        <p:sp>
          <p:nvSpPr>
            <p:cNvPr id="615" name=""/>
            <p:cNvSpPr/>
            <p:nvPr/>
          </p:nvSpPr>
          <p:spPr>
            <a:xfrm>
              <a:off x="4952880" y="57913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4939920" y="609588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939920" y="579132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4723920" y="59432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723920" y="4876920"/>
            <a:ext cx="381240" cy="457200"/>
            <a:chOff x="4723920" y="4876920"/>
            <a:chExt cx="381240" cy="457200"/>
          </a:xfrm>
        </p:grpSpPr>
        <p:sp>
          <p:nvSpPr>
            <p:cNvPr id="620" name=""/>
            <p:cNvSpPr/>
            <p:nvPr/>
          </p:nvSpPr>
          <p:spPr>
            <a:xfrm>
              <a:off x="4952880" y="48769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39920" y="533412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939920" y="487692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4723920" y="51055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723920" y="4114800"/>
            <a:ext cx="381240" cy="304920"/>
            <a:chOff x="4723920" y="4114800"/>
            <a:chExt cx="381240" cy="304920"/>
          </a:xfrm>
        </p:grpSpPr>
        <p:sp>
          <p:nvSpPr>
            <p:cNvPr id="625" name=""/>
            <p:cNvSpPr/>
            <p:nvPr/>
          </p:nvSpPr>
          <p:spPr>
            <a:xfrm>
              <a:off x="4952880" y="41148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4939920" y="441972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4939920" y="4114800"/>
              <a:ext cx="16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4723920" y="42670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797-176B-4F27-B2B6-EDF1658619E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8939C-DA48-4609-9DE8-4727B6609A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c545"/>
                </a:solidFill>
                <a:latin typeface="Impact"/>
              </a:rPr>
              <a:t>Obstáculos ao Progresso Para o Nível 5</a:t>
            </a:r>
            <a:endParaRPr b="0" lang="en-US" sz="42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30" name=""/>
          <p:cNvSpPr/>
          <p:nvPr/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Síndrome do não foi inventado aqu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Não se aplica a nó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Indústria errada para benchmar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Temor de quais resultados serão encontr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Resistência a mudanç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46960" y="2539080"/>
            <a:ext cx="2325600" cy="3175920"/>
            <a:chOff x="246960" y="2539080"/>
            <a:chExt cx="2325600" cy="3175920"/>
          </a:xfrm>
        </p:grpSpPr>
        <p:sp>
          <p:nvSpPr>
            <p:cNvPr id="632" name=""/>
            <p:cNvSpPr/>
            <p:nvPr/>
          </p:nvSpPr>
          <p:spPr>
            <a:xfrm rot="18900000">
              <a:off x="304920" y="3161880"/>
              <a:ext cx="2209680" cy="1079280"/>
            </a:xfrm>
            <a:prstGeom prst="rightArrow">
              <a:avLst>
                <a:gd name="adj1" fmla="val 34713"/>
                <a:gd name="adj2" fmla="val 7786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5360" y="4343400"/>
              <a:ext cx="1981080" cy="1371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476f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Nível 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Benchmar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743200" y="1981080"/>
            <a:ext cx="1892160" cy="3809880"/>
            <a:chOff x="2743200" y="1981080"/>
            <a:chExt cx="1892160" cy="3809880"/>
          </a:xfrm>
        </p:grpSpPr>
        <p:pic>
          <p:nvPicPr>
            <p:cNvPr id="635" name="tn01329_" descr=""/>
            <p:cNvPicPr/>
            <p:nvPr/>
          </p:nvPicPr>
          <p:blipFill>
            <a:blip r:embed="rId1"/>
            <a:stretch/>
          </p:blipFill>
          <p:spPr>
            <a:xfrm>
              <a:off x="2743200" y="1981080"/>
              <a:ext cx="189216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tn01329_" descr=""/>
            <p:cNvPicPr/>
            <p:nvPr/>
          </p:nvPicPr>
          <p:blipFill>
            <a:blip r:embed="rId2"/>
            <a:stretch/>
          </p:blipFill>
          <p:spPr>
            <a:xfrm>
              <a:off x="2743200" y="3306600"/>
              <a:ext cx="189216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tn01329_" descr=""/>
            <p:cNvPicPr/>
            <p:nvPr/>
          </p:nvPicPr>
          <p:blipFill>
            <a:blip r:embed="rId3"/>
            <a:stretch/>
          </p:blipFill>
          <p:spPr>
            <a:xfrm>
              <a:off x="2743200" y="4601880"/>
              <a:ext cx="1892160" cy="118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4C9-C2FA-4845-BE4F-0BBC90906D0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D86EB-BCAD-4459-A984-880FC3771C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Como Avançar Para o Nível 5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742840" y="1676160"/>
            <a:ext cx="6095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Criar uma organização dedicada ao benchmark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Desenvolver um processo de benchmarking para a gerência de projeto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Decidir qual benchmarking será feito e contra quem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Reconhecer os benefícios do benchmark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"/>
          <p:cNvSpPr/>
          <p:nvPr/>
        </p:nvSpPr>
        <p:spPr>
          <a:xfrm>
            <a:off x="838080" y="1752480"/>
            <a:ext cx="1752840" cy="4114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Nível 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Melho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Contí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2895480"/>
            <a:ext cx="1752480" cy="3124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3520" y="4038480"/>
            <a:ext cx="1752480" cy="2127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0880" y="4876920"/>
            <a:ext cx="1752840" cy="1447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" y="5715000"/>
            <a:ext cx="17524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 rot="480000">
            <a:off x="75960" y="1599480"/>
            <a:ext cx="761760" cy="2057400"/>
          </a:xfrm>
          <a:custGeom>
            <a:avLst/>
            <a:gdLst>
              <a:gd name="textAreaLeft" fmla="*/ 101880 w 761760"/>
              <a:gd name="textAreaRight" fmla="*/ 659880 w 761760"/>
              <a:gd name="textAreaTop" fmla="*/ 359640 h 2057400"/>
              <a:gd name="textAreaBottom" fmla="*/ 149148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DB8-85EA-4EE9-99BB-43557C35924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C631B-81F0-45B2-AD4E-0F4ECCA2BD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Gerência de Projeto Usando o Modelo de Maturidad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Introduçã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1: Linguagem Comu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2: Processos Comu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3: Metodologia Própri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4: Benchmark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</a:rPr>
              <a:t>Nível 5: Melhoria Contínu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Conclusã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0AD-32F5-4168-8CD4-AB5D89706BE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15E1F-AACE-4D86-9D90-555189D494FB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Características do Nível 5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este nível, a organização avalia a informação aprendida durante o benchmarking e implementa as mudanças necessárias para melhorar o processo de gerência de projeto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É neste nível que a companhia percebe que excelência em gerência de projetos é algo que deve-se buscar sempre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50" name="bs02064_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3124440" cy="31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DD0-659D-4B0B-8533-58F52B2C493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26FA4-CB65-4E64-9EE5-5A98BF5BAA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Características do Nível 5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Arquivos de Lições Aprendida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4640" indent="-2246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Transferência de Conhecimentos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4640" indent="-2246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Programa de Orientação em Escritório de Projeto (PO) ou Centro de Excelência (COE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4640" indent="-2246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Planejamento Estratégico para Gerência de Projet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53" name="j0178425" descr=""/>
          <p:cNvPicPr/>
          <p:nvPr/>
        </p:nvPicPr>
        <p:blipFill>
          <a:blip r:embed="rId1"/>
          <a:stretch/>
        </p:blipFill>
        <p:spPr>
          <a:xfrm>
            <a:off x="6019920" y="195588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654" name="PH01619J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2895480" cy="202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F1F-DC1B-424F-9227-03357D289B7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32BF5-827D-4853-9A55-66A7854880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Áreas do Melhoramento Contínu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56" name=""/>
          <p:cNvSpPr/>
          <p:nvPr/>
        </p:nvSpPr>
        <p:spPr>
          <a:xfrm>
            <a:off x="3635280" y="3610080"/>
            <a:ext cx="1952640" cy="10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elhoramento Contí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111640" y="1851120"/>
            <a:ext cx="1951200" cy="12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Times New Roman"/>
              </a:rPr>
              <a:t>Processos Integr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160720" y="1828800"/>
            <a:ext cx="1952640" cy="12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</a:rPr>
              <a:t>Melhorame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</a:rPr>
              <a:t>de Processos Existen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505560" y="3578400"/>
            <a:ext cx="1952640" cy="10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</a:rPr>
              <a:t>Aspectos Comportamenta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3610080"/>
            <a:ext cx="1952640" cy="10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spectos Gerenc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666960" y="5505480"/>
            <a:ext cx="1952640" cy="8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621320" y="4765680"/>
            <a:ext cx="0" cy="606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763720" y="4200480"/>
            <a:ext cx="71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419640" y="3124080"/>
            <a:ext cx="514080" cy="293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199120" y="3123720"/>
            <a:ext cx="546120" cy="314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683320" y="4137120"/>
            <a:ext cx="71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B77-A597-4F3E-A5F8-7368D14A792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ECBAC-2CE9-4DD1-A074-85AD0E8844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O Ciclo Sem Fim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8" name=""/>
          <p:cNvSpPr/>
          <p:nvPr/>
        </p:nvSpPr>
        <p:spPr>
          <a:xfrm>
            <a:off x="304920" y="5410080"/>
            <a:ext cx="167616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Nível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Lingu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Co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981080" y="4495680"/>
            <a:ext cx="16765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657600" y="3581280"/>
            <a:ext cx="16765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óp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4120" y="2666880"/>
            <a:ext cx="16761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010280" y="1752480"/>
            <a:ext cx="167652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Nível 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Melho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Contí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246600" y="3796200"/>
            <a:ext cx="1825560" cy="1761480"/>
            <a:chOff x="246600" y="3796200"/>
            <a:chExt cx="1825560" cy="1761480"/>
          </a:xfrm>
        </p:grpSpPr>
        <p:sp>
          <p:nvSpPr>
            <p:cNvPr id="674" name=""/>
            <p:cNvSpPr/>
            <p:nvPr/>
          </p:nvSpPr>
          <p:spPr>
            <a:xfrm rot="20400000">
              <a:off x="609480" y="4571640"/>
              <a:ext cx="1371600" cy="774720"/>
            </a:xfrm>
            <a:prstGeom prst="rightArrow">
              <a:avLst>
                <a:gd name="adj1" fmla="val 40574"/>
                <a:gd name="adj2" fmla="val 5020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20400000">
              <a:off x="304920" y="4038480"/>
              <a:ext cx="1523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Bá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1922760" y="2881800"/>
            <a:ext cx="1825560" cy="1761480"/>
            <a:chOff x="1922760" y="2881800"/>
            <a:chExt cx="1825560" cy="1761480"/>
          </a:xfrm>
        </p:grpSpPr>
        <p:sp>
          <p:nvSpPr>
            <p:cNvPr id="677" name=""/>
            <p:cNvSpPr/>
            <p:nvPr/>
          </p:nvSpPr>
          <p:spPr>
            <a:xfrm rot="20400000">
              <a:off x="2285640" y="3657240"/>
              <a:ext cx="1371600" cy="774720"/>
            </a:xfrm>
            <a:prstGeom prst="rightArrow">
              <a:avLst>
                <a:gd name="adj1" fmla="val 40574"/>
                <a:gd name="adj2" fmla="val 5020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0400000">
              <a:off x="1981080" y="3124080"/>
              <a:ext cx="1523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finição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3599280" y="2031120"/>
            <a:ext cx="1825560" cy="1760760"/>
            <a:chOff x="3599280" y="2031120"/>
            <a:chExt cx="1825560" cy="1760760"/>
          </a:xfrm>
        </p:grpSpPr>
        <p:sp>
          <p:nvSpPr>
            <p:cNvPr id="680" name=""/>
            <p:cNvSpPr/>
            <p:nvPr/>
          </p:nvSpPr>
          <p:spPr>
            <a:xfrm rot="20400000">
              <a:off x="3961800" y="2806200"/>
              <a:ext cx="1371600" cy="774360"/>
            </a:xfrm>
            <a:prstGeom prst="rightArrow">
              <a:avLst>
                <a:gd name="adj1" fmla="val 40574"/>
                <a:gd name="adj2" fmla="val 5022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20400000">
              <a:off x="3657240" y="2273400"/>
              <a:ext cx="1523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ntrole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5275800" y="1116720"/>
            <a:ext cx="1825560" cy="1760760"/>
            <a:chOff x="5275800" y="1116720"/>
            <a:chExt cx="1825560" cy="1760760"/>
          </a:xfrm>
        </p:grpSpPr>
        <p:sp>
          <p:nvSpPr>
            <p:cNvPr id="683" name=""/>
            <p:cNvSpPr/>
            <p:nvPr/>
          </p:nvSpPr>
          <p:spPr>
            <a:xfrm rot="20400000">
              <a:off x="5638320" y="1891800"/>
              <a:ext cx="1371600" cy="774360"/>
            </a:xfrm>
            <a:prstGeom prst="rightArrow">
              <a:avLst>
                <a:gd name="adj1" fmla="val 40574"/>
                <a:gd name="adj2" fmla="val 5022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20400000">
              <a:off x="5333760" y="1359000"/>
              <a:ext cx="1523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Melhori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5410080" y="2666880"/>
            <a:ext cx="2590920" cy="1524240"/>
            <a:chOff x="5410080" y="2666880"/>
            <a:chExt cx="2590920" cy="1524240"/>
          </a:xfrm>
        </p:grpSpPr>
        <p:sp>
          <p:nvSpPr>
            <p:cNvPr id="686" name=""/>
            <p:cNvSpPr/>
            <p:nvPr/>
          </p:nvSpPr>
          <p:spPr>
            <a:xfrm>
              <a:off x="7086600" y="2895480"/>
              <a:ext cx="762120" cy="457200"/>
            </a:xfrm>
            <a:prstGeom prst="leftArrow">
              <a:avLst>
                <a:gd name="adj1" fmla="val 50000"/>
                <a:gd name="adj2" fmla="val 50008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72400" y="2666880"/>
              <a:ext cx="228600" cy="137160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10080" y="3733920"/>
              <a:ext cx="2590920" cy="457200"/>
            </a:xfrm>
            <a:prstGeom prst="leftArrow">
              <a:avLst>
                <a:gd name="adj1" fmla="val 50000"/>
                <a:gd name="adj2" fmla="val 50346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F72-2C6A-4E01-95B9-777AB93B6C1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C16E2-5AF3-4C93-BC34-6A9F720ED1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Exemplos de Melhoramento Contínu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200400" y="16761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Desenvolvendo documentação procedimental efetiv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Metodologias de gerência de projet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Melhoramento contínu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Planejamento de capacidad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Modelos de competênci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Gerenciando múltiplos projet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Reuniões de revisão de final de fas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91" name="j0179006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296856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B22-ADA8-412E-949C-1C9BA9898A8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574F5-9404-4406-9ED1-F99B66636F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ffc545"/>
                </a:solidFill>
                <a:latin typeface="Impact"/>
              </a:rPr>
              <a:t>Documentação Procedimental Efetiva</a:t>
            </a:r>
            <a:endParaRPr b="0" lang="en-US" sz="43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ornecem normas e uniformidad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contém documentações úteis, mas mínima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comunicam clara e efetivamen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padronizam formatos de dado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unifica equipes de projeto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ornece uma base para anális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documenta acordos para referências futura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minimiza o trabalho burocrátic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minimiza conflitos e confusõ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delineia pacotes de trabalh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traz novas pessoas para a equi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constrói um conjunto de experiência para projetos futuro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94" name="bs00554_" descr=""/>
          <p:cNvPicPr/>
          <p:nvPr/>
        </p:nvPicPr>
        <p:blipFill>
          <a:blip r:embed="rId1"/>
          <a:stretch/>
        </p:blipFill>
        <p:spPr>
          <a:xfrm>
            <a:off x="5791320" y="2465280"/>
            <a:ext cx="3200400" cy="279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155-DB40-4B82-8182-0DAB916F300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9C27E-37B0-4A03-A8C3-8A557CAB1D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Fundamentos Para Excelênci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5410080"/>
            <a:ext cx="167616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Nível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Lingu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Co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4495680"/>
            <a:ext cx="16765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7600" y="3581280"/>
            <a:ext cx="16765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óp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2666880"/>
            <a:ext cx="16761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1752480"/>
            <a:ext cx="167652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Nível 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Melho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Contí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6600" y="3796200"/>
            <a:ext cx="1825560" cy="1761480"/>
            <a:chOff x="246600" y="3796200"/>
            <a:chExt cx="1825560" cy="1761480"/>
          </a:xfrm>
        </p:grpSpPr>
        <p:sp>
          <p:nvSpPr>
            <p:cNvPr id="212" name=""/>
            <p:cNvSpPr/>
            <p:nvPr/>
          </p:nvSpPr>
          <p:spPr>
            <a:xfrm rot="20400000">
              <a:off x="609480" y="4571640"/>
              <a:ext cx="1371600" cy="774720"/>
            </a:xfrm>
            <a:prstGeom prst="rightArrow">
              <a:avLst>
                <a:gd name="adj1" fmla="val 40574"/>
                <a:gd name="adj2" fmla="val 5020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400000">
              <a:off x="304920" y="4038480"/>
              <a:ext cx="1523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Bá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922760" y="2881800"/>
            <a:ext cx="1825560" cy="1761480"/>
            <a:chOff x="1922760" y="2881800"/>
            <a:chExt cx="1825560" cy="1761480"/>
          </a:xfrm>
        </p:grpSpPr>
        <p:sp>
          <p:nvSpPr>
            <p:cNvPr id="215" name=""/>
            <p:cNvSpPr/>
            <p:nvPr/>
          </p:nvSpPr>
          <p:spPr>
            <a:xfrm rot="20400000">
              <a:off x="2285640" y="3657240"/>
              <a:ext cx="1371600" cy="774720"/>
            </a:xfrm>
            <a:prstGeom prst="rightArrow">
              <a:avLst>
                <a:gd name="adj1" fmla="val 40574"/>
                <a:gd name="adj2" fmla="val 5020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20400000">
              <a:off x="1981080" y="3124080"/>
              <a:ext cx="1523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finição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599280" y="2031120"/>
            <a:ext cx="1825560" cy="1760760"/>
            <a:chOff x="3599280" y="2031120"/>
            <a:chExt cx="1825560" cy="1760760"/>
          </a:xfrm>
        </p:grpSpPr>
        <p:sp>
          <p:nvSpPr>
            <p:cNvPr id="218" name=""/>
            <p:cNvSpPr/>
            <p:nvPr/>
          </p:nvSpPr>
          <p:spPr>
            <a:xfrm rot="20400000">
              <a:off x="3961800" y="2806200"/>
              <a:ext cx="1371600" cy="774360"/>
            </a:xfrm>
            <a:prstGeom prst="rightArrow">
              <a:avLst>
                <a:gd name="adj1" fmla="val 40574"/>
                <a:gd name="adj2" fmla="val 5022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0400000">
              <a:off x="3657240" y="2273400"/>
              <a:ext cx="1523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ntrole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275800" y="1116720"/>
            <a:ext cx="1825560" cy="1760760"/>
            <a:chOff x="5275800" y="1116720"/>
            <a:chExt cx="1825560" cy="1760760"/>
          </a:xfrm>
        </p:grpSpPr>
        <p:sp>
          <p:nvSpPr>
            <p:cNvPr id="221" name=""/>
            <p:cNvSpPr/>
            <p:nvPr/>
          </p:nvSpPr>
          <p:spPr>
            <a:xfrm rot="20400000">
              <a:off x="5638320" y="1891800"/>
              <a:ext cx="1371600" cy="774360"/>
            </a:xfrm>
            <a:prstGeom prst="rightArrow">
              <a:avLst>
                <a:gd name="adj1" fmla="val 40574"/>
                <a:gd name="adj2" fmla="val 5022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20400000">
              <a:off x="5333760" y="1359000"/>
              <a:ext cx="1523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Melhori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125-C21B-4C6C-AC07-3567912CD4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7993A-803F-4682-9F4D-F4E299DE25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Metodologias de Gerência de Projet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A principal razão de qualquer sistema de gerência de projetos é aumentar drasticamente a probabilidade de sua organização ter um contínuo fluxo de sucesso em projetos gerenciados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97" name="bd04972_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2924280" cy="21920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2971800" y="4267080"/>
            <a:ext cx="6172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A melhor maneira de atingir este objetivo é com o desenvolvimento de uma metodologia de gerência de proje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443-3F97-44A2-BCAD-3F997749247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578F3-4641-47CE-AA5E-A89445D4D7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Metodologias de Gerência de Projet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Freqüentemente, a complacência demasiada controla o processo de decisão. Isto é verdade para organizações que atingiram um certo nível de excelência em gerência de projetos e se deram por satisfeitas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6629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Eles só percebem tarde demais que ficaram para trás. Isto ocorre quando as organizações falham em perceber a importância do melhoramento contín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e01549_" descr=""/>
          <p:cNvPicPr/>
          <p:nvPr/>
        </p:nvPicPr>
        <p:blipFill>
          <a:blip r:embed="rId1"/>
          <a:stretch/>
        </p:blipFill>
        <p:spPr>
          <a:xfrm>
            <a:off x="6904080" y="3657600"/>
            <a:ext cx="2039760" cy="278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9EE-584E-4693-9462-ACB56D8A1F4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FF60A-393A-4D01-B981-EBBC55DCE9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Planejamento de Capacidad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380880" y="1676520"/>
            <a:ext cx="8229600" cy="4647600"/>
            <a:chOff x="380880" y="1676520"/>
            <a:chExt cx="8229600" cy="4647600"/>
          </a:xfrm>
        </p:grpSpPr>
        <p:sp>
          <p:nvSpPr>
            <p:cNvPr id="705" name=""/>
            <p:cNvSpPr/>
            <p:nvPr/>
          </p:nvSpPr>
          <p:spPr>
            <a:xfrm>
              <a:off x="380880" y="1676520"/>
              <a:ext cx="1940040" cy="3177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Seleção de Proje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000000"/>
                  </a:solidFill>
                  <a:latin typeface="Times New Roman"/>
                </a:rPr>
                <a:t>ajuste estratégic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rentabil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benefíc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6560" y="1784160"/>
              <a:ext cx="1770120" cy="109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04880" y="1679400"/>
              <a:ext cx="1940040" cy="3180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Times New Roman"/>
                </a:rPr>
                <a:t>Objetivos do Projet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técni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omercia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590560" y="1787400"/>
              <a:ext cx="1770120" cy="107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01880" y="1679400"/>
              <a:ext cx="1940040" cy="3180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Planejamento dos Obje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menor cus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menor tem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menor ri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87920" y="1787400"/>
              <a:ext cx="1769760" cy="111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70440" y="1679400"/>
              <a:ext cx="1940040" cy="3166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Modelos de Planejamento de Capac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recursos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infraestrutu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ap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tecnolog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56120" y="1787400"/>
              <a:ext cx="1770120" cy="113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14600" y="5333760"/>
              <a:ext cx="4024080" cy="99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400" spc="-1" strike="noStrike">
                  <a:solidFill>
                    <a:srgbClr val="000000"/>
                  </a:solidFill>
                  <a:latin typeface="Times New Roman"/>
                </a:rPr>
                <a:t>Feedback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35240" y="2298600"/>
              <a:ext cx="35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359240" y="2300040"/>
              <a:ext cx="35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56240" y="2303280"/>
              <a:ext cx="35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1294920" y="5943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96080" y="4848120"/>
              <a:ext cx="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556320" y="5919480"/>
              <a:ext cx="11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1295280" y="4876560"/>
              <a:ext cx="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504960" y="487620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5562360" y="487620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271-63C0-4EAF-B85A-0AC2D767D0A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62C37-EA42-4594-BB6F-8612B1BBC9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Modelos de Competênci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200400" y="182880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8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 Narrow"/>
              </a:rPr>
              <a:t>Descrição de trabalhos para gerência de projetos tende a enfatizar os objetivos e as expectativas do gerente de projetos enquanto que modelos de competência enfatizam as habilidades específicas necessárias para atingir os objetivos.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25" name="PH01902J" descr=""/>
          <p:cNvPicPr/>
          <p:nvPr/>
        </p:nvPicPr>
        <p:blipFill>
          <a:blip r:embed="rId1"/>
          <a:stretch/>
        </p:blipFill>
        <p:spPr>
          <a:xfrm>
            <a:off x="360360" y="1905120"/>
            <a:ext cx="276372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62E-1A0F-4F65-9789-0237C52CF39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56D0A-1D91-4EC4-9359-79436CC237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Gerenciando Múltiplos Projeto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9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 Narrow"/>
              </a:rPr>
              <a:t>Priorização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spcBef>
                <a:spcPts val="9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 Narrow"/>
              </a:rPr>
              <a:t>Mudança de Escopo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spcBef>
                <a:spcPts val="9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 Narrow"/>
              </a:rPr>
              <a:t>Planejamento de Capacidade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spcBef>
                <a:spcPts val="9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 Narrow"/>
              </a:rPr>
              <a:t>Metodologia do Projeto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spcBef>
                <a:spcPts val="9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 Narrow"/>
              </a:rPr>
              <a:t>Iniciação do Projeto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spcBef>
                <a:spcPts val="95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 Narrow"/>
              </a:rPr>
              <a:t>Estruturas Organizacionais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28" name="j0309621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2936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858-2295-4E78-962B-67142F4BB72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E9882-E50D-4E25-BE58-9D3D9F3A33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Reuniões de Revisão de Final de Fas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209320" y="1676160"/>
            <a:ext cx="6705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Executivos não tem mais receio de cancelar projetos, principalmente se os objetivos mudaram, são inalcançáveis ou se recursos podem ser usados em outras atividades com mais probabilidade de sucesso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Executivos passam mais tempo analisando possibilidades futuras do que vangloriando-se de conquistas passada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31" name="bd06663_" descr=""/>
          <p:cNvPicPr/>
          <p:nvPr/>
        </p:nvPicPr>
        <p:blipFill>
          <a:blip r:embed="rId1"/>
          <a:stretch/>
        </p:blipFill>
        <p:spPr>
          <a:xfrm>
            <a:off x="228600" y="4651200"/>
            <a:ext cx="1928880" cy="16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A81-70E2-4913-9EF3-E3340384C5F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2F9D7-307A-42EF-895E-33B94A9F5E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Planejamento de Carreir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33" name=""/>
          <p:cNvSpPr/>
          <p:nvPr/>
        </p:nvSpPr>
        <p:spPr>
          <a:xfrm rot="16200000">
            <a:off x="876240" y="1866240"/>
            <a:ext cx="3276360" cy="2895840"/>
          </a:xfrm>
          <a:custGeom>
            <a:avLst/>
            <a:gdLst>
              <a:gd name="textAreaLeft" fmla="*/ 511920 w 3276360"/>
              <a:gd name="textAreaRight" fmla="*/ 2867040 w 327636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ecn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52480" y="5181480"/>
            <a:ext cx="5410440" cy="12193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Gerência de Proje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rot="16200000">
            <a:off x="4762440" y="1866240"/>
            <a:ext cx="3276360" cy="2895840"/>
          </a:xfrm>
          <a:custGeom>
            <a:avLst/>
            <a:gdLst>
              <a:gd name="textAreaLeft" fmla="*/ 511920 w 3276360"/>
              <a:gd name="textAreaRight" fmla="*/ 2867040 w 327636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egó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62D-1A28-426F-81FA-A9569E3A738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31FB5-BCEC-48E4-ACBF-4CAE3211AA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Gerência de Projeto Usando o Modelo de Maturidad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Introduçã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1: Linguagem Comu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2: Processos Comu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3: Metodologia Própri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4: Benchmark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5: Melhoria Contínu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</a:rPr>
              <a:t>Conclusã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0297-D540-4999-A9B8-4F705CEBF98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C15E9-C652-4F7E-9CB7-7D4C47FEDB3E}" type="datetime1">
              <a:rPr lang="en-US"/>
              <a:t>07/30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Conclusã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Planejamento estratégico é fundamenta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Gerência de projetos é um meio de sobrevivênci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Metodologia e processos precisam ser definid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O modelo de maturidade é muito sensat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A gerência de projetos de softwares baseados no modelo de maturidade é uma excelente técnica para as organização implantarem toda esta sistemátic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PM, CMMI e PM3 vieram para ficar!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098-83E4-457D-B23D-9A22E7D85EF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A0F0D-2B60-499E-9B53-47CE70DE9B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c545"/>
                </a:solidFill>
                <a:latin typeface="Impact"/>
              </a:rPr>
              <a:t>Gerência de Projeto Usando</a:t>
            </a:r>
            <a:br>
              <a:rPr sz="4800"/>
            </a:br>
            <a:r>
              <a:rPr b="0" lang="pt-BR" sz="4800" spc="-1" strike="noStrike">
                <a:solidFill>
                  <a:srgbClr val="ffc545"/>
                </a:solidFill>
                <a:latin typeface="Impact"/>
              </a:rPr>
              <a:t>o Modelo de Maturidade</a:t>
            </a:r>
            <a:endParaRPr b="0" lang="en-US" sz="48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57200" y="41144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0" spc="-1" strike="noStrike">
                <a:solidFill>
                  <a:srgbClr val="ff9900"/>
                </a:solidFill>
                <a:latin typeface="Impact"/>
              </a:rPr>
              <a:t>Obrigado!</a:t>
            </a:r>
            <a:endParaRPr b="1" lang="en-US" sz="15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2" name=""/>
          <p:cNvSpPr/>
          <p:nvPr/>
        </p:nvSpPr>
        <p:spPr>
          <a:xfrm>
            <a:off x="4176720" y="2919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ufu-color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446040" cy="43524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1371600" y="228600"/>
            <a:ext cx="7010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c545"/>
                </a:solidFill>
                <a:latin typeface="Vogue"/>
              </a:rPr>
              <a:t>Universidade Federal de Uberlând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c545"/>
                </a:solidFill>
                <a:latin typeface="Vogue"/>
              </a:rPr>
              <a:t>Faculdade de Computaçã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Sobreposição de Nívei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5410080"/>
            <a:ext cx="16765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Nível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Lingu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Co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4495680"/>
            <a:ext cx="16761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3581280"/>
            <a:ext cx="16765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óp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2666880"/>
            <a:ext cx="16761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1752480"/>
            <a:ext cx="167652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Nível 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Melho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Contí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17E-84BA-40AF-B800-B2DB2AD632E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B4DA4-CE76-4674-B20B-9AFFBFF5EA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Feedback dos Nívei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5410080"/>
            <a:ext cx="167616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Nível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Lingu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Co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4495680"/>
            <a:ext cx="16765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581280"/>
            <a:ext cx="16765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óp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2666880"/>
            <a:ext cx="16761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1752480"/>
            <a:ext cx="167652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Nível 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Melho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Contí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6600" y="3796200"/>
            <a:ext cx="1825560" cy="1761480"/>
            <a:chOff x="246600" y="3796200"/>
            <a:chExt cx="1825560" cy="1761480"/>
          </a:xfrm>
        </p:grpSpPr>
        <p:sp>
          <p:nvSpPr>
            <p:cNvPr id="236" name=""/>
            <p:cNvSpPr/>
            <p:nvPr/>
          </p:nvSpPr>
          <p:spPr>
            <a:xfrm rot="20400000">
              <a:off x="609480" y="4571640"/>
              <a:ext cx="1371600" cy="774720"/>
            </a:xfrm>
            <a:prstGeom prst="rightArrow">
              <a:avLst>
                <a:gd name="adj1" fmla="val 40574"/>
                <a:gd name="adj2" fmla="val 5020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400000">
              <a:off x="304920" y="4038480"/>
              <a:ext cx="1523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Bá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922760" y="2881800"/>
            <a:ext cx="1825560" cy="1761480"/>
            <a:chOff x="1922760" y="2881800"/>
            <a:chExt cx="1825560" cy="1761480"/>
          </a:xfrm>
        </p:grpSpPr>
        <p:sp>
          <p:nvSpPr>
            <p:cNvPr id="239" name=""/>
            <p:cNvSpPr/>
            <p:nvPr/>
          </p:nvSpPr>
          <p:spPr>
            <a:xfrm rot="20400000">
              <a:off x="2285640" y="3657240"/>
              <a:ext cx="1371600" cy="774720"/>
            </a:xfrm>
            <a:prstGeom prst="rightArrow">
              <a:avLst>
                <a:gd name="adj1" fmla="val 40574"/>
                <a:gd name="adj2" fmla="val 5020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400000">
              <a:off x="1981080" y="3124080"/>
              <a:ext cx="1523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finição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599280" y="2031120"/>
            <a:ext cx="1825560" cy="1760760"/>
            <a:chOff x="3599280" y="2031120"/>
            <a:chExt cx="1825560" cy="1760760"/>
          </a:xfrm>
        </p:grpSpPr>
        <p:sp>
          <p:nvSpPr>
            <p:cNvPr id="242" name=""/>
            <p:cNvSpPr/>
            <p:nvPr/>
          </p:nvSpPr>
          <p:spPr>
            <a:xfrm rot="20400000">
              <a:off x="3961800" y="2806200"/>
              <a:ext cx="1371600" cy="774360"/>
            </a:xfrm>
            <a:prstGeom prst="rightArrow">
              <a:avLst>
                <a:gd name="adj1" fmla="val 40574"/>
                <a:gd name="adj2" fmla="val 5022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0400000">
              <a:off x="3657240" y="2273400"/>
              <a:ext cx="1523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ntrole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275800" y="1116720"/>
            <a:ext cx="1825560" cy="1760760"/>
            <a:chOff x="5275800" y="1116720"/>
            <a:chExt cx="1825560" cy="1760760"/>
          </a:xfrm>
        </p:grpSpPr>
        <p:sp>
          <p:nvSpPr>
            <p:cNvPr id="245" name=""/>
            <p:cNvSpPr/>
            <p:nvPr/>
          </p:nvSpPr>
          <p:spPr>
            <a:xfrm rot="20400000">
              <a:off x="5638320" y="1891800"/>
              <a:ext cx="1371600" cy="774360"/>
            </a:xfrm>
            <a:prstGeom prst="rightArrow">
              <a:avLst>
                <a:gd name="adj1" fmla="val 40574"/>
                <a:gd name="adj2" fmla="val 5022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20400000">
              <a:off x="5333760" y="1359000"/>
              <a:ext cx="1523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Melhori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410080" y="2666880"/>
            <a:ext cx="2590920" cy="1524240"/>
            <a:chOff x="5410080" y="2666880"/>
            <a:chExt cx="2590920" cy="1524240"/>
          </a:xfrm>
        </p:grpSpPr>
        <p:sp>
          <p:nvSpPr>
            <p:cNvPr id="248" name=""/>
            <p:cNvSpPr/>
            <p:nvPr/>
          </p:nvSpPr>
          <p:spPr>
            <a:xfrm>
              <a:off x="7086600" y="2895480"/>
              <a:ext cx="762120" cy="457200"/>
            </a:xfrm>
            <a:prstGeom prst="leftArrow">
              <a:avLst>
                <a:gd name="adj1" fmla="val 50000"/>
                <a:gd name="adj2" fmla="val 50008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2666880"/>
              <a:ext cx="228600" cy="137160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10080" y="3733920"/>
              <a:ext cx="2590920" cy="457200"/>
            </a:xfrm>
            <a:prstGeom prst="leftArrow">
              <a:avLst>
                <a:gd name="adj1" fmla="val 50000"/>
                <a:gd name="adj2" fmla="val 50346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5C2-9298-440A-97F0-AE04CFABC2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81EC2-BFD2-4E4C-AACD-F2BAD38983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Risco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685800"/>
          </a:xfrm>
          <a:prstGeom prst="rect">
            <a:avLst/>
          </a:prstGeom>
          <a:solidFill>
            <a:srgbClr val="ccff99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Descrição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Grau de Dificuldad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895480"/>
            <a:ext cx="8686800" cy="297180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Linguagem Comum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Mé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Processos Comuns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Mé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Metodologia Própria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A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Benchmarking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Bai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Melhoramento Contínuo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Bai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296-6FD2-480F-A5C3-80822D1E00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26C3C-B6C3-492D-BAF9-4FD5104CCB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Gerência de Projeto Usando o Modelo de Maturidad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Introduçã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Narrow"/>
              </a:rPr>
              <a:t>Nível 1: Linguagem Comu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2: Processos Comu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3: Metodologia Própri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4: Benchmark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Nível 5: Melhoria Contínu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Conclusã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CI - Gerência de Projeto Pelo PM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562-1E05-4000-8717-3012F8BE65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42269-C722-41C8-A779-9D23EB6815F2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árcio Moreira</cp:lastModifiedBy>
  <dcterms:modified xsi:type="dcterms:W3CDTF">2002-04-21T20:01:14Z</dcterms:modified>
  <cp:revision>204</cp:revision>
  <dc:subject/>
  <dc:title>Apresentação do PowerPoint</dc:title>
</cp:coreProperties>
</file>