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134B-AC07-4FB0-8E9E-7DAB0EAFD2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7C2-55B3-4B5F-98C4-A722D1CC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31F-2F80-4A19-88C5-7D88DF7A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3CC-68FA-4DBA-97CE-145738C4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70C-CFA0-4125-80EA-97A1AE3A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0799-D8A8-413E-9A92-D9275F11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0B9B-CB95-4BCE-BD37-0A438028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93B5-2B8C-4A59-B3DA-16B5EF53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EC6C-9BF1-4280-B78E-2CD137A0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86A7-1B03-4EA5-A687-3F24650C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0B2D-83D9-4A28-9E62-6105E619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AA79-044A-4DFD-8985-D71D7728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A2E-7EA6-46B3-8057-3E788E45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1178-B6DD-47B1-A645-CCF5171B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CFA3-46DE-4E44-9FF3-765B2F5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DE43-4595-42C4-9E4F-4AA107A4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19D-A997-4BF7-8B98-E9A1D20F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04A2-0A68-4075-9EDC-337BC8DA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BE1-DC62-48F0-9D53-3E1ED1A4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9E8-F931-42F6-B973-C9C4689F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58F-AD67-4F17-8B9B-949AB6BF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E14-B3BF-46D9-9C29-AF2EE266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953-DDB7-4DFB-94E6-B823BDC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E99-E061-494C-ABDC-21977850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836-BD82-4E09-894C-280C28C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0240" y="1104840"/>
            <a:ext cx="1784520" cy="2324160"/>
            <a:chOff x="120240" y="1104840"/>
            <a:chExt cx="1784520" cy="2324160"/>
          </a:xfrm>
        </p:grpSpPr>
        <p:sp>
          <p:nvSpPr>
            <p:cNvPr id="57" name=""/>
            <p:cNvSpPr/>
            <p:nvPr/>
          </p:nvSpPr>
          <p:spPr>
            <a:xfrm flipH="1">
              <a:off x="120240" y="1202400"/>
              <a:ext cx="178452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4640" y="110808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7440" y="110484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47B-58D4-4A18-9C6E-1DD45AB99ED5}" type="datetime">
              <a:rPr b="0" lang="pt-BR" sz="1400" spc="-1" strike="noStrike">
                <a:solidFill>
                  <a:srgbClr val="40458c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1962-7D75-4F3F-B0ED-635D0DFA9CD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EAE-4630-4C7A-B9CD-C84880234866}" type="datetime">
              <a:rPr b="0" lang="pt-BR" sz="1400" spc="-1" strike="noStrike">
                <a:solidFill>
                  <a:srgbClr val="40458c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9698-10D2-46FA-99F0-B723F4F7F6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200" spc="-1" strike="noStrike">
                <a:solidFill>
                  <a:srgbClr val="ff0000"/>
                </a:solidFill>
                <a:latin typeface="Vogue"/>
              </a:rPr>
              <a:t>Gerência de Projetos</a:t>
            </a:r>
            <a:br>
              <a:rPr sz="6200"/>
            </a:br>
            <a:r>
              <a:rPr b="1" lang="pt-BR" sz="4200" spc="-1" strike="noStrike">
                <a:solidFill>
                  <a:srgbClr val="ff0000"/>
                </a:solidFill>
                <a:latin typeface="Vogue"/>
              </a:rPr>
              <a:t>Gerência do Tempo do Projeto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5486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Vogue"/>
              </a:rPr>
              <a:t>Gustavo Alexandre de Oliveira Silva 1971267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Vogue"/>
              </a:rPr>
              <a:t>Márcio Aurélio Ribeiro Moreira 1981272-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Vogue"/>
              </a:rPr>
              <a:t>Março/200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ufu-color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46040" cy="435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23880" y="152280"/>
            <a:ext cx="7086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Vogue"/>
              </a:rPr>
              <a:t>Universidade Federal de Uberlândi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Vogue"/>
              </a:rPr>
              <a:t>Faculdade de Computaçã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Vogue"/>
              </a:rPr>
              <a:t>Gerência de Centros de Informática</a:t>
            </a:r>
            <a:br>
              <a:rPr sz="2800"/>
            </a:br>
            <a:r>
              <a:rPr b="1" lang="pt-BR" sz="2800" spc="-1" strike="noStrike">
                <a:solidFill>
                  <a:srgbClr val="3333ff"/>
                </a:solidFill>
                <a:latin typeface="Vogue"/>
              </a:rPr>
              <a:t>Prof. Dr. Mamede Lima-Marqu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660066"/>
                </a:solidFill>
                <a:latin typeface="Tahoma"/>
              </a:rPr>
              <a:t>Definição de Atividades: Ferramentas e Técnicas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Decomposi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siste em dividir os elementos do projeto em partes menores que sejam manejáveis com objetivo de facilitar o controle do gerencia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odelos (templa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É a utilização da lista de atividades de projetos anteriores como modelo ou referência para o projeto a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E39-66EF-42B4-8D4A-ADDAC1803D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91B15-FE8A-4F0A-8C89-3AD7A39FE961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efinição de Atividades: Saíd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Lista de Ativida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É uma relação de todas as atividades que serão realizadas no proje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Detalhes de Supor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siste num detalhamento do suporte necessários a cada atividade da Lista de Atividades, que servirão para outros processos da gerência do proje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tualizações na E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EA4-A885-4313-9C4F-982F2E02BA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A45C1-E970-4843-9722-A5E154A4BCF9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efinição de Atividades: Resu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2286000"/>
            <a:ext cx="8839080" cy="3048120"/>
          </a:xfrm>
          <a:prstGeom prst="rightArrow">
            <a:avLst>
              <a:gd name="adj1" fmla="val 64370"/>
              <a:gd name="adj2" fmla="val 13492"/>
            </a:avLst>
          </a:prstGeom>
          <a:solidFill>
            <a:srgbClr val="80808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9480" y="1523880"/>
            <a:ext cx="2438640" cy="4572000"/>
            <a:chOff x="609480" y="1523880"/>
            <a:chExt cx="2438640" cy="4572000"/>
          </a:xfrm>
        </p:grpSpPr>
        <p:sp>
          <p:nvSpPr>
            <p:cNvPr id="307" name=""/>
            <p:cNvSpPr/>
            <p:nvPr/>
          </p:nvSpPr>
          <p:spPr>
            <a:xfrm>
              <a:off x="6094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Estrutura Analítica d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rojeto (EAP ou WBS)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claração do escop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Informações históric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striçõ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remiss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valiação especializad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Entra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352680" y="1523880"/>
            <a:ext cx="2438640" cy="4572000"/>
            <a:chOff x="3352680" y="1523880"/>
            <a:chExt cx="2438640" cy="4572000"/>
          </a:xfrm>
        </p:grpSpPr>
        <p:sp>
          <p:nvSpPr>
            <p:cNvPr id="310" name=""/>
            <p:cNvSpPr/>
            <p:nvPr/>
          </p:nvSpPr>
          <p:spPr>
            <a:xfrm>
              <a:off x="33526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composi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Model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26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Ferramentas e Técnic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095880" y="1523880"/>
            <a:ext cx="2438640" cy="4572000"/>
            <a:chOff x="6095880" y="1523880"/>
            <a:chExt cx="2438640" cy="4572000"/>
          </a:xfrm>
        </p:grpSpPr>
        <p:sp>
          <p:nvSpPr>
            <p:cNvPr id="313" name=""/>
            <p:cNvSpPr/>
            <p:nvPr/>
          </p:nvSpPr>
          <p:spPr>
            <a:xfrm>
              <a:off x="60958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Lista de atividad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talhes de suport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tualização na EAP o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WB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58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Saí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4A9-FD3E-4F63-BC15-23D6A9AADB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ABA33-72EE-40C5-8C2C-AA7B3ED5916E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rência do Tempo do Proje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62040" y="1523520"/>
            <a:ext cx="8177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finição de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Seqüenciament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Estimativa da Duraçã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senvolvimento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trole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clus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0B4-B52A-45A8-B829-F6452FD4F3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23617-EBC3-499B-BCEC-FAE718886C51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eqüenciamento das A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Consistem em identificar e documentar as relações de dependências entre as atividades do proje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 seqüenciamento deve ser bem feito para dar suporte a um cronograma realista e que possa ser alcançá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ode ser feito manualmente e/ou com auxílio de ferramentas computadorizad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B63-A904-4ABB-A0BF-A03A51B2F6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B6C05-81B2-4E61-9CF1-29CF7D9ABFE8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66"/>
                </a:solidFill>
                <a:latin typeface="Tahoma"/>
              </a:rPr>
              <a:t>Seqüenciamento de Atividades: Entrad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Lista de A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duzida na Definição de A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scrição do Produ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pendências Mandató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ão inerentes à natureza do trabalho que está sendo fei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pendências Arbitr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ão definidas pela equipe de gerência do proje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pendências Exter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ar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sentação preliminar,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çamento et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902-65C3-4294-84FE-7C767D1DF4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9F519-3D5F-4929-8362-995A44D095ED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660066"/>
                </a:solidFill>
                <a:latin typeface="Tahoma"/>
              </a:rPr>
              <a:t>Seqüenciamento de Atividades: Ferramentas e Técnicas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étodo do Diagrama de Precedência (PDM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étodo do Diagrama de Flechas (ADM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étodo do Diagrama Condicional (CDM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odelos de Re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402-7EF9-40D1-A58F-A6DEBAAC80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F9878-845C-485A-9E07-92AFF30FA91A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660066"/>
                </a:solidFill>
                <a:latin typeface="Tahoma"/>
              </a:rPr>
              <a:t>Seqüenciamento de Atividades: Ferramentas e Técnicas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étodo do Diagrama de Precedência (PDM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69056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PDM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5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CC0-80F3-4880-924E-F8FB2AD124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42F68-746F-4931-9ECA-06B091F022C2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660066"/>
                </a:solidFill>
                <a:latin typeface="Tahoma"/>
              </a:rPr>
              <a:t>Seqüenciamento de Atividades: Ferramentas e Técnicas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étodo do Diagrama de Flechas (ADM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69056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63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1" name="ADM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9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87A-F0CA-43DC-8536-EE495FABB1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F9ADE-D58F-4A14-BE88-9AFDE6BCD675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66"/>
                </a:solidFill>
                <a:latin typeface="Tahoma"/>
              </a:rPr>
              <a:t>Seqüenciamento de Atividades: Saíd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iagrama de Rede do Proje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É um esquema de apresentação das atividades do projeto e das dependências entre elas. Além do diagrama é necessário uma descrição sumária que descreva a abordagem básica do seqüencia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rá utilizado no Desenvolvimento do Cronogra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tualizações da Lista de A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urante a preparação do Diagrama de Rede do Projeto podem ser identificadas necessidades de mudanças na Lista de Atividades do Proje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D2E-6217-4784-B267-D1AEC7F97F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0D0A0-F587-4903-B418-0A8CB6D1C785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rência do Tempo do Proje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2040" y="1523520"/>
            <a:ext cx="8177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finição de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Seqüenciament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Estimativa da Duraçã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senvolvimento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trole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clus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870-D940-46A7-AED1-DCE89828A1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AD6C5-EA1C-4C40-AEB8-67998A4815DC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66"/>
                </a:solidFill>
                <a:latin typeface="Tahoma"/>
              </a:rPr>
              <a:t>Seqüenciamento de Atividades: Resum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2286000"/>
            <a:ext cx="8839080" cy="3048120"/>
          </a:xfrm>
          <a:prstGeom prst="rightArrow">
            <a:avLst>
              <a:gd name="adj1" fmla="val 64370"/>
              <a:gd name="adj2" fmla="val 13492"/>
            </a:avLst>
          </a:prstGeom>
          <a:solidFill>
            <a:srgbClr val="80808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09480" y="1523880"/>
            <a:ext cx="2438640" cy="4572000"/>
            <a:chOff x="609480" y="1523880"/>
            <a:chExt cx="2438640" cy="4572000"/>
          </a:xfrm>
        </p:grpSpPr>
        <p:sp>
          <p:nvSpPr>
            <p:cNvPr id="337" name=""/>
            <p:cNvSpPr/>
            <p:nvPr/>
          </p:nvSpPr>
          <p:spPr>
            <a:xfrm>
              <a:off x="6094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Lista de atividad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scrição do produ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pendências 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mandatóri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pendências arbitrad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pendências extern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Marc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94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Entra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352680" y="1523880"/>
            <a:ext cx="2438640" cy="4572000"/>
            <a:chOff x="3352680" y="1523880"/>
            <a:chExt cx="2438640" cy="4572000"/>
          </a:xfrm>
        </p:grpSpPr>
        <p:sp>
          <p:nvSpPr>
            <p:cNvPr id="340" name=""/>
            <p:cNvSpPr/>
            <p:nvPr/>
          </p:nvSpPr>
          <p:spPr>
            <a:xfrm>
              <a:off x="33526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Método do Diagrama d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recedência (PDM)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Método do Diagrama d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Flechas (ADM)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Método do Diagrama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Condicional (CDM)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Modelos de Re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526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Ferramentas e Técnic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095880" y="1523880"/>
            <a:ext cx="2438640" cy="4572000"/>
            <a:chOff x="6095880" y="1523880"/>
            <a:chExt cx="2438640" cy="4572000"/>
          </a:xfrm>
        </p:grpSpPr>
        <p:sp>
          <p:nvSpPr>
            <p:cNvPr id="343" name=""/>
            <p:cNvSpPr/>
            <p:nvPr/>
          </p:nvSpPr>
          <p:spPr>
            <a:xfrm>
              <a:off x="60958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iagrama de rede do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roje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tualizações na lista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 atividad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Saí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B62-1F47-41D5-ACC3-03E7C12B00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0F403-A6CD-4609-A270-81EF9CC4D7E7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rência do Tempo do Proje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62040" y="1523520"/>
            <a:ext cx="8177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finição de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Seqüenciament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Estimativa da Duraçã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senvolvimento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trole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clus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275-3D84-4FD7-AF6D-B0E6046DD2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49805-D6DF-4500-94C4-CA361BCA11FC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66"/>
                </a:solidFill>
                <a:latin typeface="Tahoma"/>
              </a:rPr>
              <a:t>Estimativa da Duração das Atividad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siste em estimar a duração das a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de ser probabilísticas ou determiníst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lém do tempo médio pode-se alocar tempo reser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ve ser feito por uma pessoa ou por uma equipe mais familiarizada com a natureza de uma atividade especi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lém do tempo gasto na execução de uma  atividade, deve-se levar em consideração o tempo de espera para o início de uma outra atividade. Exemplo: cura de concre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B02-08AB-43BA-AD32-0D91DFD51E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AB35B-8CF9-4EDD-9C97-C0357AB9922A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Tahoma"/>
              </a:rPr>
              <a:t>Estimativa da Duração das  Atividades: Entrada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Lista de A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stri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emiss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Necessidades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É uma saída do Planejamento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apacidade dos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Informações Históric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rquivos de Proj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stimativa de Durações em Bases de Dados Comerci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onhecimento da Equipe do Proj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iscos Identific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759-6052-4A4A-BAF7-3C6E6B583A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4DCF6-E5A7-475E-8C90-4FFB9181D013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660066"/>
                </a:solidFill>
                <a:latin typeface="Tahoma"/>
              </a:rPr>
              <a:t>Estimativa da Duração das Atividades: Ferramentas e Técnicas</a:t>
            </a:r>
            <a:endParaRPr b="0" lang="en-US" sz="2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valiação Especializ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utras unidades dentro da organiz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onsultores exter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ssociações profissionais e técn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rupos industri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stimativas Por Analog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urações Estimadas Quantitativam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Tempo de Reserva (Contingênci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 equipe do projeto pode, a seu critério, adicionar uma porção de tempo para absorção de riscos ou solução de problemas inerentes à ativida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3AD-057D-4C67-B4C8-3DCC41BBF9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B32E8-A250-4996-B09D-1A3BAFB63348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Tahoma"/>
              </a:rPr>
              <a:t>Estimativa de Duração das Atividades: Saíd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stimativa de Duração das A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evem sempre incluir uma faixa de variação (incerteza) em relação à duração mais prováve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Bases das Estima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s premissas utilizadas na estimativa da duração das atividades devem ser document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tualizações da Lista de A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 houver necessidades de dividir uma atividade, incluir outras, ou qualquer outra necessidade de mudança da Lista de Atividades, isto deverá ser documentado aq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440-9C00-445E-98D0-949532B0E5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AF292-B7D3-4CFA-B793-ED9DAADA333D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660066"/>
                </a:solidFill>
                <a:latin typeface="Tahoma"/>
              </a:rPr>
              <a:t>Estimativa da Duração de  Atividades: Resumo</a:t>
            </a: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2286000"/>
            <a:ext cx="8839080" cy="3048120"/>
          </a:xfrm>
          <a:prstGeom prst="rightArrow">
            <a:avLst>
              <a:gd name="adj1" fmla="val 64370"/>
              <a:gd name="adj2" fmla="val 13492"/>
            </a:avLst>
          </a:prstGeom>
          <a:solidFill>
            <a:srgbClr val="80808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09480" y="1523880"/>
            <a:ext cx="2438640" cy="4572000"/>
            <a:chOff x="609480" y="1523880"/>
            <a:chExt cx="2438640" cy="4572000"/>
          </a:xfrm>
        </p:grpSpPr>
        <p:sp>
          <p:nvSpPr>
            <p:cNvPr id="358" name=""/>
            <p:cNvSpPr/>
            <p:nvPr/>
          </p:nvSpPr>
          <p:spPr>
            <a:xfrm>
              <a:off x="6094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Lista de Atividad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striçõ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remiss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Necessidades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curs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Capacidade 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curs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Informações históric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iscos identifica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94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Entra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352680" y="1523880"/>
            <a:ext cx="2438640" cy="4572000"/>
            <a:chOff x="3352680" y="1523880"/>
            <a:chExt cx="2438640" cy="4572000"/>
          </a:xfrm>
        </p:grpSpPr>
        <p:sp>
          <p:nvSpPr>
            <p:cNvPr id="361" name=""/>
            <p:cNvSpPr/>
            <p:nvPr/>
          </p:nvSpPr>
          <p:spPr>
            <a:xfrm>
              <a:off x="33526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valiação especializad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Estimativas por analogi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urações estimad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quantitativament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Tempo de reserv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526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Ferramentas e Técnic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095880" y="1523880"/>
            <a:ext cx="2438640" cy="4572000"/>
            <a:chOff x="6095880" y="1523880"/>
            <a:chExt cx="2438640" cy="4572000"/>
          </a:xfrm>
        </p:grpSpPr>
        <p:sp>
          <p:nvSpPr>
            <p:cNvPr id="364" name=""/>
            <p:cNvSpPr/>
            <p:nvPr/>
          </p:nvSpPr>
          <p:spPr>
            <a:xfrm>
              <a:off x="60958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Estimativa de dur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as atividad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Bases das estimativ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tualização na lista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tividad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Saí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852-D947-4F3F-ACB3-A85072A6BAC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49CCC-CC40-441A-81A9-19982D0FD54B}" type="datetime1">
              <a:rPr lang="en-US"/>
              <a:t>07/31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rência do Tempo do Proje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62040" y="1523520"/>
            <a:ext cx="8177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finição de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Seqüenciament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Estimativa da Duraçã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Desenvolvimento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trole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clus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810-8C0C-44F0-9138-1CC896296E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384C3-977B-4C7B-B0CA-819C476F10EF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esenvolvimento do Cronogra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É a determinação das datas inicias e finais de cada atividad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Isto deve ser feito de forma realista, ou seja, baseando-se em estimativas capazes de serem cumpri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ve ser feito de forma iterativa com os processos que fornecem entradas para este processo, especialmente a Estimativa da Duração de Atividades e Cus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193-8041-417B-A5AE-5E674A6960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CCC4E-53BF-4CBE-A3FB-5C64AABFB909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Tahoma"/>
              </a:rPr>
              <a:t>Desenvolvimento do Cronograma: Entrad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iagrama de Rede do Proje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É produzido no Seqüenciamento de A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stimativa de Duração das A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duzidas na Estimativa de Duração das A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Necessidades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É uma saída do Planejamento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scrição do Quadro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Quais recursos estarão disponíveis, em quais datas e em quais padrõ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Quanto mais crítico ou compartilhado um recurso, mais difícil é a sua alocação para um determinado proje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23B-F635-4EFD-9964-4C950CAF38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99FA5-FFD8-4A05-80C5-C0F07781A03B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 que é um proje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 que é gerência de proje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isciplinas: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Integração,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sco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Tempo,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us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Qualidade,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municações,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is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quisi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 que é gerência do tempo de proje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A18-2B35-4AE6-9AF1-2CFEF3C78B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E1B4F-805A-40AE-9FFE-F5B4AAD0CAF4}" type="datetime1">
              <a:rPr lang="en-US"/>
              <a:t>07/31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Tahoma"/>
              </a:rPr>
              <a:t>Desenvolvimento do Cronograma: Entrad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alendá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lendários do Proj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lendários dos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stri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atas Impost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ventos Chaves ou Marcos Princip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emiss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diantamentos e Atra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lano de Gerenciamento de Ris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É uma saída do Planejamento de Gerência de Ris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tributos da Ativida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 que vai ser feito, quem vai fazer e onde será fe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A82-1736-449F-9C2E-D3E67DD54A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00E43-3B64-4643-AA27-AEF1B84CE648}" type="datetime1">
              <a:rPr lang="en-US"/>
              <a:t>07/31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660066"/>
                </a:solidFill>
                <a:latin typeface="Tahoma"/>
              </a:rPr>
              <a:t>Desenvolvimento do Cronograma: Ferramentas e Técnicas</a:t>
            </a:r>
            <a:endParaRPr b="0" lang="en-US" sz="2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nálise Matemá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ritical Path Method – CP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étodo do Caminho Crít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Graphical Evaluation And Review Technique – GE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Técnica de Revisão e Avaliação Gráf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ogram Evaluation And Review Technique – PE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Técnica de Revisão e Avaliação do Progra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F04-A0F7-4745-B883-FCB8EB5552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5208B-B57D-4888-B231-06798B4966C8}" type="datetime1">
              <a:rPr lang="en-US"/>
              <a:t>07/31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660066"/>
                </a:solidFill>
                <a:latin typeface="Tahoma"/>
              </a:rPr>
              <a:t>Desenvolvimento do Cronograma: Ferramentas e Técnicas</a:t>
            </a:r>
            <a:endParaRPr b="0" lang="en-US" sz="2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458c"/>
                </a:solidFill>
                <a:latin typeface="Tahoma"/>
              </a:rPr>
              <a:t>Program Evaluation And Review Technique – PERT</a:t>
            </a:r>
            <a:endParaRPr b="0" lang="en-US" sz="2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20192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9" name="GraficoPert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38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4E3-B824-4EB5-9380-4620A6FC8D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506D2-7F97-4D08-801A-CA1952E49474}" type="datetime1">
              <a:rPr lang="en-US"/>
              <a:t>07/31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660066"/>
                </a:solidFill>
                <a:latin typeface="Tahoma"/>
              </a:rPr>
              <a:t>Desenvolvimento do Cronograma: Ferramentas e Técnicas</a:t>
            </a:r>
            <a:endParaRPr b="0" lang="en-US" sz="2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mpressão da Dura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olisão (crashin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minho rápido (fast trackin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imul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nálise de Monte Car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nálise “What-if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Heurística de Nivelamento dos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oftwares de Gerência de Proje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strutura de Codific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1D6-D800-411B-8E5F-111E905294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DA0AB-8F8C-4445-B355-2AA46BAB66B7}" type="datetime1">
              <a:rPr lang="en-US"/>
              <a:t>07/31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66"/>
                </a:solidFill>
                <a:latin typeface="Tahoma"/>
              </a:rPr>
              <a:t>Desenvolvimento do Cronograma: Saíd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ronograma do Proje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rá utilizado no Controle do Cronograma e na Orçamentação dos Cus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de ser apresentado nas seguintes form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iagrama de Rede do Projeto Acrescido de Dat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ráfico de Barras (Gráfico de Grant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ráfico de Mar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talhes de supor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lano de gerência do cronogra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rá utilizado no Controle do Cronogra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tualização dos recursos necessá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5E6-9E80-43DF-8BE1-2DC3821712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B6726-2C2E-4395-82AA-D38E29923ECF}" type="datetime1">
              <a:rPr lang="en-US"/>
              <a:t>07/31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66"/>
                </a:solidFill>
                <a:latin typeface="Tahoma"/>
              </a:rPr>
              <a:t>Desenvolvimento do Cronograma: Saíd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Diagrama de Rede do Projeto Com Dat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200484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7" name="DiagramaDeRedeComDatas" descr=""/>
          <p:cNvPicPr/>
          <p:nvPr/>
        </p:nvPicPr>
        <p:blipFill>
          <a:blip r:embed="rId1"/>
          <a:stretch/>
        </p:blipFill>
        <p:spPr>
          <a:xfrm>
            <a:off x="838080" y="1824120"/>
            <a:ext cx="7543800" cy="43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183-DAF5-4E69-8013-0E31DDCF4F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20237-32D4-4C9B-8DF3-1E3066B81DFD}" type="datetime1">
              <a:rPr lang="en-US"/>
              <a:t>07/31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66"/>
                </a:solidFill>
                <a:latin typeface="Tahoma"/>
              </a:rPr>
              <a:t>Desenvolvimento do Cronograma: Saíd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Gráfico de Barras ou Gráfico de Grant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00484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192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2" name="GraficoDeBarr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620120" cy="38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764-580F-4BE2-9594-87135124FD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A5E96-8AC4-41A0-B92D-4771CA38F60A}" type="datetime1">
              <a:rPr lang="en-US"/>
              <a:t>07/31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66"/>
                </a:solidFill>
                <a:latin typeface="Tahoma"/>
              </a:rPr>
              <a:t>Desenvolvimento do Cronograma: Saíd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Gráfico de Mar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200484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192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765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8" name="GraficoDeMarcos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7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004-53E9-4E8A-B678-97DB27DAA4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9FC1C-8953-400C-A552-8993CBF63FE4}" type="datetime1">
              <a:rPr lang="en-US"/>
              <a:t>07/31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660066"/>
                </a:solidFill>
                <a:latin typeface="Tahoma"/>
              </a:rPr>
              <a:t>Desenvolvimento do Cronograma: Resumo</a:t>
            </a:r>
            <a:endParaRPr b="0" lang="en-US" sz="3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2286000"/>
            <a:ext cx="8839080" cy="3048120"/>
          </a:xfrm>
          <a:prstGeom prst="rightArrow">
            <a:avLst>
              <a:gd name="adj1" fmla="val 64370"/>
              <a:gd name="adj2" fmla="val 13492"/>
            </a:avLst>
          </a:prstGeom>
          <a:solidFill>
            <a:srgbClr val="80808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09480" y="1523880"/>
            <a:ext cx="2438640" cy="4572000"/>
            <a:chOff x="609480" y="1523880"/>
            <a:chExt cx="2438640" cy="4572000"/>
          </a:xfrm>
        </p:grpSpPr>
        <p:sp>
          <p:nvSpPr>
            <p:cNvPr id="402" name=""/>
            <p:cNvSpPr/>
            <p:nvPr/>
          </p:nvSpPr>
          <p:spPr>
            <a:xfrm>
              <a:off x="6094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iagrama de rede d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roje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Estimativas da dur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as Atividad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Necessidades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curs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scrição do quatro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curs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Calendári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striçõ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remiss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lano de gerenciamen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 risc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tributos das atividad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94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Entra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352680" y="1523880"/>
            <a:ext cx="2438640" cy="4572000"/>
            <a:chOff x="3352680" y="1523880"/>
            <a:chExt cx="2438640" cy="4572000"/>
          </a:xfrm>
        </p:grpSpPr>
        <p:sp>
          <p:nvSpPr>
            <p:cNvPr id="405" name=""/>
            <p:cNvSpPr/>
            <p:nvPr/>
          </p:nvSpPr>
          <p:spPr>
            <a:xfrm>
              <a:off x="33526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nálise matemátic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Compressão da dur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Simulaçõ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Heurísticas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nivelamento 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curs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Softwares de gerênci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 proje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Estruturas de codific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526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Ferramentas e Técnic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095880" y="1523880"/>
            <a:ext cx="2438640" cy="4572000"/>
            <a:chOff x="6095880" y="1523880"/>
            <a:chExt cx="2438640" cy="4572000"/>
          </a:xfrm>
        </p:grpSpPr>
        <p:sp>
          <p:nvSpPr>
            <p:cNvPr id="408" name=""/>
            <p:cNvSpPr/>
            <p:nvPr/>
          </p:nvSpPr>
          <p:spPr>
            <a:xfrm>
              <a:off x="60958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Cronograma do proje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talhes de suport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lano de gerenciamen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o cronogram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tualização d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necessidade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curs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958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Saí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65C-B847-44C8-80A1-9B7AE4B2A32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6C6D9-015B-462A-A239-D051377321E2}" type="datetime1">
              <a:rPr lang="en-US"/>
              <a:t>07/31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rência do Tempo do Proje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62040" y="1523520"/>
            <a:ext cx="8177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finição de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Seqüenciament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Estimativa da Duraçã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senvolvimento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Controle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clus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D83-CEE5-4504-B452-980570B496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D0173-1742-4696-9979-1ABA59B2B9D3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Processos da Gerência de Proje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9480" y="1371600"/>
            <a:ext cx="7925040" cy="4876920"/>
            <a:chOff x="609480" y="1371600"/>
            <a:chExt cx="7925040" cy="4876920"/>
          </a:xfrm>
        </p:grpSpPr>
        <p:sp>
          <p:nvSpPr>
            <p:cNvPr id="225" name=""/>
            <p:cNvSpPr/>
            <p:nvPr/>
          </p:nvSpPr>
          <p:spPr>
            <a:xfrm>
              <a:off x="609480" y="1371600"/>
              <a:ext cx="2438640" cy="609840"/>
            </a:xfrm>
            <a:prstGeom prst="flowChartAlternateProcess">
              <a:avLst/>
            </a:prstGeom>
            <a:solidFill>
              <a:srgbClr val="ecd882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Iniciaçã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7600" y="1371600"/>
              <a:ext cx="4876920" cy="2133720"/>
            </a:xfrm>
            <a:prstGeom prst="flowChartAlternateProcess">
              <a:avLst/>
            </a:prstGeom>
            <a:solidFill>
              <a:srgbClr val="ecd882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Planeja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480" y="2590920"/>
              <a:ext cx="2438640" cy="2438280"/>
            </a:xfrm>
            <a:prstGeom prst="flowChartAlternateProcess">
              <a:avLst/>
            </a:prstGeom>
            <a:solidFill>
              <a:srgbClr val="ecd882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Contro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480" y="5639040"/>
              <a:ext cx="2438640" cy="609480"/>
            </a:xfrm>
            <a:prstGeom prst="flowChartAlternateProcess">
              <a:avLst/>
            </a:prstGeom>
            <a:solidFill>
              <a:srgbClr val="ecd882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Encerra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57600" y="4114800"/>
              <a:ext cx="4876920" cy="2133720"/>
            </a:xfrm>
            <a:prstGeom prst="flowChartAlternateProcess">
              <a:avLst/>
            </a:prstGeom>
            <a:solidFill>
              <a:srgbClr val="ecd882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Execuçã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8120" y="1524240"/>
              <a:ext cx="609480" cy="304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b7c1eb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274320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b7c1eb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48120" y="4267440"/>
              <a:ext cx="609480" cy="304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b7c1eb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0800000">
              <a:off x="3047760" y="457164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b7c1eb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1523880" y="5181840"/>
              <a:ext cx="609840" cy="30456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b7c1eb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790960" y="365760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b7c1eb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657600" y="1371600"/>
            <a:ext cx="4876920" cy="2133720"/>
            <a:chOff x="3657600" y="1371600"/>
            <a:chExt cx="4876920" cy="2133720"/>
          </a:xfrm>
        </p:grpSpPr>
        <p:sp>
          <p:nvSpPr>
            <p:cNvPr id="237" name=""/>
            <p:cNvSpPr/>
            <p:nvPr/>
          </p:nvSpPr>
          <p:spPr>
            <a:xfrm>
              <a:off x="3657600" y="1371600"/>
              <a:ext cx="4876920" cy="2133720"/>
            </a:xfrm>
            <a:prstGeom prst="flowChartAlternateProcess">
              <a:avLst/>
            </a:prstGeom>
            <a:solidFill>
              <a:srgbClr val="ecd882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Planeja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6920" y="1981440"/>
              <a:ext cx="2438280" cy="533160"/>
            </a:xfrm>
            <a:prstGeom prst="flowChartAlternateProcess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Essenciai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920" y="2895840"/>
              <a:ext cx="2438280" cy="457200"/>
            </a:xfrm>
            <a:prstGeom prst="flowChartAlternateProcess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Facilitad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2514600"/>
              <a:ext cx="228600" cy="381240"/>
            </a:xfrm>
            <a:prstGeom prst="upDownArrow">
              <a:avLst>
                <a:gd name="adj1" fmla="val 50000"/>
                <a:gd name="adj2" fmla="val 33200"/>
              </a:avLst>
            </a:prstGeom>
            <a:solidFill>
              <a:srgbClr val="b7c1eb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657600" y="4114800"/>
            <a:ext cx="4876920" cy="2133720"/>
            <a:chOff x="3657600" y="4114800"/>
            <a:chExt cx="4876920" cy="2133720"/>
          </a:xfrm>
        </p:grpSpPr>
        <p:sp>
          <p:nvSpPr>
            <p:cNvPr id="242" name=""/>
            <p:cNvSpPr/>
            <p:nvPr/>
          </p:nvSpPr>
          <p:spPr>
            <a:xfrm>
              <a:off x="3657600" y="4114800"/>
              <a:ext cx="4876920" cy="2133720"/>
            </a:xfrm>
            <a:prstGeom prst="flowChartAlternateProcess">
              <a:avLst/>
            </a:prstGeom>
            <a:solidFill>
              <a:srgbClr val="ecd882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Execuçã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4724640"/>
              <a:ext cx="2438280" cy="533160"/>
            </a:xfrm>
            <a:prstGeom prst="flowChartAlternateProcess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Essenciai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6920" y="5639040"/>
              <a:ext cx="2438280" cy="457200"/>
            </a:xfrm>
            <a:prstGeom prst="flowChartAlternateProcess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Facilitad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5257800"/>
              <a:ext cx="228600" cy="381240"/>
            </a:xfrm>
            <a:prstGeom prst="upDownArrow">
              <a:avLst>
                <a:gd name="adj1" fmla="val 50000"/>
                <a:gd name="adj2" fmla="val 33200"/>
              </a:avLst>
            </a:prstGeom>
            <a:solidFill>
              <a:srgbClr val="b7c1eb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09480" y="2590920"/>
            <a:ext cx="2438640" cy="2438280"/>
            <a:chOff x="609480" y="2590920"/>
            <a:chExt cx="2438640" cy="2438280"/>
          </a:xfrm>
        </p:grpSpPr>
        <p:sp>
          <p:nvSpPr>
            <p:cNvPr id="247" name=""/>
            <p:cNvSpPr/>
            <p:nvPr/>
          </p:nvSpPr>
          <p:spPr>
            <a:xfrm>
              <a:off x="609480" y="2590920"/>
              <a:ext cx="2438640" cy="2438280"/>
            </a:xfrm>
            <a:prstGeom prst="flowChartAlternateProcess">
              <a:avLst/>
            </a:prstGeom>
            <a:solidFill>
              <a:srgbClr val="ecd882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Contro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" y="3353040"/>
              <a:ext cx="2286000" cy="533160"/>
            </a:xfrm>
            <a:prstGeom prst="flowChartAlternateProcess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Essenciai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" y="4267440"/>
              <a:ext cx="2286000" cy="457200"/>
            </a:xfrm>
            <a:prstGeom prst="flowChartAlternateProcess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ahoma"/>
                </a:rPr>
                <a:t>Facilitad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09640" y="3886200"/>
              <a:ext cx="228600" cy="381240"/>
            </a:xfrm>
            <a:prstGeom prst="upDownArrow">
              <a:avLst>
                <a:gd name="adj1" fmla="val 50000"/>
                <a:gd name="adj2" fmla="val 33200"/>
              </a:avLst>
            </a:prstGeom>
            <a:solidFill>
              <a:srgbClr val="b7c1eb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054-FFA1-42EA-9895-8A636D993F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E5352-4F3A-47D8-B266-50A1AF926450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ntrole do Cronogra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Influenciar os fatores que criam mudanças no cronograma, para garantir que as mudanças sejam benéfic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terminar que o cronograma foi alter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Gerenciar as mudanças reais, quando e como elas ocorr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ve ainda estar fortemente integrado com os outros processo de controle do proje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B08-8ED9-4161-9EAF-C3A6B7D96A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E8A6E-970D-4249-BFB5-0CD7717577F6}" type="datetime1">
              <a:rPr lang="en-US"/>
              <a:t>07/31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ntrole do Cronograma: Ent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Cronograma do Proje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oduzido no Desenvolvimento do Cronogra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elatório de Desempenh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oduzido no processo Relato de Desempenh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equisições de Mudanç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Também produzido no processo Relato de Desempenh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lano de Gerência do Cronogra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fine como as mudanças no cronograma serão gerenci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879-0F82-4DEF-B4FD-36D0F0E026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1FE48-EE75-48C1-B6A8-99CEF368AB3B}" type="datetime1">
              <a:rPr lang="en-US"/>
              <a:t>07/31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660066"/>
                </a:solidFill>
                <a:latin typeface="Tahoma"/>
              </a:rPr>
              <a:t>Controle do Cronograma: Ferramentas e Técnicas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istema de Controle de Mudanças no Cronogra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efine procedimentos pelos quais o cronograma do projeto pode ser mud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edição de Desempenh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rá descrita no Gerenciamento das Comunic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lanejamento Adici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oftwares de Gerência de Proje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nálise de Vari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onitorar os desvios entre as datas planejadas e as reais é importante para implementar soluções corretivas no casos de atrasos no cronograma do proj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4E8-784B-406B-9C19-26114F52E7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8FE26-17FC-4F39-9345-42A33C542F03}" type="datetime1">
              <a:rPr lang="en-US"/>
              <a:t>07/31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ntrole do Cronograma: Saíd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tualizações do Cronogra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s partes envolvidas afetadas devem ser notifica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visões são mudanças nas datas de início e término do cronograma aprovado do proje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 o atraso for muito severo será necessário um replanejamento (rebaselinin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ções Corre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É tudo aquilo que é feito para compatibilizar o cronograma com o plano do proj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Lições Aprendi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s causas reais dos atrasos e outras lições aprendidas devem ser documenta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C99-A429-4324-8989-30B045C0D42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4BA60-B2DA-41D3-BB89-69C329E5C391}" type="datetime1">
              <a:rPr lang="en-US"/>
              <a:t>07/31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660066"/>
                </a:solidFill>
                <a:latin typeface="Tahoma"/>
              </a:rPr>
              <a:t>Controle do Cronograma: Resumo</a:t>
            </a:r>
            <a:endParaRPr b="0" lang="en-US" sz="3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" y="2286000"/>
            <a:ext cx="8839080" cy="3048120"/>
          </a:xfrm>
          <a:prstGeom prst="rightArrow">
            <a:avLst>
              <a:gd name="adj1" fmla="val 64370"/>
              <a:gd name="adj2" fmla="val 13492"/>
            </a:avLst>
          </a:prstGeom>
          <a:solidFill>
            <a:srgbClr val="80808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09480" y="1523880"/>
            <a:ext cx="2438640" cy="4572000"/>
            <a:chOff x="609480" y="1523880"/>
            <a:chExt cx="2438640" cy="4572000"/>
          </a:xfrm>
        </p:grpSpPr>
        <p:sp>
          <p:nvSpPr>
            <p:cNvPr id="423" name=""/>
            <p:cNvSpPr/>
            <p:nvPr/>
          </p:nvSpPr>
          <p:spPr>
            <a:xfrm>
              <a:off x="6094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Cronograma do proje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latórios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sempenh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Requisições de mudanç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lano de gerência d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cronogram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94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Entra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352680" y="1523880"/>
            <a:ext cx="2438640" cy="4572000"/>
            <a:chOff x="3352680" y="1523880"/>
            <a:chExt cx="2438640" cy="4572000"/>
          </a:xfrm>
        </p:grpSpPr>
        <p:sp>
          <p:nvSpPr>
            <p:cNvPr id="426" name=""/>
            <p:cNvSpPr/>
            <p:nvPr/>
          </p:nvSpPr>
          <p:spPr>
            <a:xfrm>
              <a:off x="33526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Sistema de controle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mudanças n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cronogram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Medição de desempenh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Planejamento adiciona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Softwares de gerênci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de proje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nálise de variaçõ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526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Ferramentas e Técnic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095880" y="1523880"/>
            <a:ext cx="2438640" cy="4572000"/>
            <a:chOff x="6095880" y="1523880"/>
            <a:chExt cx="2438640" cy="4572000"/>
          </a:xfrm>
        </p:grpSpPr>
        <p:sp>
          <p:nvSpPr>
            <p:cNvPr id="429" name=""/>
            <p:cNvSpPr/>
            <p:nvPr/>
          </p:nvSpPr>
          <p:spPr>
            <a:xfrm>
              <a:off x="6095880" y="1523880"/>
              <a:ext cx="2438640" cy="45720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tualizações d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cronogram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Ações corretiv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ahoma"/>
                </a:rPr>
                <a:t>Lições aprendid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5880" y="1523880"/>
              <a:ext cx="2438640" cy="457200"/>
            </a:xfrm>
            <a:prstGeom prst="rect">
              <a:avLst/>
            </a:prstGeom>
            <a:solidFill>
              <a:srgbClr val="cfdbfd"/>
            </a:soli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ahoma"/>
                </a:rPr>
                <a:t>Saídas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628-844D-40E8-A5FC-6DD0D8E00CB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D533E-0FE3-480B-BB95-110962582E4A}" type="datetime1">
              <a:rPr lang="en-US"/>
              <a:t>07/31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rência do Tempo do Proje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62040" y="1523520"/>
            <a:ext cx="8177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finição de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Seqüenciament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Estimativa da Duraçã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senvolvimento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trole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Conclus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141-2ECE-4E15-A6CF-8F68957E388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4AC79-B3EB-4D30-A189-46018E91424A}" type="datetime1">
              <a:rPr lang="en-US"/>
              <a:t>07/31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nclus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Junto com a Gerência do Escopo e de Custos, a Gerência do Tempo do Projeto é uma das mais importantes disciplinas para o sucesso de um proje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em a metodologia apresentada aqui, a possibilidade de insucesso de um projeto é muito maio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Deveríamos ter uma disciplina no curso, somente para a Gerência de Proje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D56-0482-4A7C-833B-4ED843BB36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1873F-4554-4DBA-8F05-89CD51A944D7}" type="datetime1">
              <a:rPr lang="en-US"/>
              <a:t>07/31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1760" y="15998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200" spc="-1" strike="noStrike">
                <a:solidFill>
                  <a:srgbClr val="ff0000"/>
                </a:solidFill>
                <a:latin typeface="Vogue"/>
              </a:rPr>
              <a:t>Gerência de Projetos</a:t>
            </a:r>
            <a:br>
              <a:rPr sz="6200"/>
            </a:br>
            <a:r>
              <a:rPr b="1" lang="pt-BR" sz="4200" spc="-1" strike="noStrike">
                <a:solidFill>
                  <a:srgbClr val="ff0000"/>
                </a:solidFill>
                <a:latin typeface="Vogue"/>
              </a:rPr>
              <a:t>Gerência do Tempo do Projeto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7720" y="5486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Vogue"/>
              </a:rPr>
              <a:t>Gustavo Alexandre de Oliveira Silva 1971267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Vogue"/>
              </a:rPr>
              <a:t>Márcio Aurélio Ribeiro Moreira 1981272-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Vogue"/>
              </a:rPr>
              <a:t>Março/200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358128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3333ff"/>
                </a:solidFill>
                <a:latin typeface="Vogue"/>
              </a:rPr>
              <a:t>Obrigado!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Processos do Planejam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1371600"/>
            <a:ext cx="8076960" cy="4952880"/>
          </a:xfrm>
          <a:prstGeom prst="flowChartAlternateProcess">
            <a:avLst/>
          </a:prstGeom>
          <a:solidFill>
            <a:srgbClr val="ffffcc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do Planeja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029200"/>
            <a:ext cx="7772400" cy="99072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Facilitado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905120"/>
            <a:ext cx="7772400" cy="274320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Essencia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4648320"/>
            <a:ext cx="228600" cy="38088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b7c1eb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2438280"/>
            <a:ext cx="106668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 Escop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2438280"/>
            <a:ext cx="1066680" cy="60984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efinição d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tividad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2438280"/>
            <a:ext cx="1219320" cy="60984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Seqüencia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as Atividad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2895480"/>
            <a:ext cx="1219320" cy="60984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esenvolv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 Cronogram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2438280"/>
            <a:ext cx="1066680" cy="60984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Orçamenta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s Custo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895480"/>
            <a:ext cx="838080" cy="609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lano 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roje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3352680"/>
            <a:ext cx="106668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efini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 Escop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352680"/>
            <a:ext cx="1066680" cy="60984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s Recurso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352680"/>
            <a:ext cx="1219320" cy="60984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uração d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tividad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352680"/>
            <a:ext cx="1066680" cy="60984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Estimativ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s Custo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048120"/>
            <a:ext cx="0" cy="30456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3657600"/>
            <a:ext cx="228600" cy="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828800" y="3048120"/>
            <a:ext cx="228600" cy="30456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3800" y="3657600"/>
            <a:ext cx="228600" cy="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2743200"/>
            <a:ext cx="228600" cy="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3048120"/>
            <a:ext cx="228600" cy="30456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971800"/>
            <a:ext cx="228600" cy="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2971800"/>
            <a:ext cx="228600" cy="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781680" y="3048120"/>
            <a:ext cx="0" cy="30456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4343400"/>
            <a:ext cx="5486400" cy="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3962520"/>
            <a:ext cx="0" cy="3808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3962520"/>
            <a:ext cx="0" cy="3808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419800" y="3505320"/>
            <a:ext cx="0" cy="83808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781680" y="3962520"/>
            <a:ext cx="0" cy="38088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429000"/>
            <a:ext cx="228600" cy="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824-AB6A-48F1-9E2A-65F1FF49B7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71D15-DABD-4000-AE73-7DCF4FB93558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Processos de Contro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371600"/>
            <a:ext cx="8076960" cy="4952880"/>
          </a:xfrm>
          <a:prstGeom prst="flowChartAlternateProcess">
            <a:avLst/>
          </a:prstGeom>
          <a:solidFill>
            <a:srgbClr val="ffffcc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de Contro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905120"/>
            <a:ext cx="777240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Essencia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3352680"/>
            <a:ext cx="7772400" cy="274320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Facilitado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5284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b7c1eb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4114800"/>
            <a:ext cx="121896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Verifica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 Escop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62720" y="4114800"/>
            <a:ext cx="1218960" cy="60948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trole 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ronogram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105520"/>
            <a:ext cx="1218960" cy="6094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trole d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62520" y="5105520"/>
            <a:ext cx="1218960" cy="60948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trole 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Respost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os Risco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62720" y="5105520"/>
            <a:ext cx="1218960" cy="60948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trol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s Custo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4114800"/>
            <a:ext cx="121896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trole 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Mudanç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 Escop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4419720"/>
            <a:ext cx="381240" cy="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3AD-89B3-4563-9DEB-02546C00C2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1936A-52B6-4821-BF78-C90624324E3A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rência do Tempo do Proje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62040" y="1523520"/>
            <a:ext cx="8177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Definição de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Seqüenciament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Estimativa da Duração das Atividad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Desenvolvimento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trole do Cronogram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Conclusã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237-8AE1-4679-B9AA-B1BA6F25EF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CD7D1-85EB-4B96-B736-338E0E9881D6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efinição de A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Identificar e documentar as atividades a serem realizadas para atingir os objetivos do proje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s atividades são específicas e produzem os subprodutos dos diversos níveis identificados na Estrutura Analítica do Proje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01E-17E5-4906-833D-A4A61C4FBB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A384F-D05A-4CC2-B9BF-8D93C81F594D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efinição de Atividades: Entrad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strutura Analítica do Projeto (EAP) ou Work Breakdown Structure (WB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onte: Definição do Escop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claração do Esco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Informações Históric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stri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emiss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onte: Identificação dos Ris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valiação Especializ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o Tempo do Proj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53A-201A-41A2-8D9D-7BBF502549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7763C-E623-4A73-89A8-B0C351B22612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árcio Moreira</cp:lastModifiedBy>
  <dcterms:modified xsi:type="dcterms:W3CDTF">2002-03-12T12:10:43Z</dcterms:modified>
  <cp:revision>146</cp:revision>
  <dc:subject/>
  <dc:title>Apresentação do PowerPoint</dc:title>
</cp:coreProperties>
</file>