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9.jpeg" ContentType="image/jpeg"/>
  <Override PartName="/ppt/media/image5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3397-74A8-4E1F-B2B9-DE42CB15AEA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8F1-529D-49AB-B5BF-DBB03443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505-4A35-4EC9-85F2-BC1243C0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283-9EDF-49D5-A8D5-F8C21204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900-4437-4CD4-8558-6CAB94EB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57C3-753F-4785-AC2F-DC4F819A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C40A-BB06-4BF6-9A68-9A916372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ECA8-A07F-49D2-A77C-E5A515E0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7119-3EAC-44C8-BD6E-78EA8BD4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480F-EE98-4C26-8DCC-58C5BED5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733D-E154-4786-B149-ADECB1EA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431B-D82B-4491-865F-136D6E9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9E4-7FD8-4739-B16E-20120DCC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6252-236E-41B4-B55A-7887755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1DD4-DE74-48C8-B2D6-77FA4E5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DF9F-DB44-44F7-AEC9-F3564FCA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4BF2-915E-4D9F-A87A-A137D034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883A-0750-4831-BFCA-52DD85C4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5C7-C05B-47AD-AD3E-79C7405B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BD0-BC76-41D3-9173-B5B5D8B5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D33-34E2-42D2-8483-65EFCEC8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CDB-8303-4CED-92B0-89CC7ADB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2EC-A44F-498E-BFF1-EB5B123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0CA-E389-4E4A-972C-08D9ADF0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577-871B-4940-BD74-D64A6245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819F-EDEF-4679-99D0-39797C786455}" type="datetime">
              <a:rPr b="0" lang="pt-BR" sz="1400" spc="-1" strike="noStrike">
                <a:solidFill>
                  <a:srgbClr val="40458c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A846-4F1C-4BC4-90A0-6875E1D1F1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AccLogoM" descr=""/>
          <p:cNvPicPr/>
          <p:nvPr/>
        </p:nvPicPr>
        <p:blipFill>
          <a:blip r:embed="rId3"/>
          <a:stretch/>
        </p:blipFill>
        <p:spPr>
          <a:xfrm>
            <a:off x="8153280" y="684360"/>
            <a:ext cx="611280" cy="61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7D77-3CAE-4DD1-90A9-814E77BE16C5}" type="datetime">
              <a:rPr b="0" lang="pt-BR" sz="1400" spc="-1" strike="noStrike">
                <a:solidFill>
                  <a:srgbClr val="40458c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685-5C85-47C7-AB1A-6D2EF3A940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31240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00"/>
                </a:solidFill>
                <a:latin typeface="Vogue"/>
              </a:rPr>
              <a:t>Acc</a:t>
            </a:r>
            <a:r>
              <a:rPr b="1" lang="pt-BR" sz="5400" spc="-1" strike="noStrike" baseline="30000">
                <a:solidFill>
                  <a:srgbClr val="ff0000"/>
                </a:solidFill>
                <a:latin typeface="Vogue"/>
              </a:rPr>
              <a:t>®</a:t>
            </a:r>
            <a:r>
              <a:rPr b="1" lang="pt-BR" sz="5400" spc="-1" strike="noStrike">
                <a:solidFill>
                  <a:srgbClr val="ff0000"/>
                </a:solidFill>
                <a:latin typeface="Vogue"/>
              </a:rPr>
              <a:t> &amp; Tupperware</a:t>
            </a:r>
            <a:r>
              <a:rPr b="1" lang="pt-BR" sz="5400" spc="-1" strike="noStrike" baseline="30000">
                <a:solidFill>
                  <a:srgbClr val="ff0000"/>
                </a:solidFill>
                <a:latin typeface="Vogue"/>
              </a:rPr>
              <a:t>®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360" y="40384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ogue"/>
              </a:rPr>
              <a:t>Márcio Moreira – Febrero/200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ogue"/>
              </a:rPr>
              <a:t>marcio@acc.com.b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ogue"/>
              </a:rPr>
              <a:t>+55 (34) 3236-814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accnamebigt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76584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A050-4000-46B1-832F-FA4B6F47FE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03F954-4DEE-45BA-8145-01AA605E50AE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cc &amp; Tupper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86: Versión 1 del Acc Draco</a:t>
            </a:r>
            <a:r>
              <a:rPr b="0" lang="pt-BR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Para un distribuidor Tupperware</a:t>
            </a:r>
            <a:r>
              <a:rPr b="0" lang="pt-BR" sz="3200" spc="-1" strike="noStrike" baseline="30000">
                <a:solidFill>
                  <a:srgbClr val="40458c"/>
                </a:solidFill>
                <a:latin typeface="Tahoma"/>
              </a:rPr>
              <a:t>®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87: Versión 2(p/ algunos distribuido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88: Apertura de Ac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88: Versión 3(p/ muchos distribuido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1994: Versión 4 con Acc DataPower</a:t>
            </a:r>
            <a:r>
              <a:rPr b="0" lang="pt-BR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2000: Versión 5 en Oracle</a:t>
            </a:r>
            <a:r>
              <a:rPr b="0" lang="pt-BR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&amp; Visual Basic(Para todos: TW, CDs, Megas e Distribucion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A9A-4D0F-4F87-BD0E-6155012F6A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5212E-39FE-4BDD-9D12-A4907F9AE3ED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4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is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gular las informaciones de empresas que trabajan con ventas directas a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rear varios niveles de visiones (del cliente al país) con gerencias en todos estos nive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tegrar los módulos de control neces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enerar interfase para las entidades envuelt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islar las reglas del negocio de interf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Flexibilidad, seguridad, confiabilidad, et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90A-E9B5-4298-B091-BE6CEA3FE1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73458-8171-4922-A218-7FFA5C1BFC47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800600" y="2209680"/>
            <a:ext cx="3733920" cy="426744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4267440"/>
              <a:gd name="textAreaBottom" fmla="*/ 4085280 h 4267440"/>
            </a:gdLst>
            <a:ahLst/>
            <a:rect l="textAreaLeft" t="textAreaTop" r="textAreaRight" b="textAreaBottom"/>
            <a:pathLst>
              <a:path w="21600" h="24686">
                <a:moveTo>
                  <a:pt x="3600" y="0"/>
                </a:moveTo>
                <a:arcTo wR="3600" hR="3600" stAng="16200000" swAng="-5400000"/>
                <a:lnTo>
                  <a:pt x="0" y="21086"/>
                </a:lnTo>
                <a:arcTo wR="3600" hR="3600" stAng="10800000" swAng="-5400000"/>
                <a:lnTo>
                  <a:pt x="18000" y="246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Paí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4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 - Niveles de Vi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Fisca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Vent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2209680"/>
            <a:ext cx="3733560" cy="426744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267440"/>
              <a:gd name="textAreaBottom" fmla="*/ 4085280 h 4267440"/>
            </a:gdLst>
            <a:ahLst/>
            <a:rect l="textAreaLeft" t="textAreaTop" r="textAreaRight" b="textAreaBottom"/>
            <a:pathLst>
              <a:path w="21600" h="24688">
                <a:moveTo>
                  <a:pt x="3600" y="0"/>
                </a:moveTo>
                <a:arcTo wR="3600" hR="3600" stAng="16200000" swAng="-5400000"/>
                <a:lnTo>
                  <a:pt x="0" y="21088"/>
                </a:lnTo>
                <a:arcTo wR="3600" hR="3600" stAng="10800000" swAng="-5400000"/>
                <a:lnTo>
                  <a:pt x="18000" y="246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Paí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2819520"/>
            <a:ext cx="3200400" cy="342900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3429000"/>
              <a:gd name="textAreaBottom" fmla="*/ 3272760 h 3429000"/>
            </a:gdLst>
            <a:ahLst/>
            <a:rect l="textAreaLeft" t="textAreaTop" r="textAreaRight" b="textAreaBottom"/>
            <a:pathLst>
              <a:path w="21600" h="23143">
                <a:moveTo>
                  <a:pt x="3600" y="0"/>
                </a:moveTo>
                <a:arcTo wR="3600" hR="3600" stAng="16200000" swAng="-5400000"/>
                <a:lnTo>
                  <a:pt x="0" y="19543"/>
                </a:lnTo>
                <a:arcTo wR="3600" hR="3600" stAng="10800000" swAng="-5400000"/>
                <a:lnTo>
                  <a:pt x="18000" y="231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CDs o Meg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505320"/>
            <a:ext cx="2590920" cy="25146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Empres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449568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Clie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743200"/>
            <a:ext cx="3429000" cy="358128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3581280"/>
              <a:gd name="textAreaBottom" fmla="*/ 3413880 h 3581280"/>
            </a:gdLst>
            <a:ahLst/>
            <a:rect l="textAreaLeft" t="textAreaTop" r="textAreaRight" b="textAreaBottom"/>
            <a:pathLst>
              <a:path w="21600" h="22559">
                <a:moveTo>
                  <a:pt x="3600" y="0"/>
                </a:moveTo>
                <a:arcTo wR="3600" hR="3600" stAng="16200000" swAng="-5400000"/>
                <a:lnTo>
                  <a:pt x="0" y="18959"/>
                </a:lnTo>
                <a:arcTo wR="3600" hR="3600" stAng="10800000" swAng="-5400000"/>
                <a:lnTo>
                  <a:pt x="18000" y="225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Reg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05520" y="3352680"/>
            <a:ext cx="3124080" cy="28195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istribu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57800" y="3886200"/>
            <a:ext cx="2819520" cy="21337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istri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4495680"/>
            <a:ext cx="2514600" cy="13716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Grup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50292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Clie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571-E89A-440A-A4C5-7B7FC0ECDABE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569FF-6614-4EAF-9D84-F3E90B1182A6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4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 - Interfas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5165640" y="2463840"/>
            <a:ext cx="696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25" name="TW_BLACK" descr=""/>
          <p:cNvPicPr/>
          <p:nvPr/>
        </p:nvPicPr>
        <p:blipFill>
          <a:blip r:embed="rId1"/>
          <a:stretch/>
        </p:blipFill>
        <p:spPr>
          <a:xfrm>
            <a:off x="3124080" y="5638680"/>
            <a:ext cx="2773440" cy="67320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1066680" y="1752480"/>
            <a:ext cx="1828800" cy="1541880"/>
            <a:chOff x="1066680" y="1752480"/>
            <a:chExt cx="1828800" cy="1541880"/>
          </a:xfrm>
        </p:grpSpPr>
        <p:pic>
          <p:nvPicPr>
            <p:cNvPr id="427" name="j0078616" descr=""/>
            <p:cNvPicPr/>
            <p:nvPr/>
          </p:nvPicPr>
          <p:blipFill>
            <a:blip r:embed="rId2"/>
            <a:stretch/>
          </p:blipFill>
          <p:spPr>
            <a:xfrm>
              <a:off x="1066680" y="1752480"/>
              <a:ext cx="182880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066680" y="28954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Usuario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3352680"/>
            <a:ext cx="1828800" cy="1452960"/>
            <a:chOff x="685800" y="3352680"/>
            <a:chExt cx="1828800" cy="1452960"/>
          </a:xfrm>
        </p:grpSpPr>
        <p:pic>
          <p:nvPicPr>
            <p:cNvPr id="430" name="3os-2" descr=""/>
            <p:cNvPicPr/>
            <p:nvPr/>
          </p:nvPicPr>
          <p:blipFill>
            <a:blip r:embed="rId3"/>
            <a:stretch/>
          </p:blipFill>
          <p:spPr>
            <a:xfrm>
              <a:off x="685800" y="3352680"/>
              <a:ext cx="182880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685800" y="44067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Fábric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838080" y="5029200"/>
            <a:ext cx="1905120" cy="1389600"/>
            <a:chOff x="838080" y="5029200"/>
            <a:chExt cx="1905120" cy="1389600"/>
          </a:xfrm>
        </p:grpSpPr>
        <p:pic>
          <p:nvPicPr>
            <p:cNvPr id="433" name="j0178788" descr=""/>
            <p:cNvPicPr/>
            <p:nvPr/>
          </p:nvPicPr>
          <p:blipFill>
            <a:blip r:embed="rId4"/>
            <a:stretch/>
          </p:blipFill>
          <p:spPr>
            <a:xfrm>
              <a:off x="990720" y="5029200"/>
              <a:ext cx="16002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838080" y="60199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Cobranza/SPC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435" name="Draco50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828800" cy="123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36" name=""/>
          <p:cNvSpPr/>
          <p:nvPr/>
        </p:nvSpPr>
        <p:spPr>
          <a:xfrm>
            <a:off x="2666880" y="380988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gradFill rotWithShape="0">
            <a:gsLst>
              <a:gs pos="0">
                <a:srgbClr val="6c633b"/>
              </a:gs>
              <a:gs pos="100000">
                <a:srgbClr val="ecd882"/>
              </a:gs>
            </a:gsLst>
            <a:lin ang="13500000"/>
          </a:gra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43600" y="373392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gradFill rotWithShape="0">
            <a:gsLst>
              <a:gs pos="0">
                <a:srgbClr val="6c633b"/>
              </a:gs>
              <a:gs pos="100000">
                <a:srgbClr val="ecd882"/>
              </a:gs>
            </a:gsLst>
            <a:lin ang="13500000"/>
          </a:gra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4457520" y="5143320"/>
            <a:ext cx="838440" cy="457200"/>
          </a:xfrm>
          <a:prstGeom prst="leftRightArrow">
            <a:avLst>
              <a:gd name="adj1" fmla="val 55556"/>
              <a:gd name="adj2" fmla="val 52095"/>
            </a:avLst>
          </a:prstGeom>
          <a:gradFill rotWithShape="0">
            <a:gsLst>
              <a:gs pos="0">
                <a:srgbClr val="6c633b"/>
              </a:gs>
              <a:gs pos="100000">
                <a:srgbClr val="ecd882"/>
              </a:gs>
            </a:gsLst>
            <a:lin ang="13500000"/>
          </a:gra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5400000">
            <a:off x="4533480" y="3024000"/>
            <a:ext cx="685800" cy="304920"/>
          </a:xfrm>
          <a:prstGeom prst="leftRightArrow">
            <a:avLst>
              <a:gd name="adj1" fmla="val 55556"/>
              <a:gd name="adj2" fmla="val 63891"/>
            </a:avLst>
          </a:prstGeom>
          <a:gradFill rotWithShape="0">
            <a:gsLst>
              <a:gs pos="0">
                <a:srgbClr val="6c633b"/>
              </a:gs>
              <a:gs pos="100000">
                <a:srgbClr val="ecd882"/>
              </a:gs>
            </a:gsLst>
            <a:lin ang="13500000"/>
          </a:gra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700000">
            <a:off x="2895840" y="27432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gradFill rotWithShape="0">
            <a:gsLst>
              <a:gs pos="0">
                <a:srgbClr val="6c633b"/>
              </a:gs>
              <a:gs pos="100000">
                <a:srgbClr val="ecd882"/>
              </a:gs>
            </a:gsLst>
            <a:lin ang="13500000"/>
          </a:gra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700000">
            <a:off x="5753160" y="46098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gradFill rotWithShape="0">
            <a:gsLst>
              <a:gs pos="0">
                <a:srgbClr val="6c633b"/>
              </a:gs>
              <a:gs pos="100000">
                <a:srgbClr val="ecd882"/>
              </a:gs>
            </a:gsLst>
            <a:lin ang="13500000"/>
          </a:gra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8100000">
            <a:off x="2742480" y="472428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gradFill rotWithShape="0">
            <a:gsLst>
              <a:gs pos="0">
                <a:srgbClr val="6c633b"/>
              </a:gs>
              <a:gs pos="100000">
                <a:srgbClr val="ecd882"/>
              </a:gs>
            </a:gsLst>
            <a:lin ang="13500000"/>
          </a:gra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172200" y="1447920"/>
            <a:ext cx="1905120" cy="1891080"/>
            <a:chOff x="6172200" y="1447920"/>
            <a:chExt cx="1905120" cy="1891080"/>
          </a:xfrm>
        </p:grpSpPr>
        <p:pic>
          <p:nvPicPr>
            <p:cNvPr id="444" name="" descr=""/>
            <p:cNvPicPr/>
            <p:nvPr/>
          </p:nvPicPr>
          <p:blipFill>
            <a:blip r:embed="rId6"/>
            <a:stretch/>
          </p:blipFill>
          <p:spPr>
            <a:xfrm>
              <a:off x="6172200" y="1447920"/>
              <a:ext cx="190512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6324480" y="2635200"/>
              <a:ext cx="175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Lectora Óptic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 rot="8100000">
            <a:off x="5333400" y="281952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gradFill rotWithShape="0">
            <a:gsLst>
              <a:gs pos="0">
                <a:srgbClr val="6c633b"/>
              </a:gs>
              <a:gs pos="100000">
                <a:srgbClr val="ecd882"/>
              </a:gs>
            </a:gsLst>
            <a:lin ang="13500000"/>
          </a:gra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162920" y="3352680"/>
            <a:ext cx="1676160" cy="1465920"/>
            <a:chOff x="7162920" y="3352680"/>
            <a:chExt cx="1676160" cy="1465920"/>
          </a:xfrm>
        </p:grpSpPr>
        <p:sp>
          <p:nvSpPr>
            <p:cNvPr id="448" name=""/>
            <p:cNvSpPr/>
            <p:nvPr/>
          </p:nvSpPr>
          <p:spPr>
            <a:xfrm>
              <a:off x="7467480" y="441972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Banco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49" name="j0177737" descr=""/>
            <p:cNvPicPr/>
            <p:nvPr/>
          </p:nvPicPr>
          <p:blipFill>
            <a:blip r:embed="rId7"/>
            <a:stretch/>
          </p:blipFill>
          <p:spPr>
            <a:xfrm>
              <a:off x="7162920" y="3352680"/>
              <a:ext cx="1676160" cy="111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"/>
          <p:cNvGrpSpPr/>
          <p:nvPr/>
        </p:nvGrpSpPr>
        <p:grpSpPr>
          <a:xfrm>
            <a:off x="6705720" y="5029200"/>
            <a:ext cx="1752480" cy="1389600"/>
            <a:chOff x="6705720" y="5029200"/>
            <a:chExt cx="1752480" cy="1389600"/>
          </a:xfrm>
        </p:grpSpPr>
        <p:sp>
          <p:nvSpPr>
            <p:cNvPr id="451" name=""/>
            <p:cNvSpPr/>
            <p:nvPr/>
          </p:nvSpPr>
          <p:spPr>
            <a:xfrm>
              <a:off x="6705720" y="6019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Contabilidad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52" name="PH01610J" descr=""/>
            <p:cNvPicPr/>
            <p:nvPr/>
          </p:nvPicPr>
          <p:blipFill>
            <a:blip r:embed="rId8"/>
            <a:stretch/>
          </p:blipFill>
          <p:spPr>
            <a:xfrm>
              <a:off x="6781680" y="5029200"/>
              <a:ext cx="1600200" cy="105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"/>
          <p:cNvGrpSpPr/>
          <p:nvPr/>
        </p:nvGrpSpPr>
        <p:grpSpPr>
          <a:xfrm>
            <a:off x="3962520" y="1360440"/>
            <a:ext cx="1828800" cy="1553040"/>
            <a:chOff x="3962520" y="1360440"/>
            <a:chExt cx="1828800" cy="1553040"/>
          </a:xfrm>
        </p:grpSpPr>
        <p:sp>
          <p:nvSpPr>
            <p:cNvPr id="454" name=""/>
            <p:cNvSpPr/>
            <p:nvPr/>
          </p:nvSpPr>
          <p:spPr>
            <a:xfrm>
              <a:off x="3962520" y="2514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40458c"/>
                  </a:solidFill>
                  <a:latin typeface="Tahoma"/>
                </a:rPr>
                <a:t>Fisc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55" name="j0145863" descr=""/>
            <p:cNvPicPr/>
            <p:nvPr/>
          </p:nvPicPr>
          <p:blipFill>
            <a:blip r:embed="rId9"/>
            <a:stretch/>
          </p:blipFill>
          <p:spPr>
            <a:xfrm>
              <a:off x="3962520" y="1360440"/>
              <a:ext cx="1828800" cy="120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25D-E8EA-4A93-AEEB-75821E7243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05340-4155-4EB4-8F45-0B990304935C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Módu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9480" y="4876920"/>
            <a:ext cx="1828440" cy="1221840"/>
            <a:chOff x="609480" y="4876920"/>
            <a:chExt cx="1828440" cy="1221840"/>
          </a:xfrm>
        </p:grpSpPr>
        <p:pic>
          <p:nvPicPr>
            <p:cNvPr id="458" name="E-%20Process%20%20no%20type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09480" y="4876920"/>
              <a:ext cx="1828440" cy="122184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459" name=""/>
            <p:cNvSpPr/>
            <p:nvPr/>
          </p:nvSpPr>
          <p:spPr>
            <a:xfrm>
              <a:off x="704160" y="4989960"/>
              <a:ext cx="16545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uentas por Recibi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/ Paga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010280" y="4876920"/>
            <a:ext cx="1838520" cy="1218960"/>
            <a:chOff x="7010280" y="4876920"/>
            <a:chExt cx="1838520" cy="1218960"/>
          </a:xfrm>
        </p:grpSpPr>
        <p:pic>
          <p:nvPicPr>
            <p:cNvPr id="461" name="E-%20Cust%20and%20Partner%20no%20type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7037280" y="4876920"/>
              <a:ext cx="1811520" cy="121896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462" name=""/>
            <p:cNvSpPr/>
            <p:nvPr/>
          </p:nvSpPr>
          <p:spPr>
            <a:xfrm>
              <a:off x="7010280" y="525780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Venta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876920" y="1828800"/>
            <a:ext cx="1828800" cy="1219320"/>
            <a:chOff x="4876920" y="1828800"/>
            <a:chExt cx="1828800" cy="1219320"/>
          </a:xfrm>
        </p:grpSpPr>
        <p:pic>
          <p:nvPicPr>
            <p:cNvPr id="464" name="" descr=""/>
            <p:cNvPicPr/>
            <p:nvPr/>
          </p:nvPicPr>
          <p:blipFill>
            <a:blip r:embed="rId3"/>
            <a:stretch/>
          </p:blipFill>
          <p:spPr>
            <a:xfrm>
              <a:off x="4876920" y="1828800"/>
              <a:ext cx="1828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4876920" y="2228760"/>
              <a:ext cx="17366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Tahoma"/>
                </a:rPr>
                <a:t>Correo Direc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752560" y="4876920"/>
            <a:ext cx="1828440" cy="1218600"/>
            <a:chOff x="2752560" y="4876920"/>
            <a:chExt cx="1828440" cy="1218600"/>
          </a:xfrm>
        </p:grpSpPr>
        <p:pic>
          <p:nvPicPr>
            <p:cNvPr id="467" name="" descr=""/>
            <p:cNvPicPr/>
            <p:nvPr/>
          </p:nvPicPr>
          <p:blipFill>
            <a:blip r:embed="rId4"/>
            <a:stretch/>
          </p:blipFill>
          <p:spPr>
            <a:xfrm>
              <a:off x="2752560" y="4876920"/>
              <a:ext cx="18284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900160" y="5252040"/>
              <a:ext cx="1465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Fisca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00120" y="1828800"/>
            <a:ext cx="1828800" cy="1219320"/>
            <a:chOff x="600120" y="1828800"/>
            <a:chExt cx="1828800" cy="1219320"/>
          </a:xfrm>
        </p:grpSpPr>
        <p:pic>
          <p:nvPicPr>
            <p:cNvPr id="470" name="" descr=""/>
            <p:cNvPicPr/>
            <p:nvPr/>
          </p:nvPicPr>
          <p:blipFill>
            <a:blip r:embed="rId5"/>
            <a:stretch/>
          </p:blipFill>
          <p:spPr>
            <a:xfrm>
              <a:off x="619200" y="1828800"/>
              <a:ext cx="18097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600120" y="2286000"/>
              <a:ext cx="1828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ra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657520" y="3352680"/>
            <a:ext cx="1981080" cy="1219320"/>
            <a:chOff x="2657520" y="3352680"/>
            <a:chExt cx="1981080" cy="1219320"/>
          </a:xfrm>
        </p:grpSpPr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2760840" y="3352680"/>
              <a:ext cx="18097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657520" y="3809880"/>
              <a:ext cx="1981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Fatur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728800" y="1828800"/>
            <a:ext cx="1833480" cy="1219320"/>
            <a:chOff x="2728800" y="1828800"/>
            <a:chExt cx="1833480" cy="1219320"/>
          </a:xfrm>
        </p:grpSpPr>
        <p:pic>
          <p:nvPicPr>
            <p:cNvPr id="476" name="7015" descr=""/>
            <p:cNvPicPr/>
            <p:nvPr/>
          </p:nvPicPr>
          <p:blipFill>
            <a:blip r:embed="rId7"/>
            <a:srcRect l="0" t="25063" r="0" b="9727"/>
            <a:stretch/>
          </p:blipFill>
          <p:spPr>
            <a:xfrm>
              <a:off x="2760480" y="1828800"/>
              <a:ext cx="1801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728800" y="228600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Stock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09480" y="3352680"/>
            <a:ext cx="1828800" cy="1219320"/>
            <a:chOff x="609480" y="3352680"/>
            <a:chExt cx="1828800" cy="1219320"/>
          </a:xfrm>
        </p:grpSpPr>
        <p:pic>
          <p:nvPicPr>
            <p:cNvPr id="479" name="" descr=""/>
            <p:cNvPicPr/>
            <p:nvPr/>
          </p:nvPicPr>
          <p:blipFill>
            <a:blip r:embed="rId8"/>
            <a:stretch/>
          </p:blipFill>
          <p:spPr>
            <a:xfrm>
              <a:off x="609480" y="3352680"/>
              <a:ext cx="1828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85800" y="3809880"/>
              <a:ext cx="1727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ision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876920" y="3352680"/>
            <a:ext cx="1828800" cy="1219320"/>
            <a:chOff x="4876920" y="3352680"/>
            <a:chExt cx="1828800" cy="1219320"/>
          </a:xfrm>
        </p:grpSpPr>
        <p:pic>
          <p:nvPicPr>
            <p:cNvPr id="482" name="j0179006" descr=""/>
            <p:cNvPicPr/>
            <p:nvPr/>
          </p:nvPicPr>
          <p:blipFill>
            <a:blip r:embed="rId9"/>
            <a:stretch/>
          </p:blipFill>
          <p:spPr>
            <a:xfrm>
              <a:off x="4881960" y="3352680"/>
              <a:ext cx="1814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4876920" y="38242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Tahoma"/>
                </a:rPr>
                <a:t>Acontecimiento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876920" y="4876920"/>
            <a:ext cx="1828440" cy="1218600"/>
            <a:chOff x="4876920" y="4876920"/>
            <a:chExt cx="1828440" cy="1218600"/>
          </a:xfrm>
        </p:grpSpPr>
        <p:pic>
          <p:nvPicPr>
            <p:cNvPr id="485" name="j0179745" descr=""/>
            <p:cNvPicPr/>
            <p:nvPr/>
          </p:nvPicPr>
          <p:blipFill>
            <a:blip r:embed="rId10"/>
            <a:stretch/>
          </p:blipFill>
          <p:spPr>
            <a:xfrm>
              <a:off x="4876920" y="4876920"/>
              <a:ext cx="18284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914720" y="5271480"/>
              <a:ext cx="178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Tahoma"/>
                </a:rPr>
                <a:t>Promocion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010280" y="3352680"/>
            <a:ext cx="1828800" cy="1219320"/>
            <a:chOff x="7010280" y="3352680"/>
            <a:chExt cx="1828800" cy="1219320"/>
          </a:xfrm>
        </p:grpSpPr>
        <p:pic>
          <p:nvPicPr>
            <p:cNvPr id="488" name="j0144487" descr=""/>
            <p:cNvPicPr/>
            <p:nvPr/>
          </p:nvPicPr>
          <p:blipFill>
            <a:blip r:embed="rId11"/>
            <a:stretch/>
          </p:blipFill>
          <p:spPr>
            <a:xfrm>
              <a:off x="7010280" y="3352680"/>
              <a:ext cx="1828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7010280" y="378612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cc"/>
                  </a:solidFill>
                  <a:latin typeface="Tahoma"/>
                </a:rPr>
                <a:t>Replica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937-0297-460D-A8F5-2EF5FFB5293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5210E-6262-4F5E-975D-BBBFB2936486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914400" y="2057400"/>
            <a:ext cx="2819160" cy="2742480"/>
            <a:chOff x="914400" y="2057400"/>
            <a:chExt cx="2819160" cy="2742480"/>
          </a:xfrm>
        </p:grpSpPr>
        <p:pic>
          <p:nvPicPr>
            <p:cNvPr id="491" name="" descr=""/>
            <p:cNvPicPr/>
            <p:nvPr/>
          </p:nvPicPr>
          <p:blipFill>
            <a:blip r:embed="rId1"/>
            <a:stretch/>
          </p:blipFill>
          <p:spPr>
            <a:xfrm>
              <a:off x="943560" y="2057400"/>
              <a:ext cx="2789640" cy="27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914400" y="3085560"/>
              <a:ext cx="2819160" cy="10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ahoma"/>
                </a:rPr>
                <a:t>Compras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Compr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2667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Genera y exporta pedidos para la fábr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trola cortes y sustituciones de produ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mporta notas de compra de la fábr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93E-6C54-4F1C-AA35-B178709DCB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96205-0C55-4265-BF88-61FA2303C62D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6081840" y="1828800"/>
            <a:ext cx="2742840" cy="2057040"/>
            <a:chOff x="6081840" y="1828800"/>
            <a:chExt cx="2742840" cy="205704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6081840" y="1828800"/>
              <a:ext cx="2742840" cy="20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195960" y="2599920"/>
              <a:ext cx="2590560" cy="7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ahoma"/>
                </a:rPr>
                <a:t>Comisiones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-  Comisiones</a:t>
            </a: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trola comisiones de gerentes de grupos, distritos y distrib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Bono de liderazg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misión de Represent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trola comisiones de cli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1E0-F17B-41BF-B903-8F202A86B8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C051B-0268-4F1D-84DB-F6120B9CEE79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2514600" y="4191120"/>
            <a:ext cx="4419000" cy="2057040"/>
            <a:chOff x="2514600" y="4191120"/>
            <a:chExt cx="4419000" cy="2057040"/>
          </a:xfrm>
        </p:grpSpPr>
        <p:pic>
          <p:nvPicPr>
            <p:cNvPr id="501" name="E-%20Process%20%20no%20type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2514600" y="4191120"/>
              <a:ext cx="4419000" cy="205704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502" name=""/>
            <p:cNvSpPr/>
            <p:nvPr/>
          </p:nvSpPr>
          <p:spPr>
            <a:xfrm>
              <a:off x="2743920" y="4381560"/>
              <a:ext cx="39988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520" rIns="18252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ahoma"/>
                </a:rPr>
                <a:t>Cuentas por Recibir y Pagar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Cuentas por Recibir y Paga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147168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Genera, imprime y exporta planil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mporta y baja automáticamente documentos pagados en los banco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cluye créditos y débitos en las planil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405-B559-41ED-83DE-556505E920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76BDE-F194-4894-848F-14838BBB5576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Stock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a el stock de la empre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 notas de devoluciones para T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800600" y="1828800"/>
            <a:ext cx="3733200" cy="3580560"/>
            <a:chOff x="4800600" y="1828800"/>
            <a:chExt cx="3733200" cy="3580560"/>
          </a:xfrm>
        </p:grpSpPr>
        <p:pic>
          <p:nvPicPr>
            <p:cNvPr id="508" name="7015" descr=""/>
            <p:cNvPicPr/>
            <p:nvPr/>
          </p:nvPicPr>
          <p:blipFill>
            <a:blip r:embed="rId1"/>
            <a:srcRect l="0" t="25063" r="0" b="9727"/>
            <a:stretch/>
          </p:blipFill>
          <p:spPr>
            <a:xfrm>
              <a:off x="4865040" y="1828800"/>
              <a:ext cx="3668760" cy="358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800600" y="3171240"/>
              <a:ext cx="3723840" cy="11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ahoma"/>
                </a:rPr>
                <a:t>Stock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7C1-8328-45A2-9C99-8AB1441392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9D640-AAD7-43EB-A363-FF7951A1D85B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Facturació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373356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mite notas fiscales de ventas y devoluciones actualizando el stock y cuentas por recibir y pag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a cargas, entregas y fle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286000" y="1523880"/>
            <a:ext cx="4799880" cy="2057040"/>
            <a:chOff x="2286000" y="1523880"/>
            <a:chExt cx="4799880" cy="2057040"/>
          </a:xfrm>
        </p:grpSpPr>
        <p:pic>
          <p:nvPicPr>
            <p:cNvPr id="513" name="" descr=""/>
            <p:cNvPicPr/>
            <p:nvPr/>
          </p:nvPicPr>
          <p:blipFill>
            <a:blip r:embed="rId1"/>
            <a:stretch/>
          </p:blipFill>
          <p:spPr>
            <a:xfrm>
              <a:off x="2536200" y="1523880"/>
              <a:ext cx="4384800" cy="20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286000" y="2295000"/>
              <a:ext cx="4799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ahoma"/>
                </a:rPr>
                <a:t>Facturación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E78-C651-4474-803C-878B4C2B2A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E1C2D-FDED-4C15-AFFB-0AE1D055D4D8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¿Quién es  Acc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62040" y="175248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Fundación: 8 de Agosto de 198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Fundadores: Márcio, Cida &amp; Sérg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0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oftware House </a:t>
            </a:r>
            <a:r>
              <a:rPr b="0" lang="pt-BR" sz="28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Solution Ho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oyecto, instalación y soporte de re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2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brimos el capital para colaborad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Hoy somos 8 sócios y 2 inver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1BF-2538-49C8-A102-0AFF1FADC2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2CEFC-34E6-42EF-A15D-46AE4138420B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Fisca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 informes para el fis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 y exporta archivos para el fisco y para oficinas de contabil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914400" y="3962520"/>
            <a:ext cx="2894760" cy="2132640"/>
            <a:chOff x="914400" y="3962520"/>
            <a:chExt cx="2894760" cy="2132640"/>
          </a:xfrm>
        </p:grpSpPr>
        <p:pic>
          <p:nvPicPr>
            <p:cNvPr id="518" name="" descr=""/>
            <p:cNvPicPr/>
            <p:nvPr/>
          </p:nvPicPr>
          <p:blipFill>
            <a:blip r:embed="rId1"/>
            <a:stretch/>
          </p:blipFill>
          <p:spPr>
            <a:xfrm>
              <a:off x="914400" y="3962520"/>
              <a:ext cx="2894760" cy="21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148400" y="4618800"/>
              <a:ext cx="231984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ahoma"/>
                </a:rPr>
                <a:t>Fiscal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F46-4634-4169-BFBE-D118E2F3B80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53C14-22A9-4293-8D5F-393E9D54A7E6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660066"/>
                </a:solidFill>
                <a:latin typeface="Tahoma"/>
              </a:rPr>
              <a:t>- Correo directo a Clientes</a:t>
            </a:r>
            <a:endParaRPr b="0" lang="en-US" sz="3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 sobres, cartas y etiquet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ara Cumpleañeros, Deudores, Activos, Inactivos, Todos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200400" y="2514600"/>
            <a:ext cx="3200040" cy="2133360"/>
            <a:chOff x="3200400" y="2514600"/>
            <a:chExt cx="3200040" cy="213336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3200400" y="2514600"/>
              <a:ext cx="32000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3200400" y="3214080"/>
              <a:ext cx="30387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Correo Directo a Clientes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B72E-AF78-49B7-B008-00417FB5B6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B01F7-B3A8-43D0-969D-5C29F6CB21EA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Acontecimien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a reclamos de clientes sobre  productos, incluyendo la solicitud, la solución, la supervisión y la repetición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Genera informes y gráficos de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181480" y="1905120"/>
            <a:ext cx="3581280" cy="3351960"/>
            <a:chOff x="5181480" y="1905120"/>
            <a:chExt cx="3581280" cy="3351960"/>
          </a:xfrm>
        </p:grpSpPr>
        <p:pic>
          <p:nvPicPr>
            <p:cNvPr id="528" name="j0179006" descr=""/>
            <p:cNvPicPr/>
            <p:nvPr/>
          </p:nvPicPr>
          <p:blipFill>
            <a:blip r:embed="rId1"/>
            <a:stretch/>
          </p:blipFill>
          <p:spPr>
            <a:xfrm>
              <a:off x="5191200" y="1905120"/>
              <a:ext cx="3552840" cy="33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81480" y="32014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cc"/>
                  </a:solidFill>
                  <a:latin typeface="Tahoma"/>
                </a:rPr>
                <a:t>Acontecimientos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4B4-655F-4F25-AC60-2DFF2DCE54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DA527-DD2A-4189-A334-AF8D9FEB66F2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Promo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Gerencia promociones pa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Grupos, clientes y reclut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ipos de objetiv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ctividad, reclutamiento, ventas y mixt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as promociones pueden s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Opcionales, dependientes o independie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elección automática y control de  entrega de rega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evisión automática de pedidos para ventas de productos en promo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762120" y="1752480"/>
            <a:ext cx="2209320" cy="1828440"/>
            <a:chOff x="762120" y="1752480"/>
            <a:chExt cx="2209320" cy="1828440"/>
          </a:xfrm>
        </p:grpSpPr>
        <p:pic>
          <p:nvPicPr>
            <p:cNvPr id="533" name="j0179745" descr=""/>
            <p:cNvPicPr/>
            <p:nvPr/>
          </p:nvPicPr>
          <p:blipFill>
            <a:blip r:embed="rId1"/>
            <a:stretch/>
          </p:blipFill>
          <p:spPr>
            <a:xfrm>
              <a:off x="762120" y="1752480"/>
              <a:ext cx="220932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807840" y="2344680"/>
              <a:ext cx="21531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ffffcc"/>
                  </a:solidFill>
                  <a:latin typeface="Tahoma"/>
                </a:rPr>
                <a:t>Promociones</a:t>
              </a:r>
              <a:endParaRPr b="0" lang="en-US" sz="2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E0C-C7E2-45B8-A60F-B93915B80E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A3DFC-F135-492F-B9EB-327F074F1AE1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Replic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Exporta transacciones para el banco de datos central de TW en el paí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mporta las transacciones exportad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666880" y="3429000"/>
            <a:ext cx="4038120" cy="2971080"/>
            <a:chOff x="2666880" y="3429000"/>
            <a:chExt cx="4038120" cy="2971080"/>
          </a:xfrm>
        </p:grpSpPr>
        <p:pic>
          <p:nvPicPr>
            <p:cNvPr id="538" name="j0144487" descr=""/>
            <p:cNvPicPr/>
            <p:nvPr/>
          </p:nvPicPr>
          <p:blipFill>
            <a:blip r:embed="rId1"/>
            <a:stretch/>
          </p:blipFill>
          <p:spPr>
            <a:xfrm>
              <a:off x="2666880" y="3429000"/>
              <a:ext cx="4038120" cy="297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666880" y="4484880"/>
              <a:ext cx="397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ffcc"/>
                  </a:solidFill>
                  <a:latin typeface="Tahoma"/>
                </a:rPr>
                <a:t>Replicas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439-0DEA-4A41-91C4-31302693E7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14128-0EE1-46E5-BC8C-29E9C61A88E5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Vent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Supervisión de clientes nue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Genera informes: Análisis, Comparativo Anual, Estrella Dealer, Weekly,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ollow Up de candidatas y de prospe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cluye automáticamente productos para alcanzar metas de Vanguar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62120" y="4724280"/>
            <a:ext cx="2209320" cy="1676160"/>
            <a:chOff x="762120" y="4724280"/>
            <a:chExt cx="2209320" cy="1676160"/>
          </a:xfrm>
        </p:grpSpPr>
        <p:pic>
          <p:nvPicPr>
            <p:cNvPr id="543" name="E-%20Cust%20and%20Partner%20no%20type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794520" y="4724280"/>
              <a:ext cx="2176920" cy="167616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sp>
          <p:nvSpPr>
            <p:cNvPr id="544" name=""/>
            <p:cNvSpPr/>
            <p:nvPr/>
          </p:nvSpPr>
          <p:spPr>
            <a:xfrm>
              <a:off x="762120" y="5248080"/>
              <a:ext cx="21978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ahoma"/>
                </a:rPr>
                <a:t>Ventas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63C-5BDB-46E9-A09F-25E094AD81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96F53-B85F-46AB-82C0-152756A8508B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Característic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lto grado de Parametriz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ajos para principales fun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trol de acceso por usuario,                                  seña y niveles de acceso por fun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Help on-line y sensible al contex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rfase windows (simple e intuitiv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Herramienta de consulta de inform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Generador y editor de informes (Crystal Repor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Tecnología confiable, segura, estable y preparada para grandes volúme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47" name="bd04972_" descr=""/>
          <p:cNvPicPr/>
          <p:nvPr/>
        </p:nvPicPr>
        <p:blipFill>
          <a:blip r:embed="rId1"/>
          <a:stretch/>
        </p:blipFill>
        <p:spPr>
          <a:xfrm>
            <a:off x="6400800" y="135252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74F-43FB-411C-948F-7DCBB310BF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888EF-C23E-41A9-BE3C-BACE090B8733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Acc Draco</a:t>
            </a:r>
            <a:r>
              <a:rPr b="0" lang="pt-BR" sz="4000" spc="-1" strike="noStrike" baseline="30000">
                <a:solidFill>
                  <a:srgbClr val="660066"/>
                </a:solidFill>
                <a:latin typeface="Tahoma"/>
              </a:rPr>
              <a:t>®</a:t>
            </a: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 - Benefici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fiabilidad y ag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ducción de cos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roducto adecuado al negoc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utomatización operacional y geren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oporte para toma de deci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umento de productiv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umento de competitiv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iminación de redundanc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7081560" y="3443040"/>
            <a:ext cx="1514520" cy="743040"/>
          </a:xfrm>
          <a:prstGeom prst="rightArrow">
            <a:avLst>
              <a:gd name="adj1" fmla="val 65880"/>
              <a:gd name="adj2" fmla="val 50957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volu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1" name="newmus66" descr=""/>
          <p:cNvPicPr/>
          <p:nvPr/>
        </p:nvPicPr>
        <p:blipFill>
          <a:blip r:embed="rId1"/>
          <a:stretch/>
        </p:blipFill>
        <p:spPr>
          <a:xfrm>
            <a:off x="6324480" y="1371600"/>
            <a:ext cx="2478240" cy="155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"/>
          <p:cNvGraphicFramePr/>
          <p:nvPr/>
        </p:nvGraphicFramePr>
        <p:xfrm>
          <a:off x="6267600" y="4618080"/>
          <a:ext cx="2724120" cy="17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67600" y="4618080"/>
                    <a:ext cx="27241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740-8731-45E5-A993-253EAFCC87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57337-5BC1-4AC1-B67F-EDFFD83BC930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360" y="31240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Vogue"/>
              </a:rPr>
              <a:t>¡</a:t>
            </a:r>
            <a:r>
              <a:rPr b="1" lang="pt-BR" sz="5400" spc="-1" strike="noStrike">
                <a:solidFill>
                  <a:srgbClr val="ff0000"/>
                </a:solidFill>
                <a:latin typeface="Vogue"/>
              </a:rPr>
              <a:t>Muchas Gracias!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990360" y="40384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ogue"/>
              </a:rPr>
              <a:t>Márcio Moreira – Febrero/200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ogue"/>
              </a:rPr>
              <a:t>marcio@acc.com.b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ogue"/>
              </a:rPr>
              <a:t>+55 (34) 3236-814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7" name="accnamebigt" descr=""/>
          <p:cNvPicPr/>
          <p:nvPr/>
        </p:nvPicPr>
        <p:blipFill>
          <a:blip r:embed="rId1"/>
          <a:stretch/>
        </p:blipFill>
        <p:spPr>
          <a:xfrm>
            <a:off x="914400" y="1679400"/>
            <a:ext cx="6765840" cy="12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1B77-A249-4BDA-9537-964013930EE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858E2FE-1C39-41E2-8F30-F278A20F7DF0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Una breve his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62040" y="1752480"/>
            <a:ext cx="8177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3: Distribuición de ganancias, Horarios flexibles, pasantías, 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4: Modelo y gestión de cal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6: Internet como herramienta d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oporte, actualización e comun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7: Faturación directa y Palmto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1998: Reciclaje int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2000: Acc WebSto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301-856D-40EF-AE58-AC9F593AAD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7E17B-7016-4564-9A02-96F1BA9BB727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0458c"/>
                </a:solidFill>
                <a:latin typeface="Arial"/>
              </a:rPr>
              <a:t>¿</a:t>
            </a: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ónde queda? </a:t>
            </a:r>
            <a:br>
              <a:rPr sz="4400"/>
            </a:b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Brasil - Uberlând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mapa-br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583160" cy="457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794120" y="4146480"/>
            <a:ext cx="1752840" cy="3988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Tahoma"/>
              </a:rPr>
              <a:t>Uberlândi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48F-7B14-41F5-A7AD-4503DDB271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DDB3D-798B-442A-868D-E8408EA5BE73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structura Organiz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38160" y="1708200"/>
            <a:ext cx="7578720" cy="4435560"/>
            <a:chOff x="938160" y="1708200"/>
            <a:chExt cx="7578720" cy="4435560"/>
          </a:xfrm>
        </p:grpSpPr>
        <p:sp>
          <p:nvSpPr>
            <p:cNvPr id="229" name=""/>
            <p:cNvSpPr/>
            <p:nvPr/>
          </p:nvSpPr>
          <p:spPr>
            <a:xfrm>
              <a:off x="4488480" y="2054160"/>
              <a:ext cx="69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Conselh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1520" y="222732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Estratégic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06800" y="1841400"/>
              <a:ext cx="1563840" cy="7812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06800" y="1841400"/>
              <a:ext cx="1563840" cy="78120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30560" y="1865160"/>
              <a:ext cx="1513080" cy="73044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62320" y="2230560"/>
              <a:ext cx="1252800" cy="1440"/>
            </a:xfrm>
            <a:prstGeom prst="line">
              <a:avLst/>
            </a:prstGeom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73600" y="1708200"/>
              <a:ext cx="1565280" cy="78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73600" y="1708200"/>
              <a:ext cx="1565280" cy="7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02040" y="1736640"/>
              <a:ext cx="1513080" cy="73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30560" y="2101680"/>
              <a:ext cx="1252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36560" y="192096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Consej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87960" y="2095560"/>
              <a:ext cx="83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Estratégic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8480" y="3224160"/>
              <a:ext cx="69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Conselh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93440" y="339876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Operacional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06800" y="3011400"/>
              <a:ext cx="1563840" cy="78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06800" y="3011400"/>
              <a:ext cx="1563840" cy="78264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30560" y="3040200"/>
              <a:ext cx="1513080" cy="73008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62320" y="3405240"/>
              <a:ext cx="1252800" cy="1440"/>
            </a:xfrm>
            <a:prstGeom prst="line">
              <a:avLst/>
            </a:prstGeom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73600" y="2882880"/>
              <a:ext cx="1565280" cy="78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3600" y="2882880"/>
              <a:ext cx="1565280" cy="7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02040" y="2908440"/>
              <a:ext cx="1513080" cy="73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0560" y="3273480"/>
              <a:ext cx="12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36560" y="309564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Consej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4560" y="327024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Operacional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56240" y="2490840"/>
              <a:ext cx="1440" cy="392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49600" y="440064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Presiden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01280" y="4573440"/>
              <a:ext cx="108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Márcio Morei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06800" y="4187880"/>
              <a:ext cx="1563840" cy="780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6800" y="4187880"/>
              <a:ext cx="1563840" cy="78084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0560" y="4214880"/>
              <a:ext cx="1513080" cy="73008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62320" y="4579920"/>
              <a:ext cx="1252800" cy="1440"/>
            </a:xfrm>
            <a:prstGeom prst="line">
              <a:avLst/>
            </a:prstGeom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73600" y="4059360"/>
              <a:ext cx="1565280" cy="780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73600" y="4059360"/>
              <a:ext cx="1565280" cy="780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02040" y="4083120"/>
              <a:ext cx="1513080" cy="73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0560" y="4448160"/>
              <a:ext cx="12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17840" y="427212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President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72760" y="4444920"/>
              <a:ext cx="108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Márcio Morei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56240" y="3665520"/>
              <a:ext cx="1440" cy="393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90320" y="5575320"/>
              <a:ext cx="106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Administraçã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19400" y="574848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Maria Aparecid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71720" y="5362560"/>
              <a:ext cx="1563480" cy="7812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71720" y="5362560"/>
              <a:ext cx="1563480" cy="78120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95480" y="5386320"/>
              <a:ext cx="1512720" cy="73044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7240" y="5751360"/>
              <a:ext cx="1252440" cy="1800"/>
            </a:xfrm>
            <a:prstGeom prst="line">
              <a:avLst/>
            </a:prstGeom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38160" y="5230800"/>
              <a:ext cx="1565280" cy="78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8160" y="5230800"/>
              <a:ext cx="1565280" cy="78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66960" y="5257800"/>
              <a:ext cx="1512720" cy="73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5480" y="5622840"/>
              <a:ext cx="1252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26160" y="5443560"/>
              <a:ext cx="1111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Administr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0880" y="561672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Maria Aparecid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20800" y="4840200"/>
              <a:ext cx="2935440" cy="390600"/>
            </a:xfrm>
            <a:custGeom>
              <a:avLst/>
              <a:gdLst/>
              <a:ahLst/>
              <a:rect l="l" t="t" r="r" b="b"/>
              <a:pathLst>
                <a:path w="1849" h="246">
                  <a:moveTo>
                    <a:pt x="1849" y="0"/>
                  </a:moveTo>
                  <a:lnTo>
                    <a:pt x="1849" y="123"/>
                  </a:lnTo>
                  <a:lnTo>
                    <a:pt x="0" y="123"/>
                  </a:lnTo>
                  <a:lnTo>
                    <a:pt x="0" y="24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87680" y="5575320"/>
              <a:ext cx="73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Comercial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91480" y="5748480"/>
              <a:ext cx="114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Marcos &amp; Paul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25800" y="5362560"/>
              <a:ext cx="1565280" cy="7812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25800" y="5362560"/>
              <a:ext cx="1565280" cy="78120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52800" y="5386320"/>
              <a:ext cx="1512720" cy="73044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81320" y="5751360"/>
              <a:ext cx="1252440" cy="1800"/>
            </a:xfrm>
            <a:prstGeom prst="line">
              <a:avLst/>
            </a:prstGeom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7280" y="5230800"/>
              <a:ext cx="1565280" cy="78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7280" y="5230800"/>
              <a:ext cx="1565280" cy="78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21040" y="5257800"/>
              <a:ext cx="1512720" cy="73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2800" y="5622840"/>
              <a:ext cx="1252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59160" y="5443560"/>
              <a:ext cx="73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Comercial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62600" y="5616720"/>
              <a:ext cx="114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Marcos &amp; Paul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79920" y="4840200"/>
              <a:ext cx="976320" cy="390600"/>
            </a:xfrm>
            <a:custGeom>
              <a:avLst/>
              <a:gdLst/>
              <a:ahLst/>
              <a:rect l="l" t="t" r="r" b="b"/>
              <a:pathLst>
                <a:path w="615" h="246">
                  <a:moveTo>
                    <a:pt x="615" y="0"/>
                  </a:moveTo>
                  <a:lnTo>
                    <a:pt x="615" y="123"/>
                  </a:lnTo>
                  <a:lnTo>
                    <a:pt x="0" y="123"/>
                  </a:lnTo>
                  <a:lnTo>
                    <a:pt x="0" y="24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89640" y="55753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81400" y="5748480"/>
              <a:ext cx="144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Luis, Mauro &amp; Miat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83120" y="5362560"/>
              <a:ext cx="1565280" cy="7812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83120" y="5362560"/>
              <a:ext cx="1565280" cy="78120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1560" y="5386320"/>
              <a:ext cx="1513080" cy="73044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40440" y="5751360"/>
              <a:ext cx="1251000" cy="1800"/>
            </a:xfrm>
            <a:prstGeom prst="line">
              <a:avLst/>
            </a:prstGeom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54600" y="5230800"/>
              <a:ext cx="1565280" cy="78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54600" y="5230800"/>
              <a:ext cx="1565280" cy="78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78360" y="5257800"/>
              <a:ext cx="1513080" cy="73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011560" y="5622840"/>
              <a:ext cx="12510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61120" y="544356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47840" y="5616720"/>
              <a:ext cx="144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Luis, Mauro &amp; Miat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56240" y="4840200"/>
              <a:ext cx="981000" cy="390600"/>
            </a:xfrm>
            <a:custGeom>
              <a:avLst/>
              <a:gdLst/>
              <a:ahLst/>
              <a:rect l="l" t="t" r="r" b="b"/>
              <a:pathLst>
                <a:path w="618" h="246">
                  <a:moveTo>
                    <a:pt x="0" y="0"/>
                  </a:moveTo>
                  <a:lnTo>
                    <a:pt x="0" y="123"/>
                  </a:lnTo>
                  <a:lnTo>
                    <a:pt x="618" y="123"/>
                  </a:lnTo>
                  <a:lnTo>
                    <a:pt x="618" y="24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48440" y="5575320"/>
              <a:ext cx="146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Laboratório Técnic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45280" y="5748480"/>
              <a:ext cx="123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333333"/>
                  </a:solidFill>
                  <a:latin typeface="Arial"/>
                </a:rPr>
                <a:t>Celso Salustian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42240" y="5362560"/>
              <a:ext cx="1563480" cy="7812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42240" y="5362560"/>
              <a:ext cx="1563480" cy="78120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66000" y="5386320"/>
              <a:ext cx="1512720" cy="730440"/>
            </a:xfrm>
            <a:prstGeom prst="rect">
              <a:avLst/>
            </a:prstGeom>
            <a:noFill/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7760" y="5751360"/>
              <a:ext cx="1252440" cy="1800"/>
            </a:xfrm>
            <a:prstGeom prst="line">
              <a:avLst/>
            </a:prstGeom>
            <a:ln w="11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08680" y="5230800"/>
              <a:ext cx="1565280" cy="78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08680" y="5230800"/>
              <a:ext cx="1565280" cy="78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37480" y="5257800"/>
              <a:ext cx="1512720" cy="73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66000" y="5622840"/>
              <a:ext cx="1252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19920" y="5443560"/>
              <a:ext cx="146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Laboratório Técnic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13520" y="5616720"/>
              <a:ext cx="123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ff"/>
                  </a:solidFill>
                  <a:latin typeface="Arial"/>
                </a:rPr>
                <a:t>Celso Salustian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56240" y="4840200"/>
              <a:ext cx="2935080" cy="390600"/>
            </a:xfrm>
            <a:custGeom>
              <a:avLst/>
              <a:gdLst/>
              <a:ahLst/>
              <a:rect l="l" t="t" r="r" b="b"/>
              <a:pathLst>
                <a:path w="1849" h="246">
                  <a:moveTo>
                    <a:pt x="0" y="0"/>
                  </a:moveTo>
                  <a:lnTo>
                    <a:pt x="0" y="123"/>
                  </a:lnTo>
                  <a:lnTo>
                    <a:pt x="1849" y="123"/>
                  </a:lnTo>
                  <a:lnTo>
                    <a:pt x="1849" y="24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679-27D1-43BB-A0C2-C79F0042740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2C9C1-4844-430F-84F8-821C2ADE4E61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lientes Ac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09480" y="1601640"/>
          <a:ext cx="807732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1640"/>
                    <a:ext cx="807732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B9B-796C-4609-BE71-F01F0AB4DE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93BA2-D19E-4E71-A725-BE59F7C13BBB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lgunos de Nuestros Sistem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Draco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spcBef>
                <a:spcPts val="601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Gestión de empresas del mercado de ventas direct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Drinks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ff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Gestión de maioristas y distribuidores </a:t>
            </a:r>
            <a:r>
              <a:rPr b="0" lang="pt-BR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(bebida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Lupus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ntrol banc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Póllux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ntabilidad &amp; Flujo de Ca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Seller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utomación de Fuerza de Ven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cc Taurus</a:t>
            </a:r>
            <a:r>
              <a:rPr b="0" lang="pt-BR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®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presentación Come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DBF-C996-4A32-8C94-3A10654657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08E3B-0503-40A0-BC80-38A8CAA9F720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cursos Humanos / Sec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5872320" y="3349800"/>
            <a:ext cx="2612880" cy="110160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55880" y="3751200"/>
            <a:ext cx="1936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40458c"/>
                </a:solidFill>
                <a:latin typeface="Tahoma"/>
              </a:rPr>
              <a:t>Colaborador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98200" y="1724040"/>
            <a:ext cx="6558840" cy="4282920"/>
            <a:chOff x="898200" y="1724040"/>
            <a:chExt cx="6558840" cy="4282920"/>
          </a:xfrm>
        </p:grpSpPr>
        <p:sp>
          <p:nvSpPr>
            <p:cNvPr id="328" name=""/>
            <p:cNvSpPr/>
            <p:nvPr/>
          </p:nvSpPr>
          <p:spPr>
            <a:xfrm>
              <a:off x="1278000" y="5342040"/>
              <a:ext cx="4441680" cy="233280"/>
            </a:xfrm>
            <a:custGeom>
              <a:avLst/>
              <a:gdLst/>
              <a:ahLst/>
              <a:rect l="l" t="t" r="r" b="b"/>
              <a:pathLst>
                <a:path w="2798" h="147">
                  <a:moveTo>
                    <a:pt x="0" y="147"/>
                  </a:moveTo>
                  <a:lnTo>
                    <a:pt x="223" y="0"/>
                  </a:lnTo>
                  <a:lnTo>
                    <a:pt x="2798" y="0"/>
                  </a:lnTo>
                  <a:lnTo>
                    <a:pt x="2576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8000" y="1724040"/>
              <a:ext cx="353880" cy="3851280"/>
            </a:xfrm>
            <a:custGeom>
              <a:avLst/>
              <a:gdLst/>
              <a:ahLst/>
              <a:rect l="l" t="t" r="r" b="b"/>
              <a:pathLst>
                <a:path w="223" h="2426">
                  <a:moveTo>
                    <a:pt x="0" y="2426"/>
                  </a:moveTo>
                  <a:lnTo>
                    <a:pt x="0" y="147"/>
                  </a:lnTo>
                  <a:lnTo>
                    <a:pt x="223" y="0"/>
                  </a:lnTo>
                  <a:lnTo>
                    <a:pt x="223" y="2279"/>
                  </a:lnTo>
                  <a:lnTo>
                    <a:pt x="0" y="24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31880" y="1724040"/>
              <a:ext cx="4087800" cy="36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78000" y="5342040"/>
              <a:ext cx="4441680" cy="233280"/>
            </a:xfrm>
            <a:custGeom>
              <a:avLst/>
              <a:gdLst/>
              <a:ahLst/>
              <a:rect l="l" t="t" r="r" b="b"/>
              <a:pathLst>
                <a:path w="352" h="21">
                  <a:moveTo>
                    <a:pt x="0" y="21"/>
                  </a:moveTo>
                  <a:lnTo>
                    <a:pt x="28" y="0"/>
                  </a:lnTo>
                  <a:lnTo>
                    <a:pt x="352" y="0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78000" y="4740120"/>
              <a:ext cx="4441680" cy="235080"/>
            </a:xfrm>
            <a:custGeom>
              <a:avLst/>
              <a:gdLst/>
              <a:ahLst/>
              <a:rect l="l" t="t" r="r" b="b"/>
              <a:pathLst>
                <a:path w="352" h="21">
                  <a:moveTo>
                    <a:pt x="0" y="21"/>
                  </a:moveTo>
                  <a:lnTo>
                    <a:pt x="28" y="0"/>
                  </a:lnTo>
                  <a:lnTo>
                    <a:pt x="352" y="0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78000" y="4140360"/>
              <a:ext cx="4441680" cy="233280"/>
            </a:xfrm>
            <a:custGeom>
              <a:avLst/>
              <a:gdLst/>
              <a:ahLst/>
              <a:rect l="l" t="t" r="r" b="b"/>
              <a:pathLst>
                <a:path w="352" h="21">
                  <a:moveTo>
                    <a:pt x="0" y="21"/>
                  </a:moveTo>
                  <a:lnTo>
                    <a:pt x="28" y="0"/>
                  </a:lnTo>
                  <a:lnTo>
                    <a:pt x="352" y="0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78000" y="3538440"/>
              <a:ext cx="4441680" cy="222480"/>
            </a:xfrm>
            <a:custGeom>
              <a:avLst/>
              <a:gdLst/>
              <a:ahLst/>
              <a:rect l="l" t="t" r="r" b="b"/>
              <a:pathLst>
                <a:path w="352" h="20">
                  <a:moveTo>
                    <a:pt x="0" y="20"/>
                  </a:moveTo>
                  <a:lnTo>
                    <a:pt x="28" y="0"/>
                  </a:lnTo>
                  <a:lnTo>
                    <a:pt x="352" y="0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78000" y="2927520"/>
              <a:ext cx="4441680" cy="233280"/>
            </a:xfrm>
            <a:custGeom>
              <a:avLst/>
              <a:gdLst/>
              <a:ahLst/>
              <a:rect l="l" t="t" r="r" b="b"/>
              <a:pathLst>
                <a:path w="352" h="21">
                  <a:moveTo>
                    <a:pt x="0" y="21"/>
                  </a:moveTo>
                  <a:lnTo>
                    <a:pt x="28" y="0"/>
                  </a:lnTo>
                  <a:lnTo>
                    <a:pt x="352" y="0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78000" y="2325600"/>
              <a:ext cx="4441680" cy="233280"/>
            </a:xfrm>
            <a:custGeom>
              <a:avLst/>
              <a:gdLst/>
              <a:ahLst/>
              <a:rect l="l" t="t" r="r" b="b"/>
              <a:pathLst>
                <a:path w="352" h="21">
                  <a:moveTo>
                    <a:pt x="0" y="21"/>
                  </a:moveTo>
                  <a:lnTo>
                    <a:pt x="28" y="0"/>
                  </a:lnTo>
                  <a:lnTo>
                    <a:pt x="352" y="0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8000" y="1724040"/>
              <a:ext cx="4441680" cy="233280"/>
            </a:xfrm>
            <a:custGeom>
              <a:avLst/>
              <a:gdLst/>
              <a:ahLst/>
              <a:rect l="l" t="t" r="r" b="b"/>
              <a:pathLst>
                <a:path w="352" h="21">
                  <a:moveTo>
                    <a:pt x="0" y="21"/>
                  </a:moveTo>
                  <a:lnTo>
                    <a:pt x="28" y="0"/>
                  </a:lnTo>
                  <a:lnTo>
                    <a:pt x="352" y="0"/>
                  </a:lnTo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8000" y="5342040"/>
              <a:ext cx="4441680" cy="233280"/>
            </a:xfrm>
            <a:custGeom>
              <a:avLst/>
              <a:gdLst/>
              <a:ahLst/>
              <a:rect l="l" t="t" r="r" b="b"/>
              <a:pathLst>
                <a:path w="2798" h="147">
                  <a:moveTo>
                    <a:pt x="2798" y="0"/>
                  </a:moveTo>
                  <a:lnTo>
                    <a:pt x="2576" y="147"/>
                  </a:lnTo>
                  <a:lnTo>
                    <a:pt x="0" y="147"/>
                  </a:lnTo>
                  <a:lnTo>
                    <a:pt x="223" y="0"/>
                  </a:lnTo>
                  <a:lnTo>
                    <a:pt x="2798" y="0"/>
                  </a:lnTo>
                  <a:close/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78000" y="1724040"/>
              <a:ext cx="353880" cy="3851280"/>
            </a:xfrm>
            <a:custGeom>
              <a:avLst/>
              <a:gdLst/>
              <a:ahLst/>
              <a:rect l="l" t="t" r="r" b="b"/>
              <a:pathLst>
                <a:path w="223" h="2426">
                  <a:moveTo>
                    <a:pt x="0" y="2426"/>
                  </a:moveTo>
                  <a:lnTo>
                    <a:pt x="0" y="147"/>
                  </a:lnTo>
                  <a:lnTo>
                    <a:pt x="223" y="0"/>
                  </a:lnTo>
                  <a:lnTo>
                    <a:pt x="223" y="2279"/>
                  </a:lnTo>
                  <a:lnTo>
                    <a:pt x="0" y="2426"/>
                  </a:lnTo>
                  <a:close/>
                </a:path>
              </a:pathLst>
            </a:cu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1880" y="1724040"/>
              <a:ext cx="4087800" cy="361800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96920" y="4740120"/>
              <a:ext cx="341640" cy="835200"/>
            </a:xfrm>
            <a:custGeom>
              <a:avLst/>
              <a:gdLst/>
              <a:ahLst/>
              <a:rect l="l" t="t" r="r" b="b"/>
              <a:pathLst>
                <a:path w="215" h="526">
                  <a:moveTo>
                    <a:pt x="0" y="526"/>
                  </a:moveTo>
                  <a:lnTo>
                    <a:pt x="0" y="148"/>
                  </a:lnTo>
                  <a:lnTo>
                    <a:pt x="215" y="0"/>
                  </a:lnTo>
                  <a:lnTo>
                    <a:pt x="215" y="379"/>
                  </a:lnTo>
                  <a:lnTo>
                    <a:pt x="0" y="526"/>
                  </a:lnTo>
                  <a:close/>
                </a:path>
              </a:pathLst>
            </a:custGeom>
            <a:solidFill>
              <a:srgbClr val="766c41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81120" y="4975200"/>
              <a:ext cx="415800" cy="60012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81120" y="4740120"/>
              <a:ext cx="757440" cy="235080"/>
            </a:xfrm>
            <a:custGeom>
              <a:avLst/>
              <a:gdLst/>
              <a:ahLst/>
              <a:rect l="l" t="t" r="r" b="b"/>
              <a:pathLst>
                <a:path w="477" h="148">
                  <a:moveTo>
                    <a:pt x="262" y="148"/>
                  </a:moveTo>
                  <a:lnTo>
                    <a:pt x="477" y="0"/>
                  </a:lnTo>
                  <a:lnTo>
                    <a:pt x="222" y="0"/>
                  </a:lnTo>
                  <a:lnTo>
                    <a:pt x="0" y="148"/>
                  </a:lnTo>
                  <a:lnTo>
                    <a:pt x="262" y="148"/>
                  </a:lnTo>
                  <a:close/>
                </a:path>
              </a:pathLst>
            </a:custGeom>
            <a:solidFill>
              <a:srgbClr val="b1a262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96920" y="3538440"/>
              <a:ext cx="341640" cy="1436760"/>
            </a:xfrm>
            <a:custGeom>
              <a:avLst/>
              <a:gdLst/>
              <a:ahLst/>
              <a:rect l="l" t="t" r="r" b="b"/>
              <a:pathLst>
                <a:path w="215" h="905">
                  <a:moveTo>
                    <a:pt x="0" y="905"/>
                  </a:moveTo>
                  <a:lnTo>
                    <a:pt x="0" y="140"/>
                  </a:lnTo>
                  <a:lnTo>
                    <a:pt x="215" y="0"/>
                  </a:lnTo>
                  <a:lnTo>
                    <a:pt x="215" y="75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1120" y="3760920"/>
              <a:ext cx="415800" cy="1214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81120" y="3538440"/>
              <a:ext cx="757440" cy="222480"/>
            </a:xfrm>
            <a:custGeom>
              <a:avLst/>
              <a:gdLst/>
              <a:ahLst/>
              <a:rect l="l" t="t" r="r" b="b"/>
              <a:pathLst>
                <a:path w="477" h="140">
                  <a:moveTo>
                    <a:pt x="262" y="140"/>
                  </a:moveTo>
                  <a:lnTo>
                    <a:pt x="477" y="0"/>
                  </a:lnTo>
                  <a:lnTo>
                    <a:pt x="222" y="0"/>
                  </a:lnTo>
                  <a:lnTo>
                    <a:pt x="0" y="140"/>
                  </a:lnTo>
                  <a:lnTo>
                    <a:pt x="262" y="140"/>
                  </a:lnTo>
                  <a:close/>
                </a:path>
              </a:pathLst>
            </a:custGeom>
            <a:solidFill>
              <a:srgbClr val="868686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1120" y="3538440"/>
              <a:ext cx="757440" cy="222480"/>
            </a:xfrm>
            <a:custGeom>
              <a:avLst/>
              <a:gdLst/>
              <a:ahLst/>
              <a:rect l="l" t="t" r="r" b="b"/>
              <a:pathLst>
                <a:path w="477" h="140">
                  <a:moveTo>
                    <a:pt x="262" y="140"/>
                  </a:moveTo>
                  <a:lnTo>
                    <a:pt x="477" y="0"/>
                  </a:lnTo>
                  <a:lnTo>
                    <a:pt x="222" y="0"/>
                  </a:lnTo>
                  <a:lnTo>
                    <a:pt x="0" y="140"/>
                  </a:lnTo>
                  <a:lnTo>
                    <a:pt x="262" y="140"/>
                  </a:lnTo>
                  <a:close/>
                </a:path>
              </a:pathLst>
            </a:custGeom>
            <a:solidFill>
              <a:srgbClr val="5367b9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19320" y="5041800"/>
              <a:ext cx="354240" cy="533520"/>
            </a:xfrm>
            <a:custGeom>
              <a:avLst/>
              <a:gdLst/>
              <a:ahLst/>
              <a:rect l="l" t="t" r="r" b="b"/>
              <a:pathLst>
                <a:path w="223" h="336">
                  <a:moveTo>
                    <a:pt x="0" y="336"/>
                  </a:moveTo>
                  <a:lnTo>
                    <a:pt x="0" y="147"/>
                  </a:lnTo>
                  <a:lnTo>
                    <a:pt x="223" y="0"/>
                  </a:lnTo>
                  <a:lnTo>
                    <a:pt x="223" y="189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766c41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03520" y="5275440"/>
              <a:ext cx="415800" cy="29988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3520" y="5041800"/>
              <a:ext cx="770040" cy="233640"/>
            </a:xfrm>
            <a:custGeom>
              <a:avLst/>
              <a:gdLst/>
              <a:ahLst/>
              <a:rect l="l" t="t" r="r" b="b"/>
              <a:pathLst>
                <a:path w="485" h="147">
                  <a:moveTo>
                    <a:pt x="262" y="147"/>
                  </a:moveTo>
                  <a:lnTo>
                    <a:pt x="485" y="0"/>
                  </a:lnTo>
                  <a:lnTo>
                    <a:pt x="222" y="0"/>
                  </a:lnTo>
                  <a:lnTo>
                    <a:pt x="0" y="147"/>
                  </a:lnTo>
                  <a:lnTo>
                    <a:pt x="262" y="147"/>
                  </a:lnTo>
                  <a:close/>
                </a:path>
              </a:pathLst>
            </a:custGeom>
            <a:solidFill>
              <a:srgbClr val="b1a262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19320" y="4140360"/>
              <a:ext cx="354240" cy="1135080"/>
            </a:xfrm>
            <a:custGeom>
              <a:avLst/>
              <a:gdLst/>
              <a:ahLst/>
              <a:rect l="l" t="t" r="r" b="b"/>
              <a:pathLst>
                <a:path w="223" h="715">
                  <a:moveTo>
                    <a:pt x="0" y="715"/>
                  </a:moveTo>
                  <a:lnTo>
                    <a:pt x="0" y="147"/>
                  </a:lnTo>
                  <a:lnTo>
                    <a:pt x="223" y="0"/>
                  </a:lnTo>
                  <a:lnTo>
                    <a:pt x="223" y="568"/>
                  </a:lnTo>
                  <a:lnTo>
                    <a:pt x="0" y="715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03520" y="4373640"/>
              <a:ext cx="415800" cy="90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03520" y="4140360"/>
              <a:ext cx="770040" cy="233280"/>
            </a:xfrm>
            <a:custGeom>
              <a:avLst/>
              <a:gdLst/>
              <a:ahLst/>
              <a:rect l="l" t="t" r="r" b="b"/>
              <a:pathLst>
                <a:path w="485" h="147">
                  <a:moveTo>
                    <a:pt x="262" y="147"/>
                  </a:moveTo>
                  <a:lnTo>
                    <a:pt x="485" y="0"/>
                  </a:lnTo>
                  <a:lnTo>
                    <a:pt x="222" y="0"/>
                  </a:lnTo>
                  <a:lnTo>
                    <a:pt x="0" y="147"/>
                  </a:lnTo>
                  <a:lnTo>
                    <a:pt x="262" y="147"/>
                  </a:lnTo>
                  <a:close/>
                </a:path>
              </a:pathLst>
            </a:custGeom>
            <a:solidFill>
              <a:srgbClr val="868686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03520" y="4140360"/>
              <a:ext cx="770040" cy="233280"/>
            </a:xfrm>
            <a:custGeom>
              <a:avLst/>
              <a:gdLst/>
              <a:ahLst/>
              <a:rect l="l" t="t" r="r" b="b"/>
              <a:pathLst>
                <a:path w="485" h="147">
                  <a:moveTo>
                    <a:pt x="262" y="147"/>
                  </a:moveTo>
                  <a:lnTo>
                    <a:pt x="485" y="0"/>
                  </a:lnTo>
                  <a:lnTo>
                    <a:pt x="222" y="0"/>
                  </a:lnTo>
                  <a:lnTo>
                    <a:pt x="0" y="147"/>
                  </a:lnTo>
                  <a:lnTo>
                    <a:pt x="262" y="147"/>
                  </a:lnTo>
                  <a:close/>
                </a:path>
              </a:pathLst>
            </a:custGeom>
            <a:solidFill>
              <a:srgbClr val="5367b9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41720" y="4140360"/>
              <a:ext cx="354240" cy="1434960"/>
            </a:xfrm>
            <a:custGeom>
              <a:avLst/>
              <a:gdLst/>
              <a:ahLst/>
              <a:rect l="l" t="t" r="r" b="b"/>
              <a:pathLst>
                <a:path w="223" h="904">
                  <a:moveTo>
                    <a:pt x="0" y="904"/>
                  </a:moveTo>
                  <a:lnTo>
                    <a:pt x="0" y="147"/>
                  </a:lnTo>
                  <a:lnTo>
                    <a:pt x="223" y="0"/>
                  </a:lnTo>
                  <a:lnTo>
                    <a:pt x="223" y="757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766c41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5920" y="4373640"/>
              <a:ext cx="415800" cy="120168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5920" y="4140360"/>
              <a:ext cx="770040" cy="233280"/>
            </a:xfrm>
            <a:custGeom>
              <a:avLst/>
              <a:gdLst/>
              <a:ahLst/>
              <a:rect l="l" t="t" r="r" b="b"/>
              <a:pathLst>
                <a:path w="485" h="147">
                  <a:moveTo>
                    <a:pt x="262" y="147"/>
                  </a:moveTo>
                  <a:lnTo>
                    <a:pt x="485" y="0"/>
                  </a:lnTo>
                  <a:lnTo>
                    <a:pt x="222" y="0"/>
                  </a:lnTo>
                  <a:lnTo>
                    <a:pt x="0" y="147"/>
                  </a:lnTo>
                  <a:lnTo>
                    <a:pt x="262" y="147"/>
                  </a:lnTo>
                  <a:close/>
                </a:path>
              </a:pathLst>
            </a:custGeom>
            <a:solidFill>
              <a:srgbClr val="b1a262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41720" y="3227400"/>
              <a:ext cx="354240" cy="1146240"/>
            </a:xfrm>
            <a:custGeom>
              <a:avLst/>
              <a:gdLst/>
              <a:ahLst/>
              <a:rect l="l" t="t" r="r" b="b"/>
              <a:pathLst>
                <a:path w="223" h="722">
                  <a:moveTo>
                    <a:pt x="0" y="722"/>
                  </a:moveTo>
                  <a:lnTo>
                    <a:pt x="0" y="147"/>
                  </a:lnTo>
                  <a:lnTo>
                    <a:pt x="223" y="0"/>
                  </a:lnTo>
                  <a:lnTo>
                    <a:pt x="223" y="57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25920" y="3460680"/>
              <a:ext cx="415800" cy="912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25920" y="3227400"/>
              <a:ext cx="770040" cy="233280"/>
            </a:xfrm>
            <a:custGeom>
              <a:avLst/>
              <a:gdLst/>
              <a:ahLst/>
              <a:rect l="l" t="t" r="r" b="b"/>
              <a:pathLst>
                <a:path w="485" h="147">
                  <a:moveTo>
                    <a:pt x="262" y="147"/>
                  </a:moveTo>
                  <a:lnTo>
                    <a:pt x="485" y="0"/>
                  </a:lnTo>
                  <a:lnTo>
                    <a:pt x="222" y="0"/>
                  </a:lnTo>
                  <a:lnTo>
                    <a:pt x="0" y="147"/>
                  </a:lnTo>
                  <a:lnTo>
                    <a:pt x="262" y="147"/>
                  </a:lnTo>
                  <a:close/>
                </a:path>
              </a:pathLst>
            </a:custGeom>
            <a:solidFill>
              <a:srgbClr val="868686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41720" y="2025720"/>
              <a:ext cx="354240" cy="1434960"/>
            </a:xfrm>
            <a:custGeom>
              <a:avLst/>
              <a:gdLst/>
              <a:ahLst/>
              <a:rect l="l" t="t" r="r" b="b"/>
              <a:pathLst>
                <a:path w="223" h="904">
                  <a:moveTo>
                    <a:pt x="0" y="904"/>
                  </a:moveTo>
                  <a:lnTo>
                    <a:pt x="0" y="147"/>
                  </a:lnTo>
                  <a:lnTo>
                    <a:pt x="223" y="0"/>
                  </a:lnTo>
                  <a:lnTo>
                    <a:pt x="223" y="757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38457c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25920" y="2259000"/>
              <a:ext cx="415800" cy="120168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25920" y="2025720"/>
              <a:ext cx="770040" cy="233280"/>
            </a:xfrm>
            <a:custGeom>
              <a:avLst/>
              <a:gdLst/>
              <a:ahLst/>
              <a:rect l="l" t="t" r="r" b="b"/>
              <a:pathLst>
                <a:path w="485" h="147">
                  <a:moveTo>
                    <a:pt x="262" y="147"/>
                  </a:moveTo>
                  <a:lnTo>
                    <a:pt x="485" y="0"/>
                  </a:lnTo>
                  <a:lnTo>
                    <a:pt x="222" y="0"/>
                  </a:lnTo>
                  <a:lnTo>
                    <a:pt x="0" y="147"/>
                  </a:lnTo>
                  <a:lnTo>
                    <a:pt x="262" y="147"/>
                  </a:lnTo>
                  <a:close/>
                </a:path>
              </a:pathLst>
            </a:custGeom>
            <a:solidFill>
              <a:srgbClr val="5367b9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4120" y="5041800"/>
              <a:ext cx="353880" cy="533520"/>
            </a:xfrm>
            <a:custGeom>
              <a:avLst/>
              <a:gdLst/>
              <a:ahLst/>
              <a:rect l="l" t="t" r="r" b="b"/>
              <a:pathLst>
                <a:path w="223" h="336">
                  <a:moveTo>
                    <a:pt x="0" y="336"/>
                  </a:moveTo>
                  <a:lnTo>
                    <a:pt x="0" y="147"/>
                  </a:lnTo>
                  <a:lnTo>
                    <a:pt x="223" y="0"/>
                  </a:lnTo>
                  <a:lnTo>
                    <a:pt x="223" y="189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766c41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60920" y="5275440"/>
              <a:ext cx="403200" cy="29988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60920" y="5041800"/>
              <a:ext cx="757080" cy="233640"/>
            </a:xfrm>
            <a:custGeom>
              <a:avLst/>
              <a:gdLst/>
              <a:ahLst/>
              <a:rect l="l" t="t" r="r" b="b"/>
              <a:pathLst>
                <a:path w="477" h="147">
                  <a:moveTo>
                    <a:pt x="254" y="147"/>
                  </a:moveTo>
                  <a:lnTo>
                    <a:pt x="477" y="0"/>
                  </a:lnTo>
                  <a:lnTo>
                    <a:pt x="214" y="0"/>
                  </a:lnTo>
                  <a:lnTo>
                    <a:pt x="0" y="147"/>
                  </a:lnTo>
                  <a:lnTo>
                    <a:pt x="254" y="147"/>
                  </a:lnTo>
                  <a:close/>
                </a:path>
              </a:pathLst>
            </a:custGeom>
            <a:solidFill>
              <a:srgbClr val="b1a262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64120" y="4140360"/>
              <a:ext cx="353880" cy="1135080"/>
            </a:xfrm>
            <a:custGeom>
              <a:avLst/>
              <a:gdLst/>
              <a:ahLst/>
              <a:rect l="l" t="t" r="r" b="b"/>
              <a:pathLst>
                <a:path w="223" h="715">
                  <a:moveTo>
                    <a:pt x="0" y="715"/>
                  </a:moveTo>
                  <a:lnTo>
                    <a:pt x="0" y="147"/>
                  </a:lnTo>
                  <a:lnTo>
                    <a:pt x="223" y="0"/>
                  </a:lnTo>
                  <a:lnTo>
                    <a:pt x="223" y="568"/>
                  </a:lnTo>
                  <a:lnTo>
                    <a:pt x="0" y="715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60920" y="4373640"/>
              <a:ext cx="403200" cy="90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60920" y="4140360"/>
              <a:ext cx="757080" cy="233280"/>
            </a:xfrm>
            <a:custGeom>
              <a:avLst/>
              <a:gdLst/>
              <a:ahLst/>
              <a:rect l="l" t="t" r="r" b="b"/>
              <a:pathLst>
                <a:path w="477" h="147">
                  <a:moveTo>
                    <a:pt x="254" y="147"/>
                  </a:moveTo>
                  <a:lnTo>
                    <a:pt x="477" y="0"/>
                  </a:lnTo>
                  <a:lnTo>
                    <a:pt x="214" y="0"/>
                  </a:lnTo>
                  <a:lnTo>
                    <a:pt x="0" y="147"/>
                  </a:lnTo>
                  <a:lnTo>
                    <a:pt x="254" y="147"/>
                  </a:lnTo>
                  <a:close/>
                </a:path>
              </a:pathLst>
            </a:custGeom>
            <a:solidFill>
              <a:srgbClr val="868686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4120" y="3838680"/>
              <a:ext cx="353880" cy="534960"/>
            </a:xfrm>
            <a:custGeom>
              <a:avLst/>
              <a:gdLst/>
              <a:ahLst/>
              <a:rect l="l" t="t" r="r" b="b"/>
              <a:pathLst>
                <a:path w="223" h="337">
                  <a:moveTo>
                    <a:pt x="0" y="337"/>
                  </a:moveTo>
                  <a:lnTo>
                    <a:pt x="0" y="148"/>
                  </a:lnTo>
                  <a:lnTo>
                    <a:pt x="223" y="0"/>
                  </a:lnTo>
                  <a:lnTo>
                    <a:pt x="223" y="190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38457c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60920" y="4073400"/>
              <a:ext cx="403200" cy="30024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60920" y="3838680"/>
              <a:ext cx="757080" cy="234720"/>
            </a:xfrm>
            <a:custGeom>
              <a:avLst/>
              <a:gdLst/>
              <a:ahLst/>
              <a:rect l="l" t="t" r="r" b="b"/>
              <a:pathLst>
                <a:path w="477" h="148">
                  <a:moveTo>
                    <a:pt x="254" y="148"/>
                  </a:moveTo>
                  <a:lnTo>
                    <a:pt x="477" y="0"/>
                  </a:lnTo>
                  <a:lnTo>
                    <a:pt x="214" y="0"/>
                  </a:lnTo>
                  <a:lnTo>
                    <a:pt x="0" y="148"/>
                  </a:lnTo>
                  <a:lnTo>
                    <a:pt x="254" y="148"/>
                  </a:lnTo>
                  <a:close/>
                </a:path>
              </a:pathLst>
            </a:custGeom>
            <a:solidFill>
              <a:srgbClr val="5367b9"/>
            </a:solid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278000" y="1957320"/>
              <a:ext cx="1440" cy="36180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213920" y="5575320"/>
              <a:ext cx="63720" cy="1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213920" y="4975200"/>
              <a:ext cx="63720" cy="1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213920" y="4373640"/>
              <a:ext cx="63720" cy="1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213920" y="3760920"/>
              <a:ext cx="63720" cy="1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213920" y="3160800"/>
              <a:ext cx="63720" cy="1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213920" y="2558880"/>
              <a:ext cx="63720" cy="18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213920" y="1957320"/>
              <a:ext cx="63720" cy="18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68840" y="540864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68840" y="480708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68840" y="420696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68840" y="359424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6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68840" y="299412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8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8200" y="2392200"/>
              <a:ext cx="305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10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98200" y="1790640"/>
              <a:ext cx="305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12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78000" y="5575320"/>
              <a:ext cx="4089240" cy="1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78000" y="5575320"/>
              <a:ext cx="1440" cy="55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00400" y="5575320"/>
              <a:ext cx="1440" cy="55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22800" y="5575320"/>
              <a:ext cx="1440" cy="55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4840" y="5575320"/>
              <a:ext cx="1800" cy="55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67240" y="5575320"/>
              <a:ext cx="1800" cy="55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17680" y="5686560"/>
              <a:ext cx="677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Coml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2040" y="5686560"/>
              <a:ext cx="48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Lab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44560" y="5686560"/>
              <a:ext cx="53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Soft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15480" y="5686560"/>
              <a:ext cx="616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Adm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72040" y="3471840"/>
              <a:ext cx="190800" cy="16668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52480" y="3382920"/>
              <a:ext cx="1204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Pasantes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72040" y="3838680"/>
              <a:ext cx="190800" cy="1681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72040" y="4206960"/>
              <a:ext cx="190800" cy="166680"/>
            </a:xfrm>
            <a:prstGeom prst="rect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65080" y="4118040"/>
              <a:ext cx="826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40458c"/>
                  </a:solidFill>
                  <a:latin typeface="Tahoma"/>
                </a:rPr>
                <a:t>Socios</a:t>
              </a:r>
              <a:endParaRPr b="0" lang="en-US" sz="2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090-13A3-440D-85FB-0EEBEA8898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C6B2E-0F62-47D1-B3F9-18398119599F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rado de For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33520" y="1600200"/>
          <a:ext cx="80769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A sua solution 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06B-DAB9-4A12-92F0-BDDF013D00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00D60-3A6A-4092-AB72-1F962362E17B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cilia Cristina Amorim</cp:lastModifiedBy>
  <dcterms:modified xsi:type="dcterms:W3CDTF">2002-02-05T12:47:49Z</dcterms:modified>
  <cp:revision>89</cp:revision>
  <dc:subject/>
  <dc:title>Apresentação do PowerPoint</dc:title>
</cp:coreProperties>
</file>