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41.wmf" ContentType="image/x-wmf"/>
  <Override PartName="/ppt/media/image13.jpeg" ContentType="image/jpeg"/>
  <Override PartName="/ppt/media/image33.png" ContentType="image/png"/>
  <Override PartName="/ppt/media/image12.jpeg" ContentType="image/jpeg"/>
  <Override PartName="/ppt/media/image34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958-56CA-452A-8B83-3FBBD433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7C2-6E59-4C87-9CFB-F442EA6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8C1-410F-46AC-80C0-6401B1AE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A6A-8AE1-477E-8C23-71F65A3D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182B-795F-4054-B071-38763FAC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E5FF-2EE1-48B3-869A-3F6D6CD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E052-2281-4C88-BC98-19FB5AF4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9785-76A0-4B80-A5F0-029D9BFB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D3D9-7A47-4A0C-AC1F-D98E5D0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40DB-6E71-410A-AFFE-2939316D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0568-027C-4FEC-807E-D294E24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8F9-8964-4E4A-A6DA-7DB5474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6FEC-885A-4778-ACCE-96829FE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595E-1041-4726-B42B-3B84954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4E33-029C-41E3-8914-22A556EE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3CD4-AA78-4422-8B68-B49469A1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E67A-E340-4898-866D-DC09478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F72-609F-437D-9BF2-086D6FDD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C15-F449-4EA0-8881-619E686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E3C-A2A3-4B15-850B-36B1313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55A-2D21-4127-BFC3-99BB378F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8D7-0660-4892-9C13-5CE387E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278-2F68-4DC9-AC65-A3A78C0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9C6-89D7-4508-BA37-1F36C91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92B-7D2E-4174-9102-735A7A16BEAF}" type="slidenum"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4134-187A-41BD-8F22-58FCE71D910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424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 Informática Nas</a:t>
            </a: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municaçõe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isciplina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conomia de Empresas - José Diniz de Araúj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unos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Hérica Kênia B. Cardoso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61267-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árcio Aurélio R. Moreira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81272-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imone Ferreira Carneiro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81278-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ata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aio e Junho/200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Quarta Revolução: Informátic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75 Bill Gates e Paul Alen criam um BASIC para o ALTAI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76 Steve Jobs e Steve Wozniak criam o Apple 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81 a IBM cria o PC (em 2 anos venderam 2 milhõe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83 a Times elegeu o PC como o “Homem do Ano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1" name="AllenGates1975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714320" cy="1931760"/>
          </a:xfrm>
          <a:prstGeom prst="rect">
            <a:avLst/>
          </a:prstGeom>
          <a:ln w="0">
            <a:noFill/>
          </a:ln>
        </p:spPr>
      </p:pic>
      <p:pic>
        <p:nvPicPr>
          <p:cNvPr id="212" name="JobsAndWozniak1976" descr=""/>
          <p:cNvPicPr/>
          <p:nvPr/>
        </p:nvPicPr>
        <p:blipFill>
          <a:blip r:embed="rId2"/>
          <a:stretch/>
        </p:blipFill>
        <p:spPr>
          <a:xfrm>
            <a:off x="76320" y="4267080"/>
            <a:ext cx="2209680" cy="1739880"/>
          </a:xfrm>
          <a:prstGeom prst="rect">
            <a:avLst/>
          </a:prstGeom>
          <a:ln w="0">
            <a:noFill/>
          </a:ln>
        </p:spPr>
      </p:pic>
      <p:pic>
        <p:nvPicPr>
          <p:cNvPr id="213" name="ibm_pc" descr=""/>
          <p:cNvPicPr/>
          <p:nvPr/>
        </p:nvPicPr>
        <p:blipFill>
          <a:blip r:embed="rId3"/>
          <a:stretch/>
        </p:blipFill>
        <p:spPr>
          <a:xfrm>
            <a:off x="6977160" y="3733920"/>
            <a:ext cx="2090520" cy="2319120"/>
          </a:xfrm>
          <a:prstGeom prst="rect">
            <a:avLst/>
          </a:prstGeom>
          <a:ln w="0">
            <a:noFill/>
          </a:ln>
        </p:spPr>
      </p:pic>
      <p:pic>
        <p:nvPicPr>
          <p:cNvPr id="214" name="Gates1976" descr=""/>
          <p:cNvPicPr/>
          <p:nvPr/>
        </p:nvPicPr>
        <p:blipFill>
          <a:blip r:embed="rId4"/>
          <a:stretch/>
        </p:blipFill>
        <p:spPr>
          <a:xfrm>
            <a:off x="6858000" y="1905120"/>
            <a:ext cx="2249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Quarta Revolução: Informátic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6629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83 AT&amp;T vira as 7 Baby Bell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83 É introduzido o celular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84 a Apple lança o Macintosh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84 a IBM responde lançando o 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85 os celulares vão para os carro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4640" indent="-2246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91 o mundo vê a guerra do golf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" name="Mac1984_128k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9778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Interne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69 foi criada a ArpaN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75 a ArpaNet vira a Intern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91 a Internet ajuda Gorbachev a instalar a Perestroika na UR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1995 jornais diários on-line nos EUA e Lamar Alexander faz sua campanha presidencial pela Intern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0" name="globalworld" descr=""/>
          <p:cNvPicPr/>
          <p:nvPr/>
        </p:nvPicPr>
        <p:blipFill>
          <a:blip r:embed="rId1"/>
          <a:stretch/>
        </p:blipFill>
        <p:spPr>
          <a:xfrm>
            <a:off x="6210360" y="1752480"/>
            <a:ext cx="2857320" cy="28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 rot="10800000">
          <a:off x="7467480" y="456480"/>
          <a:ext cx="1403640" cy="103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7467480" y="456480"/>
                    <a:ext cx="14036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553080" y="4876920"/>
            <a:ext cx="1613160" cy="1322280"/>
          </a:xfrm>
          <a:prstGeom prst="rect">
            <a:avLst/>
          </a:prstGeom>
          <a:ln w="0">
            <a:noFill/>
          </a:ln>
        </p:spPr>
      </p:pic>
      <p:pic>
        <p:nvPicPr>
          <p:cNvPr id="224" name="neopoint" descr=""/>
          <p:cNvPicPr/>
          <p:nvPr/>
        </p:nvPicPr>
        <p:blipFill>
          <a:blip r:embed="rId5"/>
          <a:stretch/>
        </p:blipFill>
        <p:spPr>
          <a:xfrm>
            <a:off x="8229600" y="4876920"/>
            <a:ext cx="723960" cy="1287360"/>
          </a:xfrm>
          <a:prstGeom prst="rect">
            <a:avLst/>
          </a:prstGeom>
          <a:ln w="0">
            <a:noFill/>
          </a:ln>
        </p:spPr>
      </p:pic>
      <p:pic>
        <p:nvPicPr>
          <p:cNvPr id="225" name="voice" descr=""/>
          <p:cNvPicPr/>
          <p:nvPr/>
        </p:nvPicPr>
        <p:blipFill>
          <a:blip r:embed="rId6"/>
          <a:srcRect l="0" t="0" r="0" b="15215"/>
          <a:stretch/>
        </p:blipFill>
        <p:spPr>
          <a:xfrm>
            <a:off x="76320" y="533520"/>
            <a:ext cx="1627200" cy="1096920"/>
          </a:xfrm>
          <a:prstGeom prst="rect">
            <a:avLst/>
          </a:prstGeom>
          <a:ln w="0">
            <a:noFill/>
          </a:ln>
        </p:spPr>
      </p:pic>
      <p:pic>
        <p:nvPicPr>
          <p:cNvPr id="226" name="levoseuentulho1" descr=""/>
          <p:cNvPicPr/>
          <p:nvPr/>
        </p:nvPicPr>
        <p:blipFill>
          <a:blip r:embed="rId7"/>
          <a:stretch/>
        </p:blipFill>
        <p:spPr>
          <a:xfrm>
            <a:off x="76320" y="1676520"/>
            <a:ext cx="6476760" cy="4859280"/>
          </a:xfrm>
          <a:prstGeom prst="rect">
            <a:avLst/>
          </a:prstGeom>
          <a:ln w="0">
            <a:noFill/>
          </a:ln>
        </p:spPr>
      </p:pic>
      <p:pic>
        <p:nvPicPr>
          <p:cNvPr id="227" name="levoseuentulho%20placa" descr=""/>
          <p:cNvPicPr/>
          <p:nvPr/>
        </p:nvPicPr>
        <p:blipFill>
          <a:blip r:embed="rId8"/>
          <a:stretch/>
        </p:blipFill>
        <p:spPr>
          <a:xfrm>
            <a:off x="380880" y="1846440"/>
            <a:ext cx="58676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Comércio Pela Internet no Brasi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Fonte: IDC Brasil’s 1999 Internet and eCommerce Strate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19479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66560" y="1447920"/>
          <a:ext cx="8296560" cy="44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447920"/>
                    <a:ext cx="829656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celerando a Comunicaç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Tempo gasto por uma carta de São Francisco a Nova Y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21002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62120" y="1538280"/>
          <a:ext cx="7619760" cy="40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8280"/>
                    <a:ext cx="76197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Tempo de Absorção das Invençõe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39" name=""/>
          <p:cNvSpPr/>
          <p:nvPr/>
        </p:nvSpPr>
        <p:spPr>
          <a:xfrm>
            <a:off x="210024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9540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539720"/>
          <a:ext cx="7772400" cy="50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39720"/>
                    <a:ext cx="7772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914400" y="1519200"/>
          <a:ext cx="729612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19200"/>
                    <a:ext cx="729612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celeração da Difus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77156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orças Propulsoras e Restri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Forças Propulsora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Revolução Industrial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rise econômica capitalista do início dos anos 70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ssociação entre telecomunicações e informática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ntrodução dos computadores eletrônicos em substituição aos mecânicos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xpansão da re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orças Propulsoras e Restri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0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Forças Restritivas</a:t>
            </a: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Impacto social;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Mudança de enfoque;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Apropriação socia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orças Propulsoras e Restri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0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As tecnologias da Comunicação no contexto brasileiro</a:t>
            </a: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Aprovação do código Nacional de Telecomunicações (1962) ;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Intervenção estatal (duas motivações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ntecedentes Histórico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Primórdio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Linguagens de tambores na Áf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inais de fumaça dos índios american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anto dos pássaros dos índios brasileir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Fala e Sinais Pictográfico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aior poder de expressão que sina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Desenhos nas cavernas e egípci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fumaca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62908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egito2" descr=""/>
          <p:cNvPicPr/>
          <p:nvPr/>
        </p:nvPicPr>
        <p:blipFill>
          <a:blip r:embed="rId2"/>
          <a:stretch/>
        </p:blipFill>
        <p:spPr>
          <a:xfrm>
            <a:off x="6248520" y="4114800"/>
            <a:ext cx="27939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orças Propulsoras e Restri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Motivações de caráter militar - integração do território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scolha de políticas de desenvolvimento econômico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construção de novas rodovias, aeroportos, modernização dos serviços de correios e telégrafos e do sistema de telecomunicações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modernização da mídia impressa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orças Propulsoras e Restri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10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Narrow"/>
              </a:rPr>
              <a:t>Motivações de ordem econômica</a:t>
            </a:r>
            <a:r>
              <a:rPr b="0" lang="pt-BR" sz="4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apoio a indústria de telecomunicações;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Incentivo a Pesquisa e desenvolvimento (P&amp;D);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Forças Propulsoras e Restritiv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Grande problema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 baixo poder aquisitivo da população. A oferta hesita em se lançar de forma mais agressiva no mercado, em virtude da ausência da demanda que justifique investimentos necessários, e a demanda se hesita em se manifestar de forma masi efetiva, devido à ausência de uma oferta variada, que lhe permita fazer escolha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Referênci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ivro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CASTELLS, M. </a:t>
            </a: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A Sociedade Em Red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. Paz e Terra, São Paulo, 1999, Cap. 5 e 6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NEGROPONTE, N. </a:t>
            </a: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A Vida Digital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. Companhia das Letras, São Paulo, 1995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it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inventors.about.com/science/invento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aber.ac.uk/media/Sections/gen02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cfh.ufsc.br/~marcolino/curso/tamara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ctheory.com/global/ga114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gersonmartins.jor.br/historia_comunicacao.ht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goathead.org/history/index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museum.siu.edu/Museum/Museum_Explorers/discovery/history/communication.htm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sergiomattos.com.b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spcomm.uiuc.edu:1000/nosh/MGINF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ww.telemar.com.br/museu/hc01.ht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ntecedentes Histórico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Escr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eróglifos egípcios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 caracteres árabes e chine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aracteres =&gt; Alfabeto =&gt; Palavras =&gt; Fra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775AC alfabeto fonético greg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400AC 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 Narrow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registro escrito em ossos de animais na Chin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 Pap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3000AC os egípcios criaram o papiro (pano das múmia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140 os egípcios criaram processo de produção do pap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urgiram: os arautos, os correios e os livros manuscrit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6" name="papyrus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19051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Primeira Revolução: Linotip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453 Johnannes Gutenberg inventa a “imprensa” e imprime uma bíblia em 42 linh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s livros não precisavam ser mais manuscrit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Em 1886 Ottmar Mergenthaler criou a linotipo que revolucionou o sistema de impressã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Base para criação dos jorna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Gutenberg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180" name="GutBible1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1647720" cy="1601640"/>
          </a:xfrm>
          <a:prstGeom prst="rect">
            <a:avLst/>
          </a:prstGeom>
          <a:ln w="0">
            <a:noFill/>
          </a:ln>
        </p:spPr>
      </p:pic>
      <p:pic>
        <p:nvPicPr>
          <p:cNvPr id="181" name="GutBible" descr=""/>
          <p:cNvPicPr/>
          <p:nvPr/>
        </p:nvPicPr>
        <p:blipFill>
          <a:blip r:embed="rId3"/>
          <a:stretch/>
        </p:blipFill>
        <p:spPr>
          <a:xfrm>
            <a:off x="7613640" y="4419720"/>
            <a:ext cx="1073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Segunda Revolução: Rádi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838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Samuel Morse inventa o telégrafo elétri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876 Alexander Graham Bell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inventa o telefo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877 Thomas Alva Edison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nventa o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nógraf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06280" indent="-2062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01 Marconi inventa o rádi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4" name="sam_morse" descr=""/>
          <p:cNvPicPr/>
          <p:nvPr/>
        </p:nvPicPr>
        <p:blipFill>
          <a:blip r:embed="rId1"/>
          <a:stretch/>
        </p:blipFill>
        <p:spPr>
          <a:xfrm>
            <a:off x="7877160" y="190512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telegraph1860" descr=""/>
          <p:cNvPicPr/>
          <p:nvPr/>
        </p:nvPicPr>
        <p:blipFill>
          <a:blip r:embed="rId2"/>
          <a:stretch/>
        </p:blipFill>
        <p:spPr>
          <a:xfrm>
            <a:off x="7772400" y="327672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agbell" descr=""/>
          <p:cNvPicPr/>
          <p:nvPr/>
        </p:nvPicPr>
        <p:blipFill>
          <a:blip r:embed="rId3"/>
          <a:stretch/>
        </p:blipFill>
        <p:spPr>
          <a:xfrm>
            <a:off x="152280" y="2360520"/>
            <a:ext cx="2743200" cy="2287800"/>
          </a:xfrm>
          <a:prstGeom prst="rect">
            <a:avLst/>
          </a:prstGeom>
          <a:ln w="0">
            <a:noFill/>
          </a:ln>
        </p:spPr>
      </p:pic>
      <p:pic>
        <p:nvPicPr>
          <p:cNvPr id="187" name="ThomasAlvaEdison" descr=""/>
          <p:cNvPicPr/>
          <p:nvPr/>
        </p:nvPicPr>
        <p:blipFill>
          <a:blip r:embed="rId4"/>
          <a:stretch/>
        </p:blipFill>
        <p:spPr>
          <a:xfrm>
            <a:off x="152280" y="4692600"/>
            <a:ext cx="1144800" cy="1784520"/>
          </a:xfrm>
          <a:prstGeom prst="rect">
            <a:avLst/>
          </a:prstGeom>
          <a:ln w="0">
            <a:noFill/>
          </a:ln>
        </p:spPr>
      </p:pic>
      <p:pic>
        <p:nvPicPr>
          <p:cNvPr id="188" name="phonograph" descr=""/>
          <p:cNvPicPr/>
          <p:nvPr/>
        </p:nvPicPr>
        <p:blipFill>
          <a:blip r:embed="rId5"/>
          <a:stretch/>
        </p:blipFill>
        <p:spPr>
          <a:xfrm>
            <a:off x="1371600" y="469584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189" name="marconiandpaget" descr=""/>
          <p:cNvPicPr/>
          <p:nvPr/>
        </p:nvPicPr>
        <p:blipFill>
          <a:blip r:embed="rId6"/>
          <a:stretch/>
        </p:blipFill>
        <p:spPr>
          <a:xfrm>
            <a:off x="3505320" y="5105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90" name="firstradio" descr=""/>
          <p:cNvPicPr/>
          <p:nvPr/>
        </p:nvPicPr>
        <p:blipFill>
          <a:blip r:embed="rId7"/>
          <a:stretch/>
        </p:blipFill>
        <p:spPr>
          <a:xfrm>
            <a:off x="5867280" y="5105520"/>
            <a:ext cx="1257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Terceira Revolução: Cinema e TV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6782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884 Paul Nipkow inventa uma TV mecân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891 Thomas Edison inventa o cinescópi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895 os irmãos Lumiere fazem 1o film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20 John Logie Baird reinventou a T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27 primeira exibição pública da T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41 a CBS e a NBC entram no 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48 a FCC libera novas licenç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3" name="TVJohnLogieBaird" descr=""/>
          <p:cNvPicPr/>
          <p:nvPr/>
        </p:nvPicPr>
        <p:blipFill>
          <a:blip r:embed="rId1"/>
          <a:stretch/>
        </p:blipFill>
        <p:spPr>
          <a:xfrm>
            <a:off x="8381880" y="2354400"/>
            <a:ext cx="557280" cy="922320"/>
          </a:xfrm>
          <a:prstGeom prst="rect">
            <a:avLst/>
          </a:prstGeom>
          <a:ln w="0">
            <a:noFill/>
          </a:ln>
        </p:spPr>
      </p:pic>
      <p:pic>
        <p:nvPicPr>
          <p:cNvPr id="194" name="mechanicaltv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67240" cy="1066680"/>
          </a:xfrm>
          <a:prstGeom prst="rect">
            <a:avLst/>
          </a:prstGeom>
          <a:ln w="0">
            <a:noFill/>
          </a:ln>
        </p:spPr>
      </p:pic>
      <p:pic>
        <p:nvPicPr>
          <p:cNvPr id="195" name="CBSkraft" descr=""/>
          <p:cNvPicPr/>
          <p:nvPr/>
        </p:nvPicPr>
        <p:blipFill>
          <a:blip r:embed="rId3"/>
          <a:stretch/>
        </p:blipFill>
        <p:spPr>
          <a:xfrm>
            <a:off x="6627960" y="4648320"/>
            <a:ext cx="236376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Terceira Revolução: Cinema e TV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0 a Nielsen instala os “Audimetros” nas residênci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1 já existiam 1,5 milhões de TV nos EU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76 Ted Turner da CNN transmite, via satélite, o primeiro programa de alcance nacion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80 a CNN torna-se o primeiro canal de notícias 24 horas por d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80 é instalado o primeiro sistema de TV a cabo com fibra óptica em Atlanta nos EU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Quarta Revolução: Informátic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44 Harvard faz o Mark 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47 John Newman faz o ENIA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1 o UNIVAC é comercializad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2 na CBS o UNIVAC projeta o vencedor da eleição dos EU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7 é criado o FORTR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9 foi inventado o microshi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0" name="Eniac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601640" cy="2516040"/>
          </a:xfrm>
          <a:prstGeom prst="rect">
            <a:avLst/>
          </a:prstGeom>
          <a:ln w="0">
            <a:noFill/>
          </a:ln>
        </p:spPr>
      </p:pic>
      <p:pic>
        <p:nvPicPr>
          <p:cNvPr id="201" name="Univac" descr=""/>
          <p:cNvPicPr/>
          <p:nvPr/>
        </p:nvPicPr>
        <p:blipFill>
          <a:blip r:embed="rId2"/>
          <a:stretch/>
        </p:blipFill>
        <p:spPr>
          <a:xfrm>
            <a:off x="1155600" y="4195800"/>
            <a:ext cx="20448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A Quarta Revolução: Informátic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5334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59 Chester F. Carlson (da Xerox) faz a “copier” a primeira copiadora de pap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70 é criado o floppy d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71 Gordon Moore (da Intel) cria o microprocessado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1975 Ed Roberts cria o ALTAI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XeroxChesterFCarlson" descr=""/>
          <p:cNvPicPr/>
          <p:nvPr/>
        </p:nvPicPr>
        <p:blipFill>
          <a:blip r:embed="rId1"/>
          <a:stretch/>
        </p:blipFill>
        <p:spPr>
          <a:xfrm>
            <a:off x="7026120" y="1905120"/>
            <a:ext cx="1965600" cy="1965240"/>
          </a:xfrm>
          <a:prstGeom prst="rect">
            <a:avLst/>
          </a:prstGeom>
          <a:ln w="0">
            <a:noFill/>
          </a:ln>
        </p:spPr>
      </p:pic>
      <p:pic>
        <p:nvPicPr>
          <p:cNvPr id="205" name="8080" descr=""/>
          <p:cNvPicPr/>
          <p:nvPr/>
        </p:nvPicPr>
        <p:blipFill>
          <a:blip r:embed="rId2"/>
          <a:stretch/>
        </p:blipFill>
        <p:spPr>
          <a:xfrm>
            <a:off x="5486400" y="6019920"/>
            <a:ext cx="1676520" cy="590400"/>
          </a:xfrm>
          <a:prstGeom prst="rect">
            <a:avLst/>
          </a:prstGeom>
          <a:ln w="0">
            <a:noFill/>
          </a:ln>
        </p:spPr>
      </p:pic>
      <p:pic>
        <p:nvPicPr>
          <p:cNvPr id="206" name="EdRoberts" descr=""/>
          <p:cNvPicPr/>
          <p:nvPr/>
        </p:nvPicPr>
        <p:blipFill>
          <a:blip r:embed="rId3"/>
          <a:stretch/>
        </p:blipFill>
        <p:spPr>
          <a:xfrm>
            <a:off x="237960" y="1905120"/>
            <a:ext cx="1590840" cy="2209680"/>
          </a:xfrm>
          <a:prstGeom prst="rect">
            <a:avLst/>
          </a:prstGeom>
          <a:ln w="0">
            <a:noFill/>
          </a:ln>
        </p:spPr>
      </p:pic>
      <p:pic>
        <p:nvPicPr>
          <p:cNvPr id="207" name="PopularElet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1620720" cy="2187360"/>
          </a:xfrm>
          <a:prstGeom prst="rect">
            <a:avLst/>
          </a:prstGeom>
          <a:ln w="0">
            <a:noFill/>
          </a:ln>
        </p:spPr>
      </p:pic>
      <p:pic>
        <p:nvPicPr>
          <p:cNvPr id="208" name="GordonMoore" descr=""/>
          <p:cNvPicPr/>
          <p:nvPr/>
        </p:nvPicPr>
        <p:blipFill>
          <a:blip r:embed="rId5"/>
          <a:stretch/>
        </p:blipFill>
        <p:spPr>
          <a:xfrm>
            <a:off x="7272360" y="3962520"/>
            <a:ext cx="16430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7:43:43Z</dcterms:created>
  <dc:creator>Márcio Moreira</dc:creator>
  <dc:description/>
  <dc:language>en-US</dc:language>
  <cp:lastModifiedBy>Márcio Moreira</cp:lastModifiedBy>
  <dcterms:modified xsi:type="dcterms:W3CDTF">2001-06-12T15:38:28Z</dcterms:modified>
  <cp:revision>73</cp:revision>
  <dc:subject/>
  <dc:title>Bill Gates - Biografia</dc:title>
</cp:coreProperties>
</file>