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DCAE-B24D-4F01-884A-9B6165D345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3A6-F0EF-44E2-AC72-045E3C21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28E-8324-41FE-B3D7-FAA91F45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836-1C5D-4F9E-820B-5207A2BC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D1A-BF20-403D-BB13-12D55159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6C3B-8698-4F33-AD02-35339E61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8132-3B7D-40CD-82A3-824A6AE6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2F8D-C755-4D0F-B96C-8B58B309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20D4-0646-4BCF-B4EF-FF29CF10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3B31-98E4-4FF9-8624-E6C04668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C7DE-908A-45B2-8F70-80108AE4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BA30-328F-43C3-B1AD-96C178FB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651-0C25-4DD9-88F4-71AEEFCC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C03C-E96D-490B-8B66-12124002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D3B8-928D-48E5-8BAD-71D9CE18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11AF-827E-44C1-B030-5DCFBC82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C69E-0D59-4DFB-93FA-69838324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ED1A-4444-4299-A513-67A3C23A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565-E869-4095-9118-06FE0A9D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3C0-5307-44EE-B9C2-7C82AFBC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B3E-1403-4AC0-85F7-6F4E2E9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2D9-A3A7-4AF5-BEEC-55DED622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994-2F3F-4CD3-98D7-E41E626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300-9E0E-490F-AA2D-A7DC4F9A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467-D36D-4529-9399-E0654F8D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F96F-CB6E-47A4-8FF9-F014A6B8E4CE}" type="datetime">
              <a:rPr b="0" lang="pt-BR" sz="1400" spc="-1" strike="noStrike">
                <a:solidFill>
                  <a:srgbClr val="40458c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E5A9-2693-420C-A7EA-EAE961E369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AccLogoM" descr=""/>
          <p:cNvPicPr/>
          <p:nvPr/>
        </p:nvPicPr>
        <p:blipFill>
          <a:blip r:embed="rId4"/>
          <a:stretch/>
        </p:blipFill>
        <p:spPr>
          <a:xfrm>
            <a:off x="7772400" y="228600"/>
            <a:ext cx="122220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44F4-0C3E-4190-AC58-FB48646EB147}" type="datetime">
              <a:rPr b="0" lang="pt-BR" sz="1400" spc="-1" strike="noStrike">
                <a:solidFill>
                  <a:srgbClr val="40458c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8AFA-B8D8-41D8-AEC0-185552C701C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35053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40458c"/>
                </a:solidFill>
                <a:latin typeface="Vogue"/>
              </a:rPr>
              <a:t>Acc &amp; Tupperwa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árcio Moreira – Junho/200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arcio@acc.com.b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accnamebigt" descr=""/>
          <p:cNvPicPr/>
          <p:nvPr/>
        </p:nvPicPr>
        <p:blipFill>
          <a:blip r:embed="rId1"/>
          <a:stretch/>
        </p:blipFill>
        <p:spPr>
          <a:xfrm>
            <a:off x="914400" y="1679400"/>
            <a:ext cx="6765840" cy="12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3520-FD5A-408F-9054-650D4C5E9B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F9F661D-85F1-4535-B5E3-7049A609F8DC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cc &amp; Tupper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86: 1a versão do Acc Draco</a:t>
            </a:r>
            <a:r>
              <a:rPr b="0" lang="pt-BR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para um  distribuid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87: Versão 2 (p/ alguns distribuido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88: Abertura da Ac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88: Versão 3 (p/ muitos distribuido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94: Versão 4 com Acc DataPower</a:t>
            </a:r>
            <a:r>
              <a:rPr b="0" lang="pt-BR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2000: Versão 5 em Oracle &amp; Visual Basic  para todos Centros de Distribui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4B1-D548-4570-8988-5FBB9EA96F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2DB05-4E66-47AC-95CF-6A9DEDA91B77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Módu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40458c"/>
              </a:solidFill>
              <a:latin typeface="Tahoma"/>
              <a:ea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2971800"/>
            <a:ext cx="1295280" cy="996840"/>
            <a:chOff x="3733920" y="2971800"/>
            <a:chExt cx="1295280" cy="996840"/>
          </a:xfrm>
        </p:grpSpPr>
        <p:pic>
          <p:nvPicPr>
            <p:cNvPr id="247" name="" descr="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3764520" y="2971800"/>
              <a:ext cx="122940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33920" y="3105000"/>
              <a:ext cx="129528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upom Fiscal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219320" y="5257800"/>
            <a:ext cx="1828800" cy="1017720"/>
            <a:chOff x="1219320" y="5257800"/>
            <a:chExt cx="1828800" cy="1017720"/>
          </a:xfrm>
        </p:grpSpPr>
        <p:pic>
          <p:nvPicPr>
            <p:cNvPr id="250" name="E-%20Process%20%20no%20type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1493640" y="5257800"/>
              <a:ext cx="1261800" cy="101772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251" name=""/>
            <p:cNvSpPr/>
            <p:nvPr/>
          </p:nvSpPr>
          <p:spPr>
            <a:xfrm>
              <a:off x="1219320" y="5271480"/>
              <a:ext cx="18288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ontas a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Receber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e a Pagar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791320" y="5410080"/>
            <a:ext cx="1447560" cy="914400"/>
            <a:chOff x="5791320" y="5410080"/>
            <a:chExt cx="1447560" cy="914400"/>
          </a:xfrm>
        </p:grpSpPr>
        <p:pic>
          <p:nvPicPr>
            <p:cNvPr id="253" name="E-%20Cust%20and%20Partner%20no%20type" descr=""/>
            <p:cNvPicPr/>
            <p:nvPr/>
          </p:nvPicPr>
          <p:blipFill>
            <a:blip r:embed="rId3">
              <a:lum bright="-6000"/>
            </a:blip>
            <a:stretch/>
          </p:blipFill>
          <p:spPr>
            <a:xfrm>
              <a:off x="5892120" y="5410080"/>
              <a:ext cx="1298520" cy="91440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254" name=""/>
            <p:cNvSpPr/>
            <p:nvPr/>
          </p:nvSpPr>
          <p:spPr>
            <a:xfrm>
              <a:off x="5791320" y="5638320"/>
              <a:ext cx="1447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Vendas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862600" y="4267080"/>
            <a:ext cx="1300320" cy="762120"/>
            <a:chOff x="5862600" y="4267080"/>
            <a:chExt cx="1300320" cy="762120"/>
          </a:xfrm>
        </p:grpSpPr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5862600" y="4267080"/>
              <a:ext cx="13003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862600" y="4327200"/>
              <a:ext cx="123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ala Direta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67280" y="2971800"/>
            <a:ext cx="1295640" cy="990720"/>
            <a:chOff x="5867280" y="2971800"/>
            <a:chExt cx="1295640" cy="99072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5867280" y="2971800"/>
              <a:ext cx="12956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988600" y="3086280"/>
              <a:ext cx="103932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Livros Fiscais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447920" y="4191120"/>
            <a:ext cx="1371600" cy="826920"/>
            <a:chOff x="1447920" y="4191120"/>
            <a:chExt cx="1371600" cy="826920"/>
          </a:xfrm>
        </p:grpSpPr>
        <p:pic>
          <p:nvPicPr>
            <p:cNvPr id="262" name="" descr=""/>
            <p:cNvPicPr/>
            <p:nvPr/>
          </p:nvPicPr>
          <p:blipFill>
            <a:blip r:embed="rId6"/>
            <a:stretch/>
          </p:blipFill>
          <p:spPr>
            <a:xfrm>
              <a:off x="1461960" y="4191120"/>
              <a:ext cx="135756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4349160"/>
              <a:ext cx="13633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ompras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581280" y="5334120"/>
            <a:ext cx="1562400" cy="990360"/>
            <a:chOff x="3581280" y="5334120"/>
            <a:chExt cx="1562400" cy="990360"/>
          </a:xfrm>
        </p:grpSpPr>
        <p:pic>
          <p:nvPicPr>
            <p:cNvPr id="265" name="" descr=""/>
            <p:cNvPicPr/>
            <p:nvPr/>
          </p:nvPicPr>
          <p:blipFill>
            <a:blip r:embed="rId7"/>
            <a:stretch/>
          </p:blipFill>
          <p:spPr>
            <a:xfrm>
              <a:off x="3735000" y="5334120"/>
              <a:ext cx="127908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81280" y="5608440"/>
              <a:ext cx="15624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Faturamento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81280" y="4191120"/>
            <a:ext cx="1600200" cy="838080"/>
            <a:chOff x="3581280" y="4191120"/>
            <a:chExt cx="1600200" cy="838080"/>
          </a:xfrm>
        </p:grpSpPr>
        <p:pic>
          <p:nvPicPr>
            <p:cNvPr id="268" name="7015" descr=""/>
            <p:cNvPicPr/>
            <p:nvPr/>
          </p:nvPicPr>
          <p:blipFill>
            <a:blip r:embed="rId8"/>
            <a:srcRect l="0" t="25063" r="0" b="9727"/>
            <a:stretch/>
          </p:blipFill>
          <p:spPr>
            <a:xfrm>
              <a:off x="3714480" y="4191120"/>
              <a:ext cx="1304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581280" y="4430520"/>
              <a:ext cx="1600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Estoque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47920" y="2971800"/>
            <a:ext cx="1371600" cy="985680"/>
            <a:chOff x="1447920" y="2971800"/>
            <a:chExt cx="1371600" cy="985680"/>
          </a:xfrm>
        </p:grpSpPr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1475280" y="2971800"/>
              <a:ext cx="1344240" cy="9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447920" y="3224160"/>
              <a:ext cx="1352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omissões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555-579D-45C9-A254-8409444D56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40F2B-CA02-441D-A48B-A4AFF3835F49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Recurs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Gerencia: país, regiões, CDs, empresas, distribuições, distritos, grupos e cli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ode ser utilizado na companhia, nos CDs e nas distribuiçõ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Alta flexibilidade com relatórios (gerador, visualização em tela, e-mail, salvament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Ferramenta de consulta de informaçõ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Interface com bancos, com a companhia e agências de cobrança via arquivo tex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783-F4BE-4C7C-B671-748B36A645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D62E1-0EC6-4013-9C7D-764D0D3F02F3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Recurs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a promoções: seminários, objetivos de grupos, de vendas, indicações e mist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e total de ocorrências de cli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e do trabalho dos operado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nferência automática de pedidos para produtos em promo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Leitura de pedidos por leitora óp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Baixa documentos por duplicata ou bole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Mala direta para cli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748-E0C7-4B8D-BDDF-E7D0D4C7BD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B3D31-6A0E-4B02-B72B-C35EC9462A49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Recurs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scolha e inclusão automática de brin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mplemento automático do Vanguar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missão de qualquer tipo de nota fiscal: vendas, devoluções para fábrica da cia,  bonificações, entregas de brindes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e de comissões de gerentes e clientes (representa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Levantamento de prospects a ger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BE9-B44C-43B0-A221-036F521CE0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2A0AC-5443-484C-89E9-156EC2ECDCD3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Característic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Interface windows (simples e intuitiv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Help on-line e sensível ao contex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Flexibilidade por parametriz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e de acesso de usuários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 por senhas e níve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Atalhos para principais funçõ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Tecnologia confiável, robusta, segura, estável e preparada para grandes volu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bd04972_" descr=""/>
          <p:cNvPicPr/>
          <p:nvPr/>
        </p:nvPicPr>
        <p:blipFill>
          <a:blip r:embed="rId7"/>
          <a:stretch/>
        </p:blipFill>
        <p:spPr>
          <a:xfrm>
            <a:off x="6629400" y="3200400"/>
            <a:ext cx="2438280" cy="18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E30-9485-4858-9BBF-B07D7FB566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524CB-0FD1-4BE7-94B9-D2D3193BB949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Benefíci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nfiabilidade e agilida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edução de cus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roduto adequado ao negóc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Automação operacional e geren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Otimização das decisõ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Aumento de produtivida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Aumento de competitivida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liminação de redundânci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4" name="flint" descr=""/>
          <p:cNvPicPr/>
          <p:nvPr/>
        </p:nvPicPr>
        <p:blipFill>
          <a:blip r:embed="rId9"/>
          <a:stretch/>
        </p:blipFill>
        <p:spPr>
          <a:xfrm>
            <a:off x="6784920" y="1447920"/>
            <a:ext cx="2206800" cy="1619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6553080" y="4648320"/>
            <a:ext cx="2371680" cy="1876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5400000">
            <a:off x="7081560" y="3671640"/>
            <a:ext cx="1514520" cy="743040"/>
          </a:xfrm>
          <a:prstGeom prst="rightArrow">
            <a:avLst>
              <a:gd name="adj1" fmla="val 65880"/>
              <a:gd name="adj2" fmla="val 50957"/>
            </a:avLst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Arial"/>
              </a:rPr>
              <a:t>Evoluçã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4C0-C8CD-4A24-B826-BB8BD01B69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725C8-0144-4AF6-AEA7-7812D2CFAB9F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51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Para onde vamos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“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Os negócios vão mudar mais nos próximos 10 anos do que mudaram nos últimos 50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Bill Ga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Obrigado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www.acc.com.b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arcio@acc.com.b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FB2-E3F9-4AF8-8853-86F65242A3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5AABA-085A-454A-9586-E46FDBE6D0B1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Quem é a Acc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62040" y="175248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Fundação: 8 de Agosto de 198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Fundadores: Márcio, Cida e Sérg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bjetivo inicial: Software-Hou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0: “A sua solution house!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2: Abrimos o capital para colaboradores e investidores externos. Hoje somos 1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3: Distribuição de 50% dos lucros, horários flexíveis, estágios, et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B5B-22C1-4D7E-A254-DEECA464C5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E29DF-9F29-4B54-B5E8-E987C3F1F1F5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strutura Organiz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09480" y="1833480"/>
          <a:ext cx="8118720" cy="32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33480"/>
                    <a:ext cx="811872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5EC-7C2C-4294-A638-249FBFD379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08190-7C19-4515-B5F5-3E7E176E2183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ovaçõ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62040" y="1752480"/>
            <a:ext cx="8177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1994: Programa de qualida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1995: Programa de instalação, treinamento e supor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1996: Internet =&gt; Suporte, atualização e comunicação parceiros (cliente/forneced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1997: Faturamento direto e Palmto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1998: Reciclagem interna em DB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1999: Comércio eletrôn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2000: Integração de solu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312-B5B8-443C-9089-15293F30C0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6E9F6-4DA9-433F-9910-7FB9F05B32D9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lientes Ac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1600200"/>
          <a:ext cx="80773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0773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1F3-75EF-4AD6-918E-3C2863436E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C2B93-EE28-4B35-892D-FB7B5203DA07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Faturamento em Us$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9640" y="1447920"/>
          <a:ext cx="81043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47920"/>
                    <a:ext cx="81043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3360" y="5672160"/>
            <a:ext cx="90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bs: A partir de 97 passamos a atuar com faturamento dire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509-6A22-4861-93F5-D05C86D9DC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47DC9-4CDC-44A4-8D57-01239B17752A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cursos Human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3520" y="1523880"/>
          <a:ext cx="80769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DE1-3C24-4185-96C0-5CB7B87201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178FD-6589-49D5-A364-6213C67106F8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cursos Human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1600200"/>
          <a:ext cx="80769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801-E209-40EF-B8E7-995EFCF1FC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5498C-C3FF-451E-9F3B-72E46D8C022F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lguns Softw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Draco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mpresas com vendas dir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55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Drinks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tacados e distribuidores </a:t>
            </a:r>
            <a:r>
              <a:rPr b="0" lang="pt-BR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(bebidas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ECF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missão de cupom fisc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Lupus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e bancá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Póllux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ntabilidade &amp; Fluxo de Caix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Seller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utomação de Força de Ven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Taurus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presentação Come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76B-05BC-4F2B-9887-F6CE16F685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22DBD-BB3C-450D-8BD8-1D4AF4750D6A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co</cp:lastModifiedBy>
  <dcterms:modified xsi:type="dcterms:W3CDTF">2001-06-26T13:15:56Z</dcterms:modified>
  <cp:revision>38</cp:revision>
  <dc:subject/>
  <dc:title>Apresentação do PowerPoint</dc:title>
</cp:coreProperties>
</file>