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AE3D-131B-4050-A0E0-04A40469F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0BC2-4E33-4CC3-8084-98E64E4E3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358B-A2C4-4CB9-8FB1-7B9F22572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78C2-9465-4069-BF26-BF5EADA7E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C7389-3047-4587-8CF1-F84D2C7D5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9AC36-C536-4063-9B65-FF6825B84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F17A0-7591-478B-B76A-77AD6E891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9AAAA-9B42-4F01-AB7E-31E350174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362C8-D189-4B65-8C25-7AB1C5C36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3C363-4DB2-4BE5-B91E-DAA5BBAB4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9AA87-E244-44BB-B722-94C81F57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3EDC-EF1C-44AC-A21A-725211873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4F7E2-9F6F-4429-B718-55291211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E4C8F-2E3D-4216-A258-831030F5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8EC12-9582-4BEA-82DA-AFD2F7BF6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FFB74-0B85-4A6B-9386-C921676C7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4C7A9-DB74-41D3-BFD9-F6B17C4D7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1ACE-3915-4F39-974A-4FC7FBD9E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4BDF-3EC0-40DA-AEBE-C780C4D70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24A9-9876-4752-9A13-90CB3629A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9FC5-0281-4C22-ABAD-22102692C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43FA-770C-4EF4-AF08-B3C6AC7F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CF67-477C-45E8-A122-F8812075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1CD8-4012-4EA8-A97F-35C217BC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F13E6-9AE1-4FFA-9601-A000F683EA07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A06F3-9F38-42FE-BD2B-7BBCE341EC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6AD05-FFC3-449C-9A6A-A667D12F4552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56804-5D2E-4CB6-8884-38A71E40FB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Kerber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UFU – Márcio Moreira – Maio/20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ryptography And Network Secur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Willian Stallings – Prentice H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Kerberos 4 Mais Detalh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lient – Server: Client Server Authentication Excha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utentica o Client para o Server e dá acesso a um serviç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 Serve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Decifra Ticket</a:t>
            </a:r>
            <a:r>
              <a:rPr b="0" lang="pt-BR" sz="20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 utilizando K</a:t>
            </a:r>
            <a:r>
              <a:rPr b="0" lang="pt-BR" sz="20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 que ele 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Pega Kc,s dentro do Ticket</a:t>
            </a:r>
            <a:r>
              <a:rPr b="0" lang="pt-BR" sz="20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 e decifra o Autenticador</a:t>
            </a:r>
            <a:r>
              <a:rPr b="0" lang="pt-BR" sz="20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Faz a autenticação do Client checando: ID</a:t>
            </a:r>
            <a:r>
              <a:rPr b="0" lang="pt-BR" sz="20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, AD</a:t>
            </a:r>
            <a:r>
              <a:rPr b="0" lang="pt-BR" sz="20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, ID</a:t>
            </a:r>
            <a:r>
              <a:rPr b="0" lang="pt-BR" sz="20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, TS</a:t>
            </a:r>
            <a:r>
              <a:rPr b="0" lang="pt-BR" sz="20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 e LT</a:t>
            </a:r>
            <a:r>
              <a:rPr b="0" lang="pt-BR" sz="20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e a autenticação mútua for requerida, pega TS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dentro do Autenticador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, soma um para evitar “replay attack”, cifra utilizando K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Times New Roman"/>
              </a:rPr>
              <a:t>c,s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e envia para o 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Times New Roman"/>
              </a:rPr>
              <a:t>c,s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pode ser utilizada por ambos para trocar mensage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erberos - Márcio Morei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10DF-5BD4-4FDE-8172-9FC6AB0B3D4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621831-D770-4CB0-884A-18375E3690D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Kerberos Múltiplos &amp; Realm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Realm é um ambiente onde tem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Um servidor Kerberos, “n” clients e “k” serv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Necessidad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No servidor Kerberos estão todos os usuários de um real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erá compartilhada uma chave com cada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 usuário de um realm pode acessar serviços de servidores de outros real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 usuário se autentica localmente primeiro, depois pode requerer acesso a servidores extern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s servidores Kerberos compartilham chaves entre 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erberos - Márcio Morei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05F8-12E6-47D4-9AC0-38C1D037C6C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CB4DC4-DC54-492F-A998-F21FBD54897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4648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Kerberos Realm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" y="1295280"/>
            <a:ext cx="1143000" cy="762120"/>
          </a:xfrm>
          <a:prstGeom prst="rect">
            <a:avLst/>
          </a:prstGeom>
          <a:solidFill>
            <a:srgbClr val="3366ff"/>
          </a:solidFill>
          <a:ln w="9360">
            <a:solidFill>
              <a:srgbClr val="33cccc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19720" y="5257800"/>
            <a:ext cx="1143000" cy="762120"/>
          </a:xfrm>
          <a:prstGeom prst="rect">
            <a:avLst/>
          </a:prstGeom>
          <a:solidFill>
            <a:srgbClr val="3366ff"/>
          </a:solidFill>
          <a:ln w="9360">
            <a:solidFill>
              <a:srgbClr val="33cccc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5880" y="762120"/>
            <a:ext cx="2667240" cy="2590560"/>
          </a:xfrm>
          <a:prstGeom prst="rect">
            <a:avLst/>
          </a:prstGeom>
          <a:solidFill>
            <a:srgbClr val="666699"/>
          </a:solidFill>
          <a:ln w="9360">
            <a:solidFill>
              <a:srgbClr val="33cccc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Kerbe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24480" y="1295280"/>
            <a:ext cx="1143000" cy="762120"/>
          </a:xfrm>
          <a:prstGeom prst="rect">
            <a:avLst/>
          </a:prstGeom>
          <a:solidFill>
            <a:srgbClr val="3366ff"/>
          </a:solidFill>
          <a:ln w="9360">
            <a:solidFill>
              <a:srgbClr val="33cccc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.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077320" y="1295280"/>
            <a:ext cx="533160" cy="68580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9360">
            <a:solidFill>
              <a:srgbClr val="33cccc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543800" y="1676520"/>
            <a:ext cx="533520" cy="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1371600"/>
            <a:ext cx="472428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92760" y="1143000"/>
            <a:ext cx="1794960" cy="5101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D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||ID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Times New Roman"/>
              </a:rPr>
              <a:t>tgs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||TS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1599840" y="1905120"/>
            <a:ext cx="472428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092320" y="1725480"/>
            <a:ext cx="3565440" cy="4406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pt-BR" sz="2000" spc="-1" strike="noStrike" baseline="-25000">
                <a:solidFill>
                  <a:srgbClr val="ffffff"/>
                </a:solidFill>
                <a:latin typeface="Times New Roman"/>
              </a:rPr>
              <a:t>Kc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[K</a:t>
            </a:r>
            <a:r>
              <a:rPr b="0" lang="pt-BR" sz="2000" spc="-1" strike="noStrike" baseline="-25000">
                <a:solidFill>
                  <a:srgbClr val="ffffff"/>
                </a:solidFill>
                <a:latin typeface="Times New Roman"/>
              </a:rPr>
              <a:t>c,tgs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||ID</a:t>
            </a:r>
            <a:r>
              <a:rPr b="0" lang="pt-BR" sz="2000" spc="-1" strike="noStrike" baseline="-25000">
                <a:solidFill>
                  <a:srgbClr val="ffffff"/>
                </a:solidFill>
                <a:latin typeface="Times New Roman"/>
              </a:rPr>
              <a:t>tgs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||TS</a:t>
            </a:r>
            <a:r>
              <a:rPr b="0" lang="pt-BR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||LT</a:t>
            </a:r>
            <a:r>
              <a:rPr b="0" lang="pt-BR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||Ticket</a:t>
            </a:r>
            <a:r>
              <a:rPr b="0" lang="pt-BR" sz="2000" spc="-1" strike="noStrike" baseline="-25000">
                <a:solidFill>
                  <a:srgbClr val="ffffff"/>
                </a:solidFill>
                <a:latin typeface="Times New Roman"/>
              </a:rPr>
              <a:t>tgs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324480" y="2286000"/>
            <a:ext cx="1143000" cy="762120"/>
          </a:xfrm>
          <a:prstGeom prst="rect">
            <a:avLst/>
          </a:prstGeom>
          <a:solidFill>
            <a:srgbClr val="3366ff"/>
          </a:solidFill>
          <a:ln w="9360">
            <a:solidFill>
              <a:srgbClr val="33cccc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T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1600200" y="2057400"/>
            <a:ext cx="4723560" cy="380880"/>
            <a:chOff x="1600200" y="2057400"/>
            <a:chExt cx="4723560" cy="380880"/>
          </a:xfrm>
        </p:grpSpPr>
        <p:sp>
          <p:nvSpPr>
            <p:cNvPr id="204" name=""/>
            <p:cNvSpPr/>
            <p:nvPr/>
          </p:nvSpPr>
          <p:spPr>
            <a:xfrm>
              <a:off x="1600200" y="2438280"/>
              <a:ext cx="472356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600200" y="2057400"/>
              <a:ext cx="0" cy="3808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1882800" y="2209680"/>
            <a:ext cx="3969720" cy="5101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D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Times New Roman"/>
              </a:rPr>
              <a:t>tgsrem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||Ticket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Times New Roman"/>
              </a:rPr>
              <a:t>tgs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||Authenticator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447920" y="2057400"/>
            <a:ext cx="4876560" cy="904680"/>
            <a:chOff x="1447920" y="2057400"/>
            <a:chExt cx="4876560" cy="904680"/>
          </a:xfrm>
        </p:grpSpPr>
        <p:sp>
          <p:nvSpPr>
            <p:cNvPr id="208" name=""/>
            <p:cNvSpPr/>
            <p:nvPr/>
          </p:nvSpPr>
          <p:spPr>
            <a:xfrm>
              <a:off x="1447920" y="2962080"/>
              <a:ext cx="487656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447920" y="2057400"/>
              <a:ext cx="0" cy="904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1865520" y="2782800"/>
            <a:ext cx="3975840" cy="4406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pt-BR" sz="2000" spc="-1" strike="noStrike" baseline="-25000">
                <a:solidFill>
                  <a:srgbClr val="ffffff"/>
                </a:solidFill>
                <a:latin typeface="Times New Roman"/>
              </a:rPr>
              <a:t>Kc,tgs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[K</a:t>
            </a:r>
            <a:r>
              <a:rPr b="0" lang="pt-BR" sz="2000" spc="-1" strike="noStrike" baseline="-25000">
                <a:solidFill>
                  <a:srgbClr val="ffffff"/>
                </a:solidFill>
                <a:latin typeface="Times New Roman"/>
              </a:rPr>
              <a:t>c,tgsrem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||ID</a:t>
            </a:r>
            <a:r>
              <a:rPr b="0" lang="pt-BR" sz="2000" spc="-1" strike="noStrike" baseline="-25000">
                <a:solidFill>
                  <a:srgbClr val="ffffff"/>
                </a:solidFill>
                <a:latin typeface="Times New Roman"/>
              </a:rPr>
              <a:t>tgsrem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||TS</a:t>
            </a:r>
            <a:r>
              <a:rPr b="0" lang="pt-BR" sz="20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||Ticket</a:t>
            </a:r>
            <a:r>
              <a:rPr b="0" lang="pt-BR" sz="2000" spc="-1" strike="noStrike" baseline="-25000">
                <a:solidFill>
                  <a:srgbClr val="ffffff"/>
                </a:solidFill>
                <a:latin typeface="Times New Roman"/>
              </a:rPr>
              <a:t>tgsrem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95880" y="3657600"/>
            <a:ext cx="2667240" cy="2590920"/>
          </a:xfrm>
          <a:prstGeom prst="rect">
            <a:avLst/>
          </a:prstGeom>
          <a:solidFill>
            <a:srgbClr val="666699"/>
          </a:solidFill>
          <a:ln w="9360">
            <a:solidFill>
              <a:srgbClr val="33cccc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Kerbe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324480" y="4191120"/>
            <a:ext cx="1143000" cy="761760"/>
          </a:xfrm>
          <a:prstGeom prst="rect">
            <a:avLst/>
          </a:prstGeom>
          <a:solidFill>
            <a:srgbClr val="3366ff"/>
          </a:solidFill>
          <a:ln w="9360">
            <a:solidFill>
              <a:srgbClr val="33cccc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.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077320" y="4191120"/>
            <a:ext cx="533160" cy="68580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9360">
            <a:solidFill>
              <a:srgbClr val="33cccc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543800" y="4572000"/>
            <a:ext cx="533520" cy="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324480" y="5181480"/>
            <a:ext cx="1143000" cy="762120"/>
          </a:xfrm>
          <a:prstGeom prst="rect">
            <a:avLst/>
          </a:prstGeom>
          <a:solidFill>
            <a:srgbClr val="3366ff"/>
          </a:solidFill>
          <a:ln w="9360">
            <a:solidFill>
              <a:srgbClr val="33cccc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T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219320" y="2057400"/>
            <a:ext cx="5105160" cy="3200400"/>
            <a:chOff x="1219320" y="2057400"/>
            <a:chExt cx="5105160" cy="3200400"/>
          </a:xfrm>
        </p:grpSpPr>
        <p:grpSp>
          <p:nvGrpSpPr>
            <p:cNvPr id="217" name=""/>
            <p:cNvGrpSpPr/>
            <p:nvPr/>
          </p:nvGrpSpPr>
          <p:grpSpPr>
            <a:xfrm>
              <a:off x="1219320" y="2057400"/>
              <a:ext cx="4571280" cy="1904400"/>
              <a:chOff x="1219320" y="2057400"/>
              <a:chExt cx="4571280" cy="1904400"/>
            </a:xfrm>
          </p:grpSpPr>
          <p:sp>
            <p:nvSpPr>
              <p:cNvPr id="218" name=""/>
              <p:cNvSpPr/>
              <p:nvPr/>
            </p:nvSpPr>
            <p:spPr>
              <a:xfrm>
                <a:off x="1219320" y="3961800"/>
                <a:ext cx="4571280" cy="0"/>
              </a:xfrm>
              <a:prstGeom prst="line">
                <a:avLst/>
              </a:prstGeom>
              <a:ln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219320" y="2057400"/>
                <a:ext cx="0" cy="1904400"/>
              </a:xfrm>
              <a:prstGeom prst="line">
                <a:avLst/>
              </a:prstGeom>
              <a:ln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5791320" y="3962520"/>
              <a:ext cx="533160" cy="12952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990720" y="2057400"/>
            <a:ext cx="5333760" cy="3809880"/>
            <a:chOff x="990720" y="2057400"/>
            <a:chExt cx="5333760" cy="3809880"/>
          </a:xfrm>
        </p:grpSpPr>
        <p:grpSp>
          <p:nvGrpSpPr>
            <p:cNvPr id="222" name=""/>
            <p:cNvGrpSpPr/>
            <p:nvPr/>
          </p:nvGrpSpPr>
          <p:grpSpPr>
            <a:xfrm>
              <a:off x="990720" y="2057400"/>
              <a:ext cx="4723920" cy="2437920"/>
              <a:chOff x="990720" y="2057400"/>
              <a:chExt cx="4723920" cy="2437920"/>
            </a:xfrm>
          </p:grpSpPr>
          <p:sp>
            <p:nvSpPr>
              <p:cNvPr id="223" name=""/>
              <p:cNvSpPr/>
              <p:nvPr/>
            </p:nvSpPr>
            <p:spPr>
              <a:xfrm>
                <a:off x="990720" y="4495320"/>
                <a:ext cx="4723920" cy="0"/>
              </a:xfrm>
              <a:prstGeom prst="line">
                <a:avLst/>
              </a:prstGeom>
              <a:ln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990720" y="2057400"/>
                <a:ext cx="0" cy="2437920"/>
              </a:xfrm>
              <a:prstGeom prst="line">
                <a:avLst/>
              </a:prstGeom>
              <a:ln w="158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5715000" y="4495680"/>
              <a:ext cx="609480" cy="137160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1442880" y="3733920"/>
            <a:ext cx="4106880" cy="5101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D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Times New Roman"/>
              </a:rPr>
              <a:t>srem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||Ticket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Times New Roman"/>
              </a:rPr>
              <a:t>tgsrem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||Authenticator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03800" y="4307040"/>
            <a:ext cx="3857040" cy="4406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pt-BR" sz="2000" spc="-1" strike="noStrike" baseline="-25000">
                <a:solidFill>
                  <a:srgbClr val="ffffff"/>
                </a:solidFill>
                <a:latin typeface="Times New Roman"/>
              </a:rPr>
              <a:t>Kc,tgsrem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[K</a:t>
            </a:r>
            <a:r>
              <a:rPr b="0" lang="pt-BR" sz="2000" spc="-1" strike="noStrike" baseline="-25000">
                <a:solidFill>
                  <a:srgbClr val="ffffff"/>
                </a:solidFill>
                <a:latin typeface="Times New Roman"/>
              </a:rPr>
              <a:t>c,srem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||ID</a:t>
            </a:r>
            <a:r>
              <a:rPr b="0" lang="pt-BR" sz="2000" spc="-1" strike="noStrike" baseline="-25000">
                <a:solidFill>
                  <a:srgbClr val="ffffff"/>
                </a:solidFill>
                <a:latin typeface="Times New Roman"/>
              </a:rPr>
              <a:t>srem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||TS</a:t>
            </a:r>
            <a:r>
              <a:rPr b="0" lang="pt-BR" sz="20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||Ticket</a:t>
            </a:r>
            <a:r>
              <a:rPr b="0" lang="pt-BR" sz="2000" spc="-1" strike="noStrike" baseline="-25000">
                <a:solidFill>
                  <a:srgbClr val="ffffff"/>
                </a:solidFill>
                <a:latin typeface="Times New Roman"/>
              </a:rPr>
              <a:t>srem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762120" y="2057400"/>
            <a:ext cx="3657240" cy="3275640"/>
            <a:chOff x="762120" y="2057400"/>
            <a:chExt cx="3657240" cy="3275640"/>
          </a:xfrm>
        </p:grpSpPr>
        <p:sp>
          <p:nvSpPr>
            <p:cNvPr id="229" name=""/>
            <p:cNvSpPr/>
            <p:nvPr/>
          </p:nvSpPr>
          <p:spPr>
            <a:xfrm>
              <a:off x="762120" y="5333040"/>
              <a:ext cx="365724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62120" y="2057400"/>
              <a:ext cx="0" cy="32756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973800" y="5105520"/>
            <a:ext cx="3183120" cy="5101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Ticket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Times New Roman"/>
              </a:rPr>
              <a:t>srem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||Authenticator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33520" y="2057400"/>
            <a:ext cx="3886200" cy="3810240"/>
            <a:chOff x="533520" y="2057400"/>
            <a:chExt cx="3886200" cy="3810240"/>
          </a:xfrm>
        </p:grpSpPr>
        <p:sp>
          <p:nvSpPr>
            <p:cNvPr id="233" name=""/>
            <p:cNvSpPr/>
            <p:nvPr/>
          </p:nvSpPr>
          <p:spPr>
            <a:xfrm>
              <a:off x="533520" y="5867640"/>
              <a:ext cx="3886200" cy="0"/>
            </a:xfrm>
            <a:prstGeom prst="line">
              <a:avLst/>
            </a:prstGeom>
            <a:ln w="158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33520" y="2057400"/>
              <a:ext cx="0" cy="3810240"/>
            </a:xfrm>
            <a:prstGeom prst="line">
              <a:avLst/>
            </a:prstGeom>
            <a:ln w="15840">
              <a:solidFill>
                <a:srgbClr val="ffffff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1789920" y="5689440"/>
            <a:ext cx="1636560" cy="4406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pt-BR" sz="2000" spc="-1" strike="noStrike" baseline="-25000">
                <a:solidFill>
                  <a:srgbClr val="ffffff"/>
                </a:solidFill>
                <a:latin typeface="Times New Roman"/>
              </a:rPr>
              <a:t>Kc,srem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[TS</a:t>
            </a:r>
            <a:r>
              <a:rPr b="0" lang="pt-BR" sz="20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+1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3581280"/>
            <a:ext cx="8686800" cy="2819520"/>
          </a:xfrm>
          <a:prstGeom prst="roundRect">
            <a:avLst>
              <a:gd name="adj" fmla="val 5208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4920" y="685800"/>
            <a:ext cx="8686800" cy="2819520"/>
          </a:xfrm>
          <a:prstGeom prst="roundRect">
            <a:avLst>
              <a:gd name="adj" fmla="val 5208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1600" y="685800"/>
            <a:ext cx="12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Times New Roman"/>
              </a:rPr>
              <a:t>Realm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9160" y="594360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Times New Roman"/>
              </a:rPr>
              <a:t>Realm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erberos - Márcio Morei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9B14-5827-4F82-9EF5-6D2658794F2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DDD559-B46F-4221-8DBC-D1BF640342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Kerberos Versão 5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Melhorias de ambient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lém do DES, aceita qualquer outro algoritm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lém do IP, aceita qualquer outro protoco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limina a ambigüidade do MSB e LS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o invés do Life Time tem Time Stamp fi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ermite passar a credencial do cliente para outro servidor ou outro cliente (forwar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iminui as interações entre vários real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erberos - Márcio Morei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46B1-33A4-469A-96DC-2BCC6B6A60C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8940E2-730E-4C93-B63C-217C0E2AB7D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Kerberos Versão 5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Melhorias técnic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Tickets enviados ao cliente eram cifrados 2 vez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Usa mecanismos explícitos de integridade (CBC ao invés de PCBC no caso do D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*** (página 336 itém 3 session key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erberos - Márcio Morei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AC53-BD87-42C4-8B80-38C033FDE34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9EF978-64E1-4D82-BE13-886D270E8D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O que é o Kerberos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erviço de autenticação desenvolvido no MIT como parte do projeto Athe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 que é autenticad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 estação e o usuá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O servidor e um serviç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bjetiv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vitar a troca de estação por um usuá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vitar o “replay attack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erberos - Márcio Morei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8DDA-E4A9-493E-B39A-90FB6D567D0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9D5010-B3B1-4C28-A409-81264CD908E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Estratégia do Kerber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Utiliz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: Cli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: Servi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S: Servidor  de Autentic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ropriedades Desejad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egurança: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eve ser forte para ser colocado em re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nfiabilidade: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eve ser confiável mesmo distribuí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Transparência: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 usuário não precisa saber que exis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scalabilidade: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eve suportar diversas plataform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5791320" y="1905120"/>
            <a:ext cx="2971800" cy="2209680"/>
            <a:chOff x="5791320" y="1905120"/>
            <a:chExt cx="2971800" cy="2209680"/>
          </a:xfrm>
        </p:grpSpPr>
        <p:sp>
          <p:nvSpPr>
            <p:cNvPr id="95" name=""/>
            <p:cNvSpPr/>
            <p:nvPr/>
          </p:nvSpPr>
          <p:spPr>
            <a:xfrm>
              <a:off x="5791320" y="1905120"/>
              <a:ext cx="1143000" cy="76176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33cccc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Cli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010280" y="2286000"/>
              <a:ext cx="53352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400800" y="2743200"/>
              <a:ext cx="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791320" y="3352680"/>
              <a:ext cx="1143000" cy="7621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33cccc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Serv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620120" y="1905120"/>
              <a:ext cx="1143000" cy="76176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33cccc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A.S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erberos - Márcio Morei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54AE-B95E-4C67-9794-0A30A96CB64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4DE251-FF1B-4E02-9A2A-C04D1AFF584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Dados do Kerber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Versõ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4: Tem algumas limitações de seguranç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5: Boa. Porém, relativamente complex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Versão 4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Utiliza o protocolo Needham e Schroe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Utiliza o DES e protocolo de rede 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O servidor de autenticaçã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ispõe de: User ID, Network Address e Passwo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mpartilha uma chave secreta com cada servi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erberos - Márcio Morei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7CFD-EC24-4CED-9547-A1BF15181AA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039E7E-C9BF-4FE9-AC27-0873319BADD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Diálogo Simples de Autenticaçã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4114800"/>
            <a:ext cx="46479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Funcionament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Usuário loga no Client e depois requer o acesso ao Se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eficiênci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Transmissão da Pc em plain tex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Redigitação da Pc a cada reque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52520" y="4191120"/>
            <a:ext cx="396252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Dc: ID do 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c: Password do 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Ds: ID do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Ticket: E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Times New Roman"/>
              </a:rPr>
              <a:t>Ks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[IDc||ADc||IDs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||: Concaten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1905120"/>
            <a:ext cx="1143000" cy="761760"/>
          </a:xfrm>
          <a:prstGeom prst="rect">
            <a:avLst/>
          </a:prstGeom>
          <a:solidFill>
            <a:srgbClr val="3366ff"/>
          </a:solidFill>
          <a:ln w="9360">
            <a:solidFill>
              <a:srgbClr val="33cccc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3124080"/>
            <a:ext cx="1143000" cy="762120"/>
          </a:xfrm>
          <a:prstGeom prst="rect">
            <a:avLst/>
          </a:prstGeom>
          <a:solidFill>
            <a:srgbClr val="3366ff"/>
          </a:solidFill>
          <a:ln w="9360">
            <a:solidFill>
              <a:srgbClr val="33cccc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5880" y="1371600"/>
            <a:ext cx="2667240" cy="1600200"/>
          </a:xfrm>
          <a:prstGeom prst="rect">
            <a:avLst/>
          </a:prstGeom>
          <a:solidFill>
            <a:srgbClr val="666699"/>
          </a:solidFill>
          <a:ln w="9360">
            <a:solidFill>
              <a:srgbClr val="33cccc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Kerbe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324480" y="1905120"/>
            <a:ext cx="1143000" cy="761760"/>
          </a:xfrm>
          <a:prstGeom prst="rect">
            <a:avLst/>
          </a:prstGeom>
          <a:solidFill>
            <a:srgbClr val="3366ff"/>
          </a:solidFill>
          <a:ln w="9360">
            <a:solidFill>
              <a:srgbClr val="33cccc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.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077320" y="1905120"/>
            <a:ext cx="533160" cy="68580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9360">
            <a:solidFill>
              <a:srgbClr val="33cccc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43800" y="2286000"/>
            <a:ext cx="533520" cy="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52480" y="1981080"/>
            <a:ext cx="45720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20400" y="1752480"/>
            <a:ext cx="162684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Dc||Pc||I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752480" y="2590920"/>
            <a:ext cx="45720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55560" y="2362320"/>
            <a:ext cx="96084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Tick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143000" y="2666880"/>
            <a:ext cx="2133720" cy="838080"/>
            <a:chOff x="1143000" y="2666880"/>
            <a:chExt cx="2133720" cy="838080"/>
          </a:xfrm>
        </p:grpSpPr>
        <p:sp>
          <p:nvSpPr>
            <p:cNvPr id="116" name=""/>
            <p:cNvSpPr/>
            <p:nvPr/>
          </p:nvSpPr>
          <p:spPr>
            <a:xfrm>
              <a:off x="1143000" y="3504960"/>
              <a:ext cx="213372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143000" y="2666880"/>
              <a:ext cx="0" cy="8380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1427760" y="3276720"/>
            <a:ext cx="154008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Dc||Tick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96720" y="3267000"/>
            <a:ext cx="51912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34320" y="2666880"/>
            <a:ext cx="0" cy="533520"/>
          </a:xfrm>
          <a:prstGeom prst="line">
            <a:avLst/>
          </a:prstGeom>
          <a:ln w="15840">
            <a:solidFill>
              <a:srgbClr val="ffff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95680" y="3505320"/>
            <a:ext cx="2133720" cy="0"/>
          </a:xfrm>
          <a:prstGeom prst="line">
            <a:avLst/>
          </a:prstGeom>
          <a:ln w="15840">
            <a:solidFill>
              <a:srgbClr val="ffff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erberos - Márcio Moreira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1CE1-FABC-4864-8541-810682ABBAB4}" type="slidenum">
              <a:t>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D4FDA2-49C9-486A-A22B-982E98EFD07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Um Diálogo Mais Segur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4572000"/>
            <a:ext cx="5486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TGS: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Tikect-Granting Se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Kc: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Chave gerada a partir de P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Ticket</a:t>
            </a:r>
            <a:r>
              <a:rPr b="0" lang="pt-BR" sz="2000" spc="-1" strike="noStrike" baseline="-25000">
                <a:solidFill>
                  <a:srgbClr val="ffffff"/>
                </a:solidFill>
                <a:latin typeface="Times New Roman"/>
              </a:rPr>
              <a:t>tgs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pt-BR" sz="2000" spc="-1" strike="noStrike" baseline="-25000">
                <a:solidFill>
                  <a:srgbClr val="ffffff"/>
                </a:solidFill>
                <a:latin typeface="Times New Roman"/>
              </a:rPr>
              <a:t>Ktgs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[IDc||ADc||IDtgs||TS1||LT1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Ticket</a:t>
            </a:r>
            <a:r>
              <a:rPr b="0" lang="pt-BR" sz="20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pt-BR" sz="2000" spc="-1" strike="noStrike" baseline="-25000">
                <a:solidFill>
                  <a:srgbClr val="ffffff"/>
                </a:solidFill>
                <a:latin typeface="Times New Roman"/>
              </a:rPr>
              <a:t>Ks  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[IDc||ADc||IDs   ||TS2||LT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Ktgs: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Chave secreta do T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866920" y="4952880"/>
            <a:ext cx="3048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TS1: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Time Stam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Data &amp; Ho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LT1: Life T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Minutos (de 5 em 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1752480"/>
            <a:ext cx="1143000" cy="762120"/>
          </a:xfrm>
          <a:prstGeom prst="rect">
            <a:avLst/>
          </a:prstGeom>
          <a:solidFill>
            <a:srgbClr val="3366ff"/>
          </a:solidFill>
          <a:ln w="9360">
            <a:solidFill>
              <a:srgbClr val="33cccc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76720" y="3733920"/>
            <a:ext cx="1143000" cy="761760"/>
          </a:xfrm>
          <a:prstGeom prst="rect">
            <a:avLst/>
          </a:prstGeom>
          <a:solidFill>
            <a:srgbClr val="3366ff"/>
          </a:solidFill>
          <a:ln w="9360">
            <a:solidFill>
              <a:srgbClr val="33cccc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5880" y="1219320"/>
            <a:ext cx="2667240" cy="2590560"/>
          </a:xfrm>
          <a:prstGeom prst="rect">
            <a:avLst/>
          </a:prstGeom>
          <a:solidFill>
            <a:srgbClr val="666699"/>
          </a:solidFill>
          <a:ln w="9360">
            <a:solidFill>
              <a:srgbClr val="33cccc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Kerbe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324480" y="1752480"/>
            <a:ext cx="1143000" cy="762120"/>
          </a:xfrm>
          <a:prstGeom prst="rect">
            <a:avLst/>
          </a:prstGeom>
          <a:solidFill>
            <a:srgbClr val="3366ff"/>
          </a:solidFill>
          <a:ln w="9360">
            <a:solidFill>
              <a:srgbClr val="33cccc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.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077320" y="1752480"/>
            <a:ext cx="533160" cy="68580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9360">
            <a:solidFill>
              <a:srgbClr val="33cccc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543800" y="2133720"/>
            <a:ext cx="533520" cy="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52480" y="1828800"/>
            <a:ext cx="45720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13640" y="1600200"/>
            <a:ext cx="143820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Dc||IDt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1752480" y="2362320"/>
            <a:ext cx="45720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57760" y="2133720"/>
            <a:ext cx="1762920" cy="5101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Times New Roman"/>
              </a:rPr>
              <a:t>Kc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[Ticket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Times New Roman"/>
              </a:rPr>
              <a:t>tgs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838080" y="2514600"/>
            <a:ext cx="2438280" cy="1599840"/>
            <a:chOff x="838080" y="2514600"/>
            <a:chExt cx="2438280" cy="1599840"/>
          </a:xfrm>
        </p:grpSpPr>
        <p:sp>
          <p:nvSpPr>
            <p:cNvPr id="136" name=""/>
            <p:cNvSpPr/>
            <p:nvPr/>
          </p:nvSpPr>
          <p:spPr>
            <a:xfrm>
              <a:off x="838080" y="4114440"/>
              <a:ext cx="243828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38080" y="2514600"/>
              <a:ext cx="0" cy="15998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1240920" y="3886200"/>
            <a:ext cx="1608840" cy="5101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Dc||Ticket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696720" y="3952800"/>
            <a:ext cx="51912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495680" y="4191120"/>
            <a:ext cx="2133720" cy="0"/>
          </a:xfrm>
          <a:prstGeom prst="line">
            <a:avLst/>
          </a:prstGeom>
          <a:ln w="15840">
            <a:solidFill>
              <a:srgbClr val="ffff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24480" y="2743200"/>
            <a:ext cx="1143000" cy="762120"/>
          </a:xfrm>
          <a:prstGeom prst="rect">
            <a:avLst/>
          </a:prstGeom>
          <a:solidFill>
            <a:srgbClr val="3366ff"/>
          </a:solidFill>
          <a:ln w="9360">
            <a:solidFill>
              <a:srgbClr val="33cccc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T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447920" y="2514600"/>
            <a:ext cx="4875840" cy="380880"/>
            <a:chOff x="1447920" y="2514600"/>
            <a:chExt cx="4875840" cy="380880"/>
          </a:xfrm>
        </p:grpSpPr>
        <p:sp>
          <p:nvSpPr>
            <p:cNvPr id="143" name=""/>
            <p:cNvSpPr/>
            <p:nvPr/>
          </p:nvSpPr>
          <p:spPr>
            <a:xfrm>
              <a:off x="1447920" y="2895480"/>
              <a:ext cx="487584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447920" y="2514600"/>
              <a:ext cx="0" cy="3808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2723400" y="2666880"/>
            <a:ext cx="2308320" cy="5101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Dc||IDs||Ticket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Times New Roman"/>
              </a:rPr>
              <a:t>t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143000" y="2514600"/>
            <a:ext cx="5181120" cy="904680"/>
            <a:chOff x="1143000" y="2514600"/>
            <a:chExt cx="5181120" cy="904680"/>
          </a:xfrm>
        </p:grpSpPr>
        <p:sp>
          <p:nvSpPr>
            <p:cNvPr id="147" name=""/>
            <p:cNvSpPr/>
            <p:nvPr/>
          </p:nvSpPr>
          <p:spPr>
            <a:xfrm>
              <a:off x="1143000" y="3419280"/>
              <a:ext cx="518112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43000" y="2514600"/>
              <a:ext cx="0" cy="904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3333960" y="3191040"/>
            <a:ext cx="1029600" cy="5101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Ticket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934320" y="3505320"/>
            <a:ext cx="0" cy="380880"/>
          </a:xfrm>
          <a:prstGeom prst="line">
            <a:avLst/>
          </a:prstGeom>
          <a:ln w="15840">
            <a:solidFill>
              <a:srgbClr val="ffff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erberos - Márcio Moreira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8FA5-6666-4E11-9F22-8245340CC629}" type="slidenum">
              <a:t>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A90605-3BB2-48E1-BEF5-32E68C4A024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Considerações Deste Diálog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Vantagem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nsegue autenticar o usuário sem envio da P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omunicaçõ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lient to AS: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Uma por logon de usuá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lient to TGS: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Uma por tipo de serviç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lient do S: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Uma por sessão de serviç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eficiênci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LT1 pequeno: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edirá a senha do usuário toda ho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LT1 grande: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portunidade para o “replay attack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ode-se simular um falso servidor para colher d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erberos - Márcio Morei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1B57-3E8F-4B84-8D57-5698C897BAD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1AF894-9687-4339-9E21-6F770BCC325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Kerberos Versão 4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99840" y="4952880"/>
            <a:ext cx="6095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Kc,tgs: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  Chave gerada a partir de Kc, Kt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Ticket</a:t>
            </a:r>
            <a:r>
              <a:rPr b="0" lang="pt-BR" sz="2000" spc="-1" strike="noStrike" baseline="-25000">
                <a:solidFill>
                  <a:srgbClr val="ffffff"/>
                </a:solidFill>
                <a:latin typeface="Times New Roman"/>
              </a:rPr>
              <a:t>tgs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  E</a:t>
            </a:r>
            <a:r>
              <a:rPr b="0" lang="pt-BR" sz="2000" spc="-1" strike="noStrike" baseline="-25000">
                <a:solidFill>
                  <a:srgbClr val="ffffff"/>
                </a:solidFill>
                <a:latin typeface="Times New Roman"/>
              </a:rPr>
              <a:t>Ktgs  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[K</a:t>
            </a:r>
            <a:r>
              <a:rPr b="0" lang="pt-BR" sz="2000" spc="-1" strike="noStrike" baseline="-25000">
                <a:solidFill>
                  <a:srgbClr val="ffffff"/>
                </a:solidFill>
                <a:latin typeface="Times New Roman"/>
              </a:rPr>
              <a:t>c,tgs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||IDc||ADc||ID</a:t>
            </a:r>
            <a:r>
              <a:rPr b="0" lang="pt-BR" sz="2000" spc="-1" strike="noStrike" baseline="-25000">
                <a:solidFill>
                  <a:srgbClr val="ffffff"/>
                </a:solidFill>
                <a:latin typeface="Times New Roman"/>
              </a:rPr>
              <a:t>tgs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||TS</a:t>
            </a:r>
            <a:r>
              <a:rPr b="0" lang="pt-BR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||LT</a:t>
            </a:r>
            <a:r>
              <a:rPr b="0" lang="pt-BR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Ticket</a:t>
            </a:r>
            <a:r>
              <a:rPr b="0" lang="pt-BR" sz="20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  E</a:t>
            </a:r>
            <a:r>
              <a:rPr b="0" lang="pt-BR" sz="2000" spc="-1" strike="noStrike" baseline="-25000">
                <a:solidFill>
                  <a:srgbClr val="ffffff"/>
                </a:solidFill>
                <a:latin typeface="Times New Roman"/>
              </a:rPr>
              <a:t>Ks     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[K</a:t>
            </a:r>
            <a:r>
              <a:rPr b="0" lang="pt-BR" sz="2000" spc="-1" strike="noStrike" baseline="-25000">
                <a:solidFill>
                  <a:srgbClr val="ffffff"/>
                </a:solidFill>
                <a:latin typeface="Times New Roman"/>
              </a:rPr>
              <a:t>c,s  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||IDc||ADc||ID</a:t>
            </a:r>
            <a:r>
              <a:rPr b="0" lang="pt-BR" sz="2000" spc="-1" strike="noStrike" baseline="-25000">
                <a:solidFill>
                  <a:srgbClr val="ffffff"/>
                </a:solidFill>
                <a:latin typeface="Times New Roman"/>
              </a:rPr>
              <a:t>s  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||TS</a:t>
            </a:r>
            <a:r>
              <a:rPr b="0" lang="pt-BR" sz="20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||LT</a:t>
            </a:r>
            <a:r>
              <a:rPr b="0" lang="pt-BR" sz="20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Authenticator</a:t>
            </a:r>
            <a:r>
              <a:rPr b="0" lang="pt-BR" sz="20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: E</a:t>
            </a:r>
            <a:r>
              <a:rPr b="0" lang="pt-BR" sz="2000" spc="-1" strike="noStrike" baseline="-25000">
                <a:solidFill>
                  <a:srgbClr val="ffffff"/>
                </a:solidFill>
                <a:latin typeface="Times New Roman"/>
              </a:rPr>
              <a:t>Kc,tgs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[IDc||ADc||TS</a:t>
            </a:r>
            <a:r>
              <a:rPr b="0" lang="pt-BR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1752480"/>
            <a:ext cx="1143000" cy="762120"/>
          </a:xfrm>
          <a:prstGeom prst="rect">
            <a:avLst/>
          </a:prstGeom>
          <a:solidFill>
            <a:srgbClr val="3366ff"/>
          </a:solidFill>
          <a:ln w="9360">
            <a:solidFill>
              <a:srgbClr val="33cccc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14800" y="3809880"/>
            <a:ext cx="1143000" cy="762120"/>
          </a:xfrm>
          <a:prstGeom prst="rect">
            <a:avLst/>
          </a:prstGeom>
          <a:solidFill>
            <a:srgbClr val="3366ff"/>
          </a:solidFill>
          <a:ln w="9360">
            <a:solidFill>
              <a:srgbClr val="33cccc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1219320"/>
            <a:ext cx="2667240" cy="2590560"/>
          </a:xfrm>
          <a:prstGeom prst="rect">
            <a:avLst/>
          </a:prstGeom>
          <a:solidFill>
            <a:srgbClr val="666699"/>
          </a:solidFill>
          <a:ln w="9360">
            <a:solidFill>
              <a:srgbClr val="33cccc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Kerbe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1752480"/>
            <a:ext cx="1143000" cy="762120"/>
          </a:xfrm>
          <a:prstGeom prst="rect">
            <a:avLst/>
          </a:prstGeom>
          <a:solidFill>
            <a:srgbClr val="3366ff"/>
          </a:solidFill>
          <a:ln w="9360">
            <a:solidFill>
              <a:srgbClr val="33cccc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.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077320" y="1752480"/>
            <a:ext cx="533160" cy="68580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9360">
            <a:solidFill>
              <a:srgbClr val="33cccc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543800" y="2133720"/>
            <a:ext cx="533520" cy="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00200" y="1828800"/>
            <a:ext cx="472428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92760" y="1600200"/>
            <a:ext cx="1794960" cy="5101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D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||ID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Times New Roman"/>
              </a:rPr>
              <a:t>tgs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||TS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599840" y="2362320"/>
            <a:ext cx="472428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92320" y="2182680"/>
            <a:ext cx="3565440" cy="4406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pt-BR" sz="2000" spc="-1" strike="noStrike" baseline="-25000">
                <a:solidFill>
                  <a:srgbClr val="ffffff"/>
                </a:solidFill>
                <a:latin typeface="Times New Roman"/>
              </a:rPr>
              <a:t>Kc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[K</a:t>
            </a:r>
            <a:r>
              <a:rPr b="0" lang="pt-BR" sz="2000" spc="-1" strike="noStrike" baseline="-25000">
                <a:solidFill>
                  <a:srgbClr val="ffffff"/>
                </a:solidFill>
                <a:latin typeface="Times New Roman"/>
              </a:rPr>
              <a:t>c,tgs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||ID</a:t>
            </a:r>
            <a:r>
              <a:rPr b="0" lang="pt-BR" sz="2000" spc="-1" strike="noStrike" baseline="-25000">
                <a:solidFill>
                  <a:srgbClr val="ffffff"/>
                </a:solidFill>
                <a:latin typeface="Times New Roman"/>
              </a:rPr>
              <a:t>tgs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||TS</a:t>
            </a:r>
            <a:r>
              <a:rPr b="0" lang="pt-BR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||LT</a:t>
            </a:r>
            <a:r>
              <a:rPr b="0" lang="pt-BR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||Ticket</a:t>
            </a:r>
            <a:r>
              <a:rPr b="0" lang="pt-BR" sz="2000" spc="-1" strike="noStrike" baseline="-25000">
                <a:solidFill>
                  <a:srgbClr val="ffffff"/>
                </a:solidFill>
                <a:latin typeface="Times New Roman"/>
              </a:rPr>
              <a:t>tgs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838080" y="2514600"/>
            <a:ext cx="3276360" cy="1447560"/>
            <a:chOff x="838080" y="2514600"/>
            <a:chExt cx="3276360" cy="1447560"/>
          </a:xfrm>
        </p:grpSpPr>
        <p:sp>
          <p:nvSpPr>
            <p:cNvPr id="166" name=""/>
            <p:cNvSpPr/>
            <p:nvPr/>
          </p:nvSpPr>
          <p:spPr>
            <a:xfrm>
              <a:off x="838080" y="3962160"/>
              <a:ext cx="327636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8080" y="2514600"/>
              <a:ext cx="0" cy="144756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964800" y="3733920"/>
            <a:ext cx="2908800" cy="5101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Ticket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||Authenticator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696720" y="3952800"/>
            <a:ext cx="51912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34120" y="4191120"/>
            <a:ext cx="1295280" cy="0"/>
          </a:xfrm>
          <a:prstGeom prst="line">
            <a:avLst/>
          </a:prstGeom>
          <a:ln w="15840">
            <a:solidFill>
              <a:srgbClr val="ffff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324480" y="2743200"/>
            <a:ext cx="1143000" cy="762120"/>
          </a:xfrm>
          <a:prstGeom prst="rect">
            <a:avLst/>
          </a:prstGeom>
          <a:solidFill>
            <a:srgbClr val="3366ff"/>
          </a:solidFill>
          <a:ln w="9360">
            <a:solidFill>
              <a:srgbClr val="33cccc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T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1447920" y="2514600"/>
            <a:ext cx="4875840" cy="380880"/>
            <a:chOff x="1447920" y="2514600"/>
            <a:chExt cx="4875840" cy="380880"/>
          </a:xfrm>
        </p:grpSpPr>
        <p:sp>
          <p:nvSpPr>
            <p:cNvPr id="173" name=""/>
            <p:cNvSpPr/>
            <p:nvPr/>
          </p:nvSpPr>
          <p:spPr>
            <a:xfrm>
              <a:off x="1447920" y="2895480"/>
              <a:ext cx="487584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447920" y="2514600"/>
              <a:ext cx="0" cy="3808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2085480" y="2666880"/>
            <a:ext cx="3558240" cy="5101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D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||Ticket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Times New Roman"/>
              </a:rPr>
              <a:t>tgs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||Authenticator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143000" y="2514600"/>
            <a:ext cx="5181120" cy="904680"/>
            <a:chOff x="1143000" y="2514600"/>
            <a:chExt cx="5181120" cy="904680"/>
          </a:xfrm>
        </p:grpSpPr>
        <p:sp>
          <p:nvSpPr>
            <p:cNvPr id="177" name=""/>
            <p:cNvSpPr/>
            <p:nvPr/>
          </p:nvSpPr>
          <p:spPr>
            <a:xfrm>
              <a:off x="1143000" y="3419280"/>
              <a:ext cx="518112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43000" y="2514600"/>
              <a:ext cx="0" cy="904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2376720" y="3240000"/>
            <a:ext cx="2942640" cy="4406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pt-BR" sz="2000" spc="-1" strike="noStrike" baseline="-25000">
                <a:solidFill>
                  <a:srgbClr val="ffffff"/>
                </a:solidFill>
                <a:latin typeface="Times New Roman"/>
              </a:rPr>
              <a:t>Kc,tgs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[K</a:t>
            </a:r>
            <a:r>
              <a:rPr b="0" lang="pt-BR" sz="2000" spc="-1" strike="noStrike" baseline="-25000">
                <a:solidFill>
                  <a:srgbClr val="ffffff"/>
                </a:solidFill>
                <a:latin typeface="Times New Roman"/>
              </a:rPr>
              <a:t>c,s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||ID</a:t>
            </a:r>
            <a:r>
              <a:rPr b="0" lang="pt-BR" sz="20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||TS</a:t>
            </a:r>
            <a:r>
              <a:rPr b="0" lang="pt-BR" sz="20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||Ticket</a:t>
            </a:r>
            <a:r>
              <a:rPr b="0" lang="pt-BR" sz="20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934320" y="3505320"/>
            <a:ext cx="0" cy="380880"/>
          </a:xfrm>
          <a:prstGeom prst="line">
            <a:avLst/>
          </a:prstGeom>
          <a:ln w="15840">
            <a:solidFill>
              <a:srgbClr val="ffff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533520" y="2514240"/>
            <a:ext cx="3580920" cy="1972080"/>
            <a:chOff x="533520" y="2514240"/>
            <a:chExt cx="3580920" cy="1972080"/>
          </a:xfrm>
        </p:grpSpPr>
        <p:sp>
          <p:nvSpPr>
            <p:cNvPr id="182" name=""/>
            <p:cNvSpPr/>
            <p:nvPr/>
          </p:nvSpPr>
          <p:spPr>
            <a:xfrm>
              <a:off x="533520" y="4486320"/>
              <a:ext cx="358092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533520" y="2514240"/>
              <a:ext cx="0" cy="19717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1707480" y="4307040"/>
            <a:ext cx="1416960" cy="4406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pt-BR" sz="2000" spc="-1" strike="noStrike" baseline="-25000">
                <a:solidFill>
                  <a:srgbClr val="ffffff"/>
                </a:solidFill>
                <a:latin typeface="Times New Roman"/>
              </a:rPr>
              <a:t>Kc,s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[TS</a:t>
            </a:r>
            <a:r>
              <a:rPr b="0" lang="pt-BR" sz="20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+1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erberos - Márcio Morei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F359-A576-455B-A4B6-AEBEBA92D95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19CCCB-4FFA-4857-A2FA-69DF5834DA8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Kerberos 4 Detalh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lient – AS: Authentication Service Excha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utentica o logon e gerar tickets reutilizáve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Leva TS1 para sincronização de relóg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Kc,tgs (session key): Vai dentro de tickets cifrados para o Client e para o TGS =&gt; Compartilhada de forma segu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lient – TGS: Ticket-Granting Service Excha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btém o ticket para o acesso a um serviç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 Authenticator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deve ser utilizado somente uma ve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Ticket funciona como um distribuidor de cha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erberos - Márcio Morei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2F3D-A89B-40BE-9782-C10EA2C4769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3CBB21-2430-4212-9BEE-F1530850846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30T00:06:52Z</dcterms:created>
  <dc:creator>Márcio Moreira</dc:creator>
  <dc:description/>
  <dc:language>en-US</dc:language>
  <cp:lastModifiedBy>Márcio Moreira</cp:lastModifiedBy>
  <dcterms:modified xsi:type="dcterms:W3CDTF">2001-05-31T01:49:04Z</dcterms:modified>
  <cp:revision>48</cp:revision>
  <dc:subject>Autenticação de Usuários</dc:subject>
  <dc:title>Kerberos</dc:title>
</cp:coreProperties>
</file>