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jpeg" ContentType="image/jpeg"/>
  <Override PartName="/ppt/media/image13.wmf" ContentType="image/x-wmf"/>
  <Override PartName="/ppt/media/image8.jpeg" ContentType="image/jpeg"/>
  <Override PartName="/ppt/media/image5.png" ContentType="image/png"/>
  <Override PartName="/ppt/media/image10.wmf" ContentType="image/x-wmf"/>
  <Override PartName="/ppt/media/image25.jpeg" ContentType="image/jpeg"/>
  <Override PartName="/ppt/media/image32.png" ContentType="image/png"/>
  <Override PartName="/ppt/media/image22.jpeg" ContentType="image/jpeg"/>
  <Override PartName="/ppt/media/image28.png" ContentType="image/png"/>
  <Override PartName="/ppt/media/image7.jpeg" ContentType="image/jpeg"/>
  <Override PartName="/ppt/media/image11.wmf" ContentType="image/x-wmf"/>
  <Override PartName="/ppt/media/image17.jpeg" ContentType="image/jpeg"/>
  <Override PartName="/ppt/media/image23.wmf" ContentType="image/x-wmf"/>
  <Override PartName="/ppt/media/image9.jpeg" ContentType="image/jpeg"/>
  <Override PartName="/ppt/media/image12.wmf" ContentType="image/x-wmf"/>
  <Override PartName="/ppt/media/image4.png" ContentType="image/png"/>
  <Override PartName="/ppt/media/image30.jpeg" ContentType="image/jpeg"/>
  <Override PartName="/ppt/media/image3.png" ContentType="image/png"/>
  <Override PartName="/ppt/media/image33.png" ContentType="image/png"/>
  <Override PartName="/ppt/media/image6.wmf" ContentType="image/x-wmf"/>
  <Override PartName="/ppt/media/image19.jpeg" ContentType="image/jpeg"/>
  <Override PartName="/ppt/media/image2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4.wmf" ContentType="image/x-wmf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390B-75AD-4C53-80A0-06EE91E190F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4973-10F0-41F8-BB49-2C05FD94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2591-D2CD-427A-99C7-F7FD9961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CDCA-EBB1-42D0-9CDC-7EF52D59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6011-D03A-4E66-B4FF-9C2EFC3B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4357-DE3B-47E1-85E8-56C47799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6900-12E1-4266-A52A-BAE3E33D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00D7-5923-4F60-AD21-EE3B6DB1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3A6D-1281-4196-B5DF-E7D6A0A1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D5F0-E724-4FB1-ABCE-A8A74EF9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19FF-1B59-4541-8B9F-B3ED09C6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A358-6CE7-4D11-AD0F-2D1B39E1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5668-A5F2-4DFD-AB09-DB5F49BD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688A-E887-41B3-AD4B-73615596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F5FC-AC51-4C24-B9CC-9CA539E4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793C-9580-424B-B512-002035E8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11AF-0740-4EB4-909B-66A5FD83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3A14-A91C-4880-A5E1-B9331285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94D8-BDEE-40CF-BF7C-15AE498D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C562-7B37-4B6C-8174-545BCE78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5C50-CADA-4476-9EC8-F537DAD8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C3D8-8425-42E3-BA75-533FED9C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099F-02FC-4272-BFA9-DF123D2F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ED5C-1156-4704-A0FB-F7AB2C05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B1E-DCC5-4EA1-A36E-2B6FF62E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236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B6CD-0DF5-44B3-9626-A62EE533A3B9}" type="datetime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048120" y="640080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9D71-E8C5-484B-BCFA-6E0568D10FDF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" name="AccLogoM" descr=""/>
          <p:cNvPicPr/>
          <p:nvPr/>
        </p:nvPicPr>
        <p:blipFill>
          <a:blip r:embed="rId4"/>
          <a:stretch/>
        </p:blipFill>
        <p:spPr>
          <a:xfrm>
            <a:off x="7772400" y="228600"/>
            <a:ext cx="1222200" cy="12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4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7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5809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45B4-5208-4468-B13A-B05DAB6C5465}" type="datetime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7ED4-2D9A-4339-B763-CD7A8F8A6C64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png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eaeaea"/>
                </a:solidFill>
                <a:latin typeface="Vogue"/>
              </a:rPr>
              <a:t>Acc Informática</a:t>
            </a:r>
            <a:r>
              <a:rPr b="1" lang="pt-BR" sz="5400" spc="-1" strike="noStrike" baseline="30000">
                <a:solidFill>
                  <a:srgbClr val="eaeaea"/>
                </a:solidFill>
                <a:latin typeface="Vogue"/>
              </a:rPr>
              <a:t>®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Márcio Moreira – Maio/200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marcio@acc.com.b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76720" y="29192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accnamebigt" descr=""/>
          <p:cNvPicPr/>
          <p:nvPr/>
        </p:nvPicPr>
        <p:blipFill>
          <a:blip r:embed="rId1"/>
          <a:stretch/>
        </p:blipFill>
        <p:spPr>
          <a:xfrm>
            <a:off x="853920" y="3127320"/>
            <a:ext cx="6766200" cy="129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6E26-184E-4433-901A-FCAE709DB95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7E3DAB0-3D3B-4068-956D-F4AD09ED64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Acc Drinks</a:t>
            </a:r>
            <a:r>
              <a:rPr b="0" lang="pt-BR" sz="4000" spc="-1" strike="noStrike" baseline="30000">
                <a:solidFill>
                  <a:srgbClr val="ffffcc"/>
                </a:solidFill>
                <a:latin typeface="Times New Roman"/>
              </a:rPr>
              <a:t>®</a:t>
            </a: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 - Objetivo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Gestão de distribuidores de bebidas e atacad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ódulos incluso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733920" y="2971800"/>
            <a:ext cx="1295280" cy="996840"/>
            <a:chOff x="3733920" y="2971800"/>
            <a:chExt cx="1295280" cy="996840"/>
          </a:xfrm>
        </p:grpSpPr>
        <p:pic>
          <p:nvPicPr>
            <p:cNvPr id="141" name="" descr=""/>
            <p:cNvPicPr/>
            <p:nvPr/>
          </p:nvPicPr>
          <p:blipFill>
            <a:blip r:embed="rId2">
              <a:lum bright="-30000"/>
            </a:blip>
            <a:stretch/>
          </p:blipFill>
          <p:spPr>
            <a:xfrm>
              <a:off x="3764520" y="2971800"/>
              <a:ext cx="1229400" cy="9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733920" y="3105000"/>
              <a:ext cx="1295280" cy="7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Cupom Fiscal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219320" y="5257800"/>
            <a:ext cx="1828800" cy="1017720"/>
            <a:chOff x="1219320" y="5257800"/>
            <a:chExt cx="1828800" cy="1017720"/>
          </a:xfrm>
        </p:grpSpPr>
        <p:pic>
          <p:nvPicPr>
            <p:cNvPr id="144" name="E-%20Process%20%20no%20type" descr=""/>
            <p:cNvPicPr/>
            <p:nvPr/>
          </p:nvPicPr>
          <p:blipFill>
            <a:blip r:embed="rId3">
              <a:lum bright="-12000"/>
            </a:blip>
            <a:stretch/>
          </p:blipFill>
          <p:spPr>
            <a:xfrm>
              <a:off x="1493640" y="5257800"/>
              <a:ext cx="1261800" cy="101772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sp>
          <p:nvSpPr>
            <p:cNvPr id="145" name=""/>
            <p:cNvSpPr/>
            <p:nvPr/>
          </p:nvSpPr>
          <p:spPr>
            <a:xfrm>
              <a:off x="1219320" y="5271480"/>
              <a:ext cx="18288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Contas a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Receber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e a Pagar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791320" y="5410080"/>
            <a:ext cx="1447560" cy="914400"/>
            <a:chOff x="5791320" y="5410080"/>
            <a:chExt cx="1447560" cy="914400"/>
          </a:xfrm>
        </p:grpSpPr>
        <p:pic>
          <p:nvPicPr>
            <p:cNvPr id="147" name="E-%20Cust%20and%20Partner%20no%20type" descr=""/>
            <p:cNvPicPr/>
            <p:nvPr/>
          </p:nvPicPr>
          <p:blipFill>
            <a:blip r:embed="rId4">
              <a:lum bright="-6000"/>
            </a:blip>
            <a:stretch/>
          </p:blipFill>
          <p:spPr>
            <a:xfrm>
              <a:off x="5892120" y="5410080"/>
              <a:ext cx="1298520" cy="91440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sp>
          <p:nvSpPr>
            <p:cNvPr id="148" name=""/>
            <p:cNvSpPr/>
            <p:nvPr/>
          </p:nvSpPr>
          <p:spPr>
            <a:xfrm>
              <a:off x="5791320" y="5638320"/>
              <a:ext cx="14475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Vendas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862600" y="4267080"/>
            <a:ext cx="1300320" cy="762120"/>
            <a:chOff x="5862600" y="4267080"/>
            <a:chExt cx="1300320" cy="762120"/>
          </a:xfrm>
        </p:grpSpPr>
        <p:pic>
          <p:nvPicPr>
            <p:cNvPr id="150" name="" descr=""/>
            <p:cNvPicPr/>
            <p:nvPr/>
          </p:nvPicPr>
          <p:blipFill>
            <a:blip r:embed="rId5"/>
            <a:stretch/>
          </p:blipFill>
          <p:spPr>
            <a:xfrm>
              <a:off x="5862600" y="4267080"/>
              <a:ext cx="13003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862600" y="4327200"/>
              <a:ext cx="1234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Mala Direta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867280" y="2971800"/>
            <a:ext cx="1295640" cy="990720"/>
            <a:chOff x="5867280" y="2971800"/>
            <a:chExt cx="1295640" cy="990720"/>
          </a:xfrm>
        </p:grpSpPr>
        <p:pic>
          <p:nvPicPr>
            <p:cNvPr id="153" name="" descr=""/>
            <p:cNvPicPr/>
            <p:nvPr/>
          </p:nvPicPr>
          <p:blipFill>
            <a:blip r:embed="rId6"/>
            <a:stretch/>
          </p:blipFill>
          <p:spPr>
            <a:xfrm>
              <a:off x="5867280" y="2971800"/>
              <a:ext cx="129564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988600" y="3086280"/>
              <a:ext cx="103932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Livros Fiscais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447920" y="4191120"/>
            <a:ext cx="1371600" cy="826920"/>
            <a:chOff x="1447920" y="4191120"/>
            <a:chExt cx="1371600" cy="826920"/>
          </a:xfrm>
        </p:grpSpPr>
        <p:pic>
          <p:nvPicPr>
            <p:cNvPr id="156" name="" descr=""/>
            <p:cNvPicPr/>
            <p:nvPr/>
          </p:nvPicPr>
          <p:blipFill>
            <a:blip r:embed="rId7"/>
            <a:stretch/>
          </p:blipFill>
          <p:spPr>
            <a:xfrm>
              <a:off x="1461960" y="4191120"/>
              <a:ext cx="135756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447920" y="4349160"/>
              <a:ext cx="136332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Compras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581280" y="5334120"/>
            <a:ext cx="1562400" cy="990360"/>
            <a:chOff x="3581280" y="5334120"/>
            <a:chExt cx="1562400" cy="990360"/>
          </a:xfrm>
        </p:grpSpPr>
        <p:pic>
          <p:nvPicPr>
            <p:cNvPr id="159" name="" descr=""/>
            <p:cNvPicPr/>
            <p:nvPr/>
          </p:nvPicPr>
          <p:blipFill>
            <a:blip r:embed="rId8"/>
            <a:stretch/>
          </p:blipFill>
          <p:spPr>
            <a:xfrm>
              <a:off x="3735000" y="5334120"/>
              <a:ext cx="127908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581280" y="5608440"/>
              <a:ext cx="15624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Faturamento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581280" y="4191120"/>
            <a:ext cx="1600200" cy="838080"/>
            <a:chOff x="3581280" y="4191120"/>
            <a:chExt cx="1600200" cy="838080"/>
          </a:xfrm>
        </p:grpSpPr>
        <p:pic>
          <p:nvPicPr>
            <p:cNvPr id="162" name="7015" descr=""/>
            <p:cNvPicPr/>
            <p:nvPr/>
          </p:nvPicPr>
          <p:blipFill>
            <a:blip r:embed="rId9"/>
            <a:srcRect l="0" t="25063" r="0" b="9727"/>
            <a:stretch/>
          </p:blipFill>
          <p:spPr>
            <a:xfrm>
              <a:off x="3714480" y="4191120"/>
              <a:ext cx="13046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581280" y="4430520"/>
              <a:ext cx="16002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Estoque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447920" y="2971800"/>
            <a:ext cx="1371600" cy="985680"/>
            <a:chOff x="1447920" y="2971800"/>
            <a:chExt cx="1371600" cy="985680"/>
          </a:xfrm>
        </p:grpSpPr>
        <p:pic>
          <p:nvPicPr>
            <p:cNvPr id="165" name="" descr=""/>
            <p:cNvPicPr/>
            <p:nvPr/>
          </p:nvPicPr>
          <p:blipFill>
            <a:blip r:embed="rId10"/>
            <a:stretch/>
          </p:blipFill>
          <p:spPr>
            <a:xfrm>
              <a:off x="1475280" y="2971800"/>
              <a:ext cx="1344240" cy="9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447920" y="3224160"/>
              <a:ext cx="1352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Comissões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F7DD-F8C4-407D-A096-4309FD3BCB9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AB75C-5449-4DE8-8D9B-8E2850BA5C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Acc Drinks</a:t>
            </a:r>
            <a:r>
              <a:rPr b="0" lang="pt-BR" sz="4000" spc="-1" strike="noStrike" baseline="30000">
                <a:solidFill>
                  <a:srgbClr val="ffffcc"/>
                </a:solidFill>
                <a:latin typeface="Times New Roman"/>
              </a:rPr>
              <a:t>®</a:t>
            </a: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 - Informaçõ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ódulos opcionai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 algn="just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cc Lupus</a:t>
            </a:r>
            <a:r>
              <a:rPr b="0" lang="pt-BR" sz="28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ontrole bancári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 algn="just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cc Póllux</a:t>
            </a:r>
            <a:r>
              <a:rPr b="0" lang="pt-BR" sz="28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ontabilidade e Fluxo de Caix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 algn="just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cc Seller</a:t>
            </a:r>
            <a:r>
              <a:rPr b="0" lang="pt-BR" sz="28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utomação de Força de Vend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9" name="bd04912_" descr=""/>
          <p:cNvPicPr/>
          <p:nvPr/>
        </p:nvPicPr>
        <p:blipFill>
          <a:blip r:embed="rId2"/>
          <a:stretch/>
        </p:blipFill>
        <p:spPr>
          <a:xfrm>
            <a:off x="6858000" y="3886200"/>
            <a:ext cx="2117880" cy="2644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358128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equisito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Qualidade: Software estável (4.1K.24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arceria: Instalação, treinamento, suporte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tualização, inovações e compromiss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alor: Investimentos compatíve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osso objetivo: sua satisfação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A20-1B82-4470-B9E3-F27C715D1C9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C7DE2-AE48-4138-8563-6CE6F6364E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Acc Drinks</a:t>
            </a:r>
            <a:r>
              <a:rPr b="0" lang="pt-BR" sz="4000" spc="-1" strike="noStrike" baseline="30000">
                <a:solidFill>
                  <a:srgbClr val="ffffcc"/>
                </a:solidFill>
                <a:latin typeface="Times New Roman"/>
              </a:rPr>
              <a:t>®</a:t>
            </a: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 - O Produto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amos ver o produt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nefício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utomação de processos =&gt; redução de cust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timização das decisõ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Ganho de produtivi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ontrole gerencial e administrativ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umento de seus potenciais competitiv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formação para eliminação de pontos fra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elhoria para a imagem de sua empres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3" name="bd04972_" descr=""/>
          <p:cNvPicPr/>
          <p:nvPr/>
        </p:nvPicPr>
        <p:blipFill>
          <a:blip r:embed="rId2"/>
          <a:stretch/>
        </p:blipFill>
        <p:spPr>
          <a:xfrm>
            <a:off x="6553080" y="3200400"/>
            <a:ext cx="2438640" cy="182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CCEB-786D-4CD8-893C-9D7FC9C0ABF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CFDAA-17C0-4E56-B0E1-9966DA9DC6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486400" y="4226040"/>
            <a:ext cx="3581280" cy="22510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Acc Seller</a:t>
            </a:r>
            <a:r>
              <a:rPr b="0" lang="pt-BR" sz="4000" spc="-1" strike="noStrike" baseline="30000">
                <a:solidFill>
                  <a:srgbClr val="ffffcc"/>
                </a:solidFill>
                <a:latin typeface="Times New Roman"/>
              </a:rPr>
              <a:t>®</a:t>
            </a: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 - Objetivo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32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utomação de sua força de vendas com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eiro de visitas: (+), (-) e não feit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lientes: consulta, inclusão e alter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ontas a receber: consulta e limite de crédit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ontrole de tempo gasto nas visit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istórico de compras do clie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otivos de visitas negativ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elatório: Previsto x Realiza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esquisa de merca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7543800" y="1752480"/>
            <a:ext cx="1428840" cy="13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3B2D-2B19-4334-8ABC-B7E32490CA2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7566B-99FC-4B85-97B6-7D83731BDF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Acc Seller</a:t>
            </a:r>
            <a:r>
              <a:rPr b="0" lang="pt-BR" sz="4000" spc="-1" strike="noStrike" baseline="30000">
                <a:solidFill>
                  <a:srgbClr val="ffffcc"/>
                </a:solidFill>
                <a:latin typeface="Times New Roman"/>
              </a:rPr>
              <a:t>®</a:t>
            </a: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 - Funcionamento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914400" y="1676520"/>
            <a:ext cx="1577880" cy="1571400"/>
            <a:chOff x="914400" y="1676520"/>
            <a:chExt cx="1577880" cy="1571400"/>
          </a:xfrm>
        </p:grpSpPr>
        <p:pic>
          <p:nvPicPr>
            <p:cNvPr id="180" name="E-%20People" descr=""/>
            <p:cNvPicPr/>
            <p:nvPr/>
          </p:nvPicPr>
          <p:blipFill>
            <a:blip r:embed="rId2"/>
            <a:stretch/>
          </p:blipFill>
          <p:spPr>
            <a:xfrm>
              <a:off x="914400" y="1676520"/>
              <a:ext cx="1571760" cy="157140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sp>
          <p:nvSpPr>
            <p:cNvPr id="181" name=""/>
            <p:cNvSpPr/>
            <p:nvPr/>
          </p:nvSpPr>
          <p:spPr>
            <a:xfrm>
              <a:off x="920880" y="2219400"/>
              <a:ext cx="15714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eaeaea"/>
                  </a:solidFill>
                  <a:latin typeface="Tahoma"/>
                </a:rPr>
                <a:t>Empres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5400000">
            <a:off x="909360" y="3738240"/>
            <a:ext cx="1514520" cy="743040"/>
          </a:xfrm>
          <a:prstGeom prst="rightArrow">
            <a:avLst>
              <a:gd name="adj1" fmla="val 65880"/>
              <a:gd name="adj2" fmla="val 50957"/>
            </a:avLst>
          </a:prstGeom>
          <a:gradFill rotWithShape="0">
            <a:gsLst>
              <a:gs pos="0">
                <a:srgbClr val="3366ff"/>
              </a:gs>
              <a:gs pos="100000">
                <a:srgbClr val="09122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eaeaea"/>
                </a:solidFill>
                <a:latin typeface="Arial"/>
              </a:rPr>
              <a:t>Export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905040" y="4943520"/>
            <a:ext cx="1685880" cy="13809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3581280" y="4952880"/>
            <a:ext cx="1905120" cy="1255680"/>
            <a:chOff x="3581280" y="4952880"/>
            <a:chExt cx="1905120" cy="1255680"/>
          </a:xfrm>
        </p:grpSpPr>
        <p:graphicFrame>
          <p:nvGraphicFramePr>
            <p:cNvPr id="185" name=""/>
            <p:cNvGraphicFramePr/>
            <p:nvPr/>
          </p:nvGraphicFramePr>
          <p:xfrm>
            <a:off x="3581280" y="4952880"/>
            <a:ext cx="1905120" cy="1255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581280" y="4952880"/>
                      <a:ext cx="1905120" cy="12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>
              <a:off x="3733920" y="5410080"/>
              <a:ext cx="157140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eaeaea"/>
                  </a:solidFill>
                  <a:latin typeface="Tahoma"/>
                </a:rPr>
                <a:t>Visita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 rot="16200000">
            <a:off x="6548400" y="3823920"/>
            <a:ext cx="1514520" cy="742680"/>
          </a:xfrm>
          <a:prstGeom prst="rightArrow">
            <a:avLst>
              <a:gd name="adj1" fmla="val 65880"/>
              <a:gd name="adj2" fmla="val 50982"/>
            </a:avLst>
          </a:prstGeom>
          <a:gradFill rotWithShape="0">
            <a:gsLst>
              <a:gs pos="0">
                <a:srgbClr val="ff9900"/>
              </a:gs>
              <a:gs pos="100000">
                <a:srgbClr val="2d1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eaeaea"/>
                </a:solidFill>
                <a:latin typeface="Arial"/>
              </a:rPr>
              <a:t>Export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505560" y="1447920"/>
            <a:ext cx="1571760" cy="1904760"/>
            <a:chOff x="6505560" y="1447920"/>
            <a:chExt cx="1571760" cy="1904760"/>
          </a:xfrm>
        </p:grpSpPr>
        <p:pic>
          <p:nvPicPr>
            <p:cNvPr id="190" name="training7%20copy" descr=""/>
            <p:cNvPicPr/>
            <p:nvPr/>
          </p:nvPicPr>
          <p:blipFill>
            <a:blip r:embed="rId6"/>
            <a:stretch/>
          </p:blipFill>
          <p:spPr>
            <a:xfrm>
              <a:off x="6553080" y="1447920"/>
              <a:ext cx="1428840" cy="1904760"/>
            </a:xfrm>
            <a:prstGeom prst="rect">
              <a:avLst/>
            </a:prstGeom>
            <a:ln w="9360">
              <a:solidFill>
                <a:srgbClr val="eaeaea"/>
              </a:solidFill>
              <a:miter/>
            </a:ln>
          </p:spPr>
        </p:pic>
        <p:sp>
          <p:nvSpPr>
            <p:cNvPr id="191" name=""/>
            <p:cNvSpPr/>
            <p:nvPr/>
          </p:nvSpPr>
          <p:spPr>
            <a:xfrm>
              <a:off x="6505560" y="2170080"/>
              <a:ext cx="15717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eaeaea"/>
                  </a:solidFill>
                  <a:latin typeface="Tahoma"/>
                </a:rPr>
                <a:t>Empres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14600" y="32004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eios de Comunicaçã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abo seri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inha telefôn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ter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E105_a.%20Cassiopeia%20WinCE%20MEDIUM%2011_99" descr=""/>
          <p:cNvPicPr/>
          <p:nvPr/>
        </p:nvPicPr>
        <p:blipFill>
          <a:blip r:embed="rId7"/>
          <a:stretch/>
        </p:blipFill>
        <p:spPr>
          <a:xfrm flipH="1">
            <a:off x="6781680" y="5029200"/>
            <a:ext cx="1054080" cy="16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2F8-2C8C-4508-97B0-262B8E3CC50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E4363-EE78-4696-8793-B51FE64B8B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Acc Seller</a:t>
            </a:r>
            <a:r>
              <a:rPr b="0" lang="pt-BR" sz="4000" spc="-1" strike="noStrike" baseline="30000">
                <a:solidFill>
                  <a:srgbClr val="ffffcc"/>
                </a:solidFill>
                <a:latin typeface="Times New Roman"/>
              </a:rPr>
              <a:t>®</a:t>
            </a: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 - Benefício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onfiabilida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gilida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edução de cust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tenção do share de mercado e outr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umento de produtivida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umento de competitivida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liminação de redundânci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elhoria da gestão de vend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6" name="flint" descr=""/>
          <p:cNvPicPr/>
          <p:nvPr/>
        </p:nvPicPr>
        <p:blipFill>
          <a:blip r:embed="rId2"/>
          <a:stretch/>
        </p:blipFill>
        <p:spPr>
          <a:xfrm>
            <a:off x="6632640" y="1447920"/>
            <a:ext cx="2206440" cy="1619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553080" y="4648320"/>
            <a:ext cx="2371680" cy="1876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rot="5400000">
            <a:off x="6872040" y="3476520"/>
            <a:ext cx="1514520" cy="743040"/>
          </a:xfrm>
          <a:prstGeom prst="rightArrow">
            <a:avLst>
              <a:gd name="adj1" fmla="val 65880"/>
              <a:gd name="adj2" fmla="val 50957"/>
            </a:avLst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eaeaea"/>
                </a:solidFill>
                <a:latin typeface="Arial"/>
              </a:rPr>
              <a:t>Evolu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A251-B3E2-48F2-B171-00451E39EDF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E1609-A5D3-4E3F-8D16-A021A35DE7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Investimento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alores em R$: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rinks</a:t>
            </a:r>
            <a:r>
              <a:rPr b="0" lang="pt-BR" sz="32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®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ller</a:t>
            </a:r>
            <a:r>
              <a:rPr b="0" lang="pt-BR" sz="32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oftware para o servidor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750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30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oftware para estações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100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5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stalação e treinamento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2000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40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onversão de arquivos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500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-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porte/manutenção servidor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100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porte/manutenção estação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20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acilitado em até 7 vezes com taxa de 3% a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3641-BA2F-406C-9552-8990638C362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D0599-B1F6-44A3-A9B0-763F68CA3D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5943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Para onde vamos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s negócios vão mudar mais nos próximos 10 anos do que mudaram nos últimos 50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ill Ga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gen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rigado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acc.com.br/cerp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arcio@acc.com.b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2204-5ED6-4258-AB6C-021AD7C84E9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A98F6-1CCD-4409-8089-94AD16075C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Quem é a Acc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Fundação: 8 de Agosto de 198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Fundadores: Márcio, Cida e Sérgi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bjetivo inicial: Software-Hou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1990: “A sua solution house!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1992: Abrimos o capital para colaboradores e investidores externos. Hoje somos 1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1993: Distribuição de 50% dos lucros, horários flexíveis, estágios, et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37AF-C416-4CDA-AA10-4A3FFAA28BB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BC55A-6FFC-47D3-BB4E-93121A599B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Estrutura Organizaciona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828800"/>
          <a:ext cx="8153280" cy="32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28800"/>
                    <a:ext cx="81532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F12-4FC3-4B57-A96E-E18991B81F8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EFF0E-667F-4AEF-ACC2-C1993CAEC3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Inovaçõ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6204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1994: Programa de qualida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1995: Programa de instalação, treinamento e supor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1996: Internet =&gt; Suporte, atualização e comunicação parceiros (cliente/fornecedo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1997: Faturamento direto e Palmtop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1998: Reciclagem interna em DB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1999: Comércio eletrônic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2000: Integração de soluçõ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levoseuentulho1" descr=""/>
          <p:cNvPicPr/>
          <p:nvPr/>
        </p:nvPicPr>
        <p:blipFill>
          <a:blip r:embed="rId2"/>
          <a:stretch/>
        </p:blipFill>
        <p:spPr>
          <a:xfrm>
            <a:off x="1143000" y="1257480"/>
            <a:ext cx="7467480" cy="5600520"/>
          </a:xfrm>
          <a:prstGeom prst="rect">
            <a:avLst/>
          </a:prstGeom>
          <a:ln w="0">
            <a:noFill/>
          </a:ln>
        </p:spPr>
      </p:pic>
      <p:pic>
        <p:nvPicPr>
          <p:cNvPr id="122" name="levoseuentulho%20placa" descr=""/>
          <p:cNvPicPr/>
          <p:nvPr/>
        </p:nvPicPr>
        <p:blipFill>
          <a:blip r:embed="rId3"/>
          <a:stretch/>
        </p:blipFill>
        <p:spPr>
          <a:xfrm>
            <a:off x="1905120" y="1735200"/>
            <a:ext cx="6019560" cy="4673520"/>
          </a:xfrm>
          <a:prstGeom prst="rect">
            <a:avLst/>
          </a:prstGeom>
          <a:ln w="0">
            <a:noFill/>
          </a:ln>
        </p:spPr>
      </p:pic>
      <p:pic>
        <p:nvPicPr>
          <p:cNvPr id="123" name="737_800" descr=""/>
          <p:cNvPicPr/>
          <p:nvPr/>
        </p:nvPicPr>
        <p:blipFill>
          <a:blip r:embed="rId4"/>
          <a:stretch/>
        </p:blipFill>
        <p:spPr>
          <a:xfrm>
            <a:off x="1371600" y="1219320"/>
            <a:ext cx="6934320" cy="554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4D52-10CE-4EE2-AEF5-3144B68AB6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FBE32-2F15-401E-AA9A-31523782B5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Clientes Ac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3520" y="1752480"/>
          <a:ext cx="8076960" cy="475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752480"/>
                    <a:ext cx="80769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7952-DA4C-47E4-9872-ABBD667CAB3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6AE91-97B7-4AC7-92F3-AA9E07EDE8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Faturamento em Us$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3520" y="1752480"/>
          <a:ext cx="8076960" cy="475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752480"/>
                    <a:ext cx="80769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1438-F9AB-4832-BF46-B04B632C7D0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0DC86-218A-492C-A7D8-1A38626CBC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Recursos Human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33520" y="1752480"/>
          <a:ext cx="8076960" cy="475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752480"/>
                    <a:ext cx="80769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9DDD-D01E-49B8-8621-29F906FA956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BB54F-062E-4FEB-88F9-CDD3EE3AA1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Recursos Human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33520" y="1752480"/>
          <a:ext cx="8076960" cy="475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752480"/>
                    <a:ext cx="80769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5AE8-9705-4B46-9026-D6580A7EFEB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F555A-C45C-425B-9FD8-FABA5C25D9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Alguns Softwar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cc Draco</a:t>
            </a:r>
            <a:r>
              <a:rPr b="0" lang="pt-BR" sz="28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mpresas que usam vendas diret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cc Drinks</a:t>
            </a:r>
            <a:r>
              <a:rPr b="0" lang="pt-BR" sz="28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tacados e distribuidores de bebid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cc ECF</a:t>
            </a:r>
            <a:r>
              <a:rPr b="0" lang="pt-BR" sz="28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missão de cupom fisc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cc Lupus</a:t>
            </a:r>
            <a:r>
              <a:rPr b="0" lang="pt-BR" sz="28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ontrole bancári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cc Órion</a:t>
            </a:r>
            <a:r>
              <a:rPr b="0" lang="pt-BR" sz="28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atrimônio e ativo fix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cc Pégasus</a:t>
            </a:r>
            <a:r>
              <a:rPr b="0" lang="pt-BR" sz="28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olha de pagament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cc Póllux</a:t>
            </a:r>
            <a:r>
              <a:rPr b="0" lang="pt-BR" sz="28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ontabilidade &amp; Fluxo de Caix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cc Seller</a:t>
            </a:r>
            <a:r>
              <a:rPr b="0" lang="pt-BR" sz="28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utomação de Força de Vend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cc Taurus</a:t>
            </a:r>
            <a:r>
              <a:rPr b="0" lang="pt-BR" sz="28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epresentação Comerci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32C-80FC-4DDA-A777-652F80F47E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1B4E1-FC7E-4D9A-8E0A-0D3A78B0AA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árcio Moreira</cp:lastModifiedBy>
  <dcterms:modified xsi:type="dcterms:W3CDTF">2001-05-18T03:21:14Z</dcterms:modified>
  <cp:revision>30</cp:revision>
  <dc:subject/>
  <dc:title>Apresentação do PowerPoint</dc:title>
</cp:coreProperties>
</file>