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2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911A-369D-4C4A-81CF-4FE60899185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60A-1E73-4709-B75D-A5E8D043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C0E-562A-46F9-9EFB-2772138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7A1-3106-4E2E-AE1E-B96BCA0D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43E-8A82-4472-BB20-0A984A2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8108-4249-4678-9713-E2F47DFA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A36B-C677-4F54-8277-C70F5B00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1571-5638-4F79-B8B5-773B5831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076E-A584-4D12-8808-8BA33507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308C-36F8-4408-ACBA-A24EF02D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A749-31D5-4FAC-B41A-EDACEC5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0B62-AA50-49CA-A267-E997B2F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E5D-3BCA-491A-9850-EE9392A0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133-E1B5-4750-A1A0-9F44C53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E296-65C0-4E52-A574-B91172A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BED6-C79D-4674-BE83-43FC2BA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AC48-AB3D-4167-B5FD-30767C43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128A-D9B6-46CE-B88E-985239A7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4B8-AEFA-4AAF-8C2E-B4DCF49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1A9-148A-4935-9BBC-0DDCF9F6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5A1-94CB-47CF-B4C2-71BB603C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BFE-50A6-42B1-A954-D35565E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376-DF09-4CA8-8B1D-4BC1D28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E67-D5EA-4B66-A460-493651A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640-B04E-4D31-A39D-08331F2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A340-05BD-4E87-BAAA-976360C80488}" type="datetime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5DB3-D95F-4903-ABA4-632BE8384EFA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AccLogoM" descr=""/>
          <p:cNvPicPr/>
          <p:nvPr/>
        </p:nvPicPr>
        <p:blipFill>
          <a:blip r:embed="rId4"/>
          <a:stretch/>
        </p:blipFill>
        <p:spPr>
          <a:xfrm>
            <a:off x="7772400" y="228600"/>
            <a:ext cx="122220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114-8882-4D4D-8773-3D5482750146}" type="datetime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C07-5F00-43DD-9467-F382F85644D1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51814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eaeaea"/>
                </a:solidFill>
                <a:latin typeface="Vogue"/>
              </a:rPr>
              <a:t>Acc Informática</a:t>
            </a:r>
            <a:r>
              <a:rPr b="1" lang="pt-BR" sz="5400" spc="-1" strike="noStrike" baseline="30000">
                <a:solidFill>
                  <a:srgbClr val="eaeaea"/>
                </a:solidFill>
                <a:latin typeface="Vogue"/>
              </a:rPr>
              <a:t>®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Márcio Moreira – Abril/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accnamebigt" descr=""/>
          <p:cNvPicPr/>
          <p:nvPr/>
        </p:nvPicPr>
        <p:blipFill>
          <a:blip r:embed="rId1"/>
          <a:stretch/>
        </p:blipFill>
        <p:spPr>
          <a:xfrm>
            <a:off x="853920" y="3736800"/>
            <a:ext cx="676620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C4D1-7787-48B8-BFCE-F575D6DE22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E72AFA1-BF85-453B-B714-413FCEF74E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2000: Número de Clien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F8A-1CBC-428C-8968-8246F22E44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8A59D-3B82-49C5-8FEA-EF65FC2893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2000: Faturamen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069-9128-4BA3-B96C-6374F3B6296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573D9-06B8-4912-8D7D-4B7AE5F20E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2000: Recursos Human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169-B504-44DE-8A82-18E2BEEA7A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C89BB-73AD-4DCA-94F2-D8FB4BDEF5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2000: Recursos Human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752480"/>
          <a:ext cx="8076960" cy="47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75248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03A-ACB8-4835-B152-224C672E66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F2A4-89A0-42B4-A35F-16D5C920F1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2001: Alguns Softwa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Draco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Empresas que usam vendas dire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Drink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Atacados e distribuidores de bebi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ECF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Emissão de cupom fis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Lup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Controle bancár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Órion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Patrimônio e ativo fix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Pégas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Folha de pagamen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Póllux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Contabilidade &amp; Fluxo de Caix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Seller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Automação de Força de Vend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c Taurus</a:t>
            </a:r>
            <a:r>
              <a:rPr b="0" lang="pt-BR" sz="28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Representação Comer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773-851C-4D82-87F3-0AA00422C6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77DD0-B72E-4F02-9B4B-927F7B7218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2001: Algumas Liçõ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uvindo o clien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doneidade: a melhor postu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ão se comprometa com o er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portunidades nas cri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rescimento advindo dos confl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solvendo em equipe (Brainwri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isão =&gt; Foco =&gt; Objetivos &amp; Me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dism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revolução da inform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97C-D727-46FE-AA9A-762A92AE4C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B0331-68E1-4A86-9C32-80E31B6AA2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Tecnologia da Informaçã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stema Nervoso Digi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Internet Muda Tudo (WebTV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conhecimento de Imag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conhecimento de Fala e Síntese de Vo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ovas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“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negócios vão mudar mais nos próximos 10 anos do que mudaram nos últimos 50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ll G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B4F-C44B-4255-B51C-9905D8D2DE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BFD90-7DF0-4574-8704-26B55E78D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88: Funda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undação: 8 de Agosto de 1988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undadores: Márcio, Cida e Sérgi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 empresa foi fundada como uma software-house, ou seja, para desenvolver, instalar e manter softwa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Investimos Us$5.000,00 e muito trabalh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4EF-21C4-4FB1-A6D0-BBEFF7EBA4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6E285-69BC-4EAF-A97E-D0795B5E65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0: Novos Objetiv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xistia uma carência muito grande de fornecedores de hardware (oportunidad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Incluímos no objetivo da empresa a comercialização de hardware, projeto e instalação de redes (pioneiros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cc, uma solution house em tecnologia da informação. Se não fornecemos: buscamos ou indicamos um fornecedor idône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0F7-131A-4F03-ABBB-EBF23D83DF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7358F-D5A0-4DBF-AA76-17B950DBAF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2: Abertura de Capita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Para evitar a perda de pessoal qualificado abrimos o capital da empres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riamos unidades de negócio para sustentar a missão da empres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omercial, Laboratório, Administrativo e Softwa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Passamos a contratar somente pessoal qualificado para cada funçã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B2F-44EB-4BA6-BB31-92E1447C1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98A59-4BD0-4A5F-BE06-F468088298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3: Estrutura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3782880"/>
          <a:ext cx="8153280" cy="24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782880"/>
                    <a:ext cx="81532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Distribuição de lucros: sócios e colaborado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missões &amp; flexibilização de horár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ferecimento de estág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Organogram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6F0-DB6E-4A29-90BD-D473F0264E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BBC3C-0261-4DEA-9C6C-C522E68FD7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4: Qualida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Implantação de sistemática de qualidad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mo resultado das pesquisas junto aos client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ovos softwa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Novos conceitos de atendimen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Homologação de softwares por fabrica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rescimento da base instal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7F3-2910-4D1D-B4EA-DD575EC6CF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F58A4-B68B-488C-A4D5-4509D01A20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5: Novo Paí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feitos do Plano Real nos clientes e na Ac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ncorrência deslea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Contrabandis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Sonegadores e aventurei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 Acc introduziu, pioneiramente, o sistema de Faturamento Direto em nosso mercad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Aumentamos o valor agregado de todos os produtos comercializad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31A-44A1-4748-A4F6-C97DAA059A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5DA4B-DBA4-47BD-96B0-6902472828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6: Intern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Fomos os primeiros a utilizar a Internet pa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Suporte, Atualização e Comunicação (cliente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ivulgação para o merc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Intercâmbio com parceiros e fornecedo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Instituímos o correio eletrônico (e-mail) como ferramenta de comunicação inter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Expansão da base de mercado em 1997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Comércio eletrônico: 200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levoseuentulho1" descr=""/>
          <p:cNvPicPr/>
          <p:nvPr/>
        </p:nvPicPr>
        <p:blipFill>
          <a:blip r:embed="rId2"/>
          <a:stretch/>
        </p:blipFill>
        <p:spPr>
          <a:xfrm>
            <a:off x="1143000" y="1257480"/>
            <a:ext cx="7467480" cy="5600520"/>
          </a:xfrm>
          <a:prstGeom prst="rect">
            <a:avLst/>
          </a:prstGeom>
          <a:ln w="0">
            <a:noFill/>
          </a:ln>
        </p:spPr>
      </p:pic>
      <p:pic>
        <p:nvPicPr>
          <p:cNvPr id="131" name="levoseuentulho%20placa" descr=""/>
          <p:cNvPicPr/>
          <p:nvPr/>
        </p:nvPicPr>
        <p:blipFill>
          <a:blip r:embed="rId3"/>
          <a:stretch/>
        </p:blipFill>
        <p:spPr>
          <a:xfrm>
            <a:off x="1905120" y="1735200"/>
            <a:ext cx="6019560" cy="46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9C6-897B-4BD1-A014-91F80F8349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8B2CD-10F5-48FF-B8BC-2D49051A7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1998: Reciclag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Treinamento para as principais pessoas da empresa e posterior multiplicação intern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Redes: Novell, NT e Window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DBMS: Oracle, Sybase e SQL Serv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Ferramentas case: ErW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Linguagem visual: Visual Basi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Gerador de relatórios: Crystal Repor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Times New Roman"/>
              </a:rPr>
              <a:t>Palmtops: HP, Compaq, 3CO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737_800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553080" cy="524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F8D-EFB3-46E3-8DF5-338C5F593E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EA8D6-3965-4199-8E17-C155DA4B38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árcio Moreira</cp:lastModifiedBy>
  <dcterms:modified xsi:type="dcterms:W3CDTF">2001-05-05T14:39:10Z</dcterms:modified>
  <cp:revision>13</cp:revision>
  <dc:subject/>
  <dc:title>Apresentação do PowerPoint</dc:title>
</cp:coreProperties>
</file>