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3.png" ContentType="image/png"/>
  <Override PartName="/ppt/media/image21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3.png" ContentType="image/pn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38.jpeg" ContentType="image/jpeg"/>
  <Override PartName="/ppt/media/image40.jpeg" ContentType="image/jpeg"/>
  <Override PartName="/ppt/media/image12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6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F2AA-402B-4553-AEC0-99E57D511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6A37-893E-4E52-96E5-FD522715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F36B-B88D-4750-AF24-9058E795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675B-F205-4E8D-AF58-040BC4DC3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5033-519F-43D7-AAE8-2BEDD0EE8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3C52-D6A9-4EBA-AAE4-8B5CED50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503C-9FB2-4538-BD12-C75B8097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FFE5-95A7-4562-B4B8-278AE7D5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F27E-1A32-4627-B92C-01F64659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25DE-68D7-4627-8195-20DE3C33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B94B-2CC6-4268-941C-A1D57AF8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DC0D-94EF-493B-98BA-BF910E0C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F68F-10BB-4A3D-ABCA-D408FF27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7F1A-C6B9-490B-9BB6-FC4504EE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12FE-0322-4F54-8FAE-3BE4EE6A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8315-10A6-4D60-9AB9-D47C9488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D05E-416D-4B83-987B-11BA1797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61CD-AB48-4541-8FEF-968C79AD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F106-47AA-4023-857D-AB81F42B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98CC-9E5B-4575-BCC3-54576011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05E6-3AE3-47D4-BE43-A7F337B9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E419-4B03-4FCF-A04D-660596E8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98E4-F7D1-4A6B-8A1E-435C8833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F1DE-77B4-417D-A160-1A743904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457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286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200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114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029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943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6858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772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686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" name=""/>
              <p:cNvGrpSpPr/>
              <p:nvPr/>
            </p:nvGrpSpPr>
            <p:grpSpPr>
              <a:xfrm>
                <a:off x="0" y="533520"/>
                <a:ext cx="9144000" cy="5943600"/>
                <a:chOff x="0" y="533520"/>
                <a:chExt cx="9144000" cy="5943600"/>
              </a:xfrm>
            </p:grpSpPr>
            <p:sp>
              <p:nvSpPr>
                <p:cNvPr id="22" name=""/>
                <p:cNvSpPr/>
                <p:nvPr/>
              </p:nvSpPr>
              <p:spPr>
                <a:xfrm>
                  <a:off x="0" y="533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990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1447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0" y="1905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0" y="2362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0" y="2819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0" y="3276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0" y="3733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0" y="4191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0" y="4648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0" y="5105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0" y="5562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0" y="6019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0" y="6477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" name=""/>
            <p:cNvGrpSpPr/>
            <p:nvPr/>
          </p:nvGrpSpPr>
          <p:grpSpPr>
            <a:xfrm>
              <a:off x="609480" y="6248160"/>
              <a:ext cx="7925040" cy="609480"/>
              <a:chOff x="609480" y="6248160"/>
              <a:chExt cx="7925040" cy="609480"/>
            </a:xfrm>
          </p:grpSpPr>
          <p:sp>
            <p:nvSpPr>
              <p:cNvPr id="37" name=""/>
              <p:cNvSpPr/>
              <p:nvPr/>
            </p:nvSpPr>
            <p:spPr>
              <a:xfrm flipV="1" rot="16200000">
                <a:off x="7248600" y="5549040"/>
                <a:ext cx="587160" cy="198432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flipV="1" rot="16200000">
                <a:off x="7507080" y="5841000"/>
                <a:ext cx="50760" cy="19814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V="1" rot="16200000">
                <a:off x="1315800" y="5549040"/>
                <a:ext cx="587160" cy="198468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flipV="1" rot="16200000">
                <a:off x="1574640" y="5841000"/>
                <a:ext cx="50760" cy="19814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flipV="1" rot="16200000">
                <a:off x="4283640" y="5099040"/>
                <a:ext cx="587160" cy="288468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6200000">
                <a:off x="4538520" y="5391720"/>
                <a:ext cx="50760" cy="28800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" name=""/>
          <p:cNvGrpSpPr/>
          <p:nvPr/>
        </p:nvGrpSpPr>
        <p:grpSpPr>
          <a:xfrm>
            <a:off x="0" y="0"/>
            <a:ext cx="9144000" cy="236520"/>
            <a:chOff x="0" y="0"/>
            <a:chExt cx="9144000" cy="236520"/>
          </a:xfrm>
        </p:grpSpPr>
        <p:pic>
          <p:nvPicPr>
            <p:cNvPr id="44" name="techstrip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146160"/>
              <a:ext cx="9144000" cy="47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189000"/>
              <a:ext cx="9144000" cy="47520"/>
            </a:xfrm>
            <a:prstGeom prst="rect">
              <a:avLst/>
            </a:prstGeom>
            <a:solidFill>
              <a:srgbClr val="47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69920" indent="-164880"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cc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cc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283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cc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cc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cccc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C2D6-4BEE-44CA-94C6-FB41280047D9}" type="slidenum">
              <a:rPr b="0" lang="en-US" sz="1400" spc="-1" strike="noStrike">
                <a:solidFill>
                  <a:srgbClr val="99cccc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9" name=""/>
            <p:cNvSpPr/>
            <p:nvPr/>
          </p:nvSpPr>
          <p:spPr>
            <a:xfrm flipV="1">
              <a:off x="457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914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1371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828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2286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2743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200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657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114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572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029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486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5943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400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858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7315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7772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8229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8686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380880"/>
              <a:ext cx="9144000" cy="5943600"/>
              <a:chOff x="0" y="380880"/>
              <a:chExt cx="9144000" cy="594360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6324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5867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410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4952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4956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038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3581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124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2666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2096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1752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1295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838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380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>
            <a:off x="0" y="1676520"/>
            <a:ext cx="9144000" cy="152280"/>
          </a:xfrm>
          <a:prstGeom prst="rect">
            <a:avLst/>
          </a:prstGeom>
          <a:solidFill>
            <a:srgbClr val="47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3787920" y="-1245240"/>
            <a:ext cx="1595520" cy="7591320"/>
          </a:xfrm>
          <a:custGeom>
            <a:avLst/>
            <a:gdLst/>
            <a:ahLst/>
            <a:rect l="l" t="t" r="r" b="b"/>
            <a:pathLst>
              <a:path w="290" h="1250">
                <a:moveTo>
                  <a:pt x="0" y="2"/>
                </a:moveTo>
                <a:cubicBezTo>
                  <a:pt x="0" y="2"/>
                  <a:pt x="120" y="2"/>
                  <a:pt x="240" y="2"/>
                </a:cubicBezTo>
                <a:cubicBezTo>
                  <a:pt x="262" y="0"/>
                  <a:pt x="290" y="12"/>
                  <a:pt x="288" y="50"/>
                </a:cubicBezTo>
                <a:cubicBezTo>
                  <a:pt x="288" y="626"/>
                  <a:pt x="288" y="1202"/>
                  <a:pt x="288" y="1202"/>
                </a:cubicBezTo>
                <a:cubicBezTo>
                  <a:pt x="288" y="1232"/>
                  <a:pt x="274" y="1250"/>
                  <a:pt x="240" y="1250"/>
                </a:cubicBezTo>
                <a:cubicBezTo>
                  <a:pt x="120" y="1250"/>
                  <a:pt x="0" y="1250"/>
                  <a:pt x="0" y="1250"/>
                </a:cubicBezTo>
                <a:lnTo>
                  <a:pt x="0" y="2"/>
                </a:lnTo>
                <a:close/>
              </a:path>
            </a:pathLst>
          </a:custGeom>
          <a:solidFill>
            <a:srgbClr val="47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techstrip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-3240" y="1752480"/>
            <a:ext cx="9147240" cy="74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EC2B-84BE-41F2-A5B9-FC105A101BC1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Bill Gates - Biografia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4648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hairman an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hief Software Architec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icrosoft Corporation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0" name="biobill" descr="William (Bill) H. Gates III"/>
          <p:cNvPicPr/>
          <p:nvPr/>
        </p:nvPicPr>
        <p:blipFill>
          <a:blip r:embed="rId1"/>
          <a:stretch/>
        </p:blipFill>
        <p:spPr>
          <a:xfrm>
            <a:off x="6248520" y="3657600"/>
            <a:ext cx="177156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Visão da Micro-Soft (1975)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pt-BR" sz="3600" spc="-1" strike="noStrike">
                <a:solidFill>
                  <a:srgbClr val="000000"/>
                </a:solidFill>
                <a:latin typeface="Arial Narrow"/>
              </a:rPr>
              <a:t>Um dia vai existir um microcomputador pessoal em todas as mesas de trabalho”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3600" spc="-1" strike="noStrike">
                <a:solidFill>
                  <a:srgbClr val="ffffcc"/>
                </a:solidFill>
                <a:latin typeface="Arial Narrow"/>
              </a:rPr>
              <a:t>Bill Gate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Narrow"/>
              </a:rPr>
              <a:t>Completam outros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 Narrow"/>
              </a:rPr>
              <a:t>... Rodando produtos Microsoft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14440" y="609120"/>
            <a:ext cx="4343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1976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26672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Gates escreve uma carta aos Hobbistas (Jan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Steve Jobs e Steve Wozniak fazem o Apple numa garagem e depois fundam a Appl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Gates e Allen mudam o nome para Microsof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Gates faz sua primeira conferênci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3" name="JobsAndWozniak1976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3225960" cy="2539800"/>
          </a:xfrm>
          <a:prstGeom prst="rect">
            <a:avLst/>
          </a:prstGeom>
          <a:ln w="0">
            <a:noFill/>
          </a:ln>
        </p:spPr>
      </p:pic>
      <p:pic>
        <p:nvPicPr>
          <p:cNvPr id="214" name="Gates1976" descr=""/>
          <p:cNvPicPr/>
          <p:nvPr/>
        </p:nvPicPr>
        <p:blipFill>
          <a:blip r:embed="rId2"/>
          <a:stretch/>
        </p:blipFill>
        <p:spPr>
          <a:xfrm>
            <a:off x="457200" y="3505320"/>
            <a:ext cx="368316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343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1977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A Microsoft faz o Fortra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A Microsoft termina a exclusividade com a MI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A Apple lança o Apple II com o VisiCalc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Surgem uma séria de máquina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Gates e Allen criam o p-cod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7" name="Apple2" descr=""/>
          <p:cNvPicPr/>
          <p:nvPr/>
        </p:nvPicPr>
        <p:blipFill>
          <a:blip r:embed="rId1"/>
          <a:stretch/>
        </p:blipFill>
        <p:spPr>
          <a:xfrm>
            <a:off x="5105520" y="45720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218" name="TandyTRS80" descr=""/>
          <p:cNvPicPr/>
          <p:nvPr/>
        </p:nvPicPr>
        <p:blipFill>
          <a:blip r:embed="rId2"/>
          <a:stretch/>
        </p:blipFill>
        <p:spPr>
          <a:xfrm>
            <a:off x="4800600" y="335268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3886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1978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40388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Microsoft libera o COBO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Eles vendem o 1o milhã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Eles voltam para Seattl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Fazem acordo com Key Nishi, publisher do japã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Intel lança o 8086, Allen e Gates ..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Fazem acordo com a Appl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1" name="billbio2a" descr="The Albuquerque Group, 1978"/>
          <p:cNvPicPr/>
          <p:nvPr/>
        </p:nvPicPr>
        <p:blipFill>
          <a:blip r:embed="rId1"/>
          <a:stretch/>
        </p:blipFill>
        <p:spPr>
          <a:xfrm>
            <a:off x="4648320" y="533520"/>
            <a:ext cx="4038480" cy="2752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572000" y="3429000"/>
            <a:ext cx="41148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197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48320" y="4267080"/>
            <a:ext cx="40384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lnSpc>
                <a:spcPct val="10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Mudam-se para Bellev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BASIC ganha ICP Million Dollar A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Expande-se para Euro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1980 – 2a Revolução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Gates convence Ballmer a deixar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cter &amp; Gambl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Liberam o XENIX O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Frank Cary da IBM da a William Lowe a missão de construir um micro IBM em 12 meses (projeto Ches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A Microsoft assina com a IBM para: Basic, Cobol e Pasca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6" name=""/>
          <p:cNvSpPr/>
          <p:nvPr/>
        </p:nvSpPr>
        <p:spPr>
          <a:xfrm>
            <a:off x="464832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Gates indica o CP/M de Gary para a IB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A Digital de Gary não ass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Gates e Allen compram o DOS (de Tim Patterson) da SPC por Us$5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A Microsoft fecha o acordo do MS-DOS com a IBM a Us$20 de royal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343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1981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Tim Patterson sai da SPC e vai para Microsof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O IBM PC é lançado (Jun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A IBM esperava vender 1 milhão em 5 anos, vendeu 2 milhões em 2 ano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A Microsoft lança açõe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9" name="IBM_PC_1981" descr=""/>
          <p:cNvPicPr/>
          <p:nvPr/>
        </p:nvPicPr>
        <p:blipFill>
          <a:blip r:embed="rId1"/>
          <a:stretch/>
        </p:blipFill>
        <p:spPr>
          <a:xfrm>
            <a:off x="5435640" y="533520"/>
            <a:ext cx="3327480" cy="2539800"/>
          </a:xfrm>
          <a:prstGeom prst="rect">
            <a:avLst/>
          </a:prstGeom>
          <a:ln w="0">
            <a:noFill/>
          </a:ln>
        </p:spPr>
      </p:pic>
      <p:pic>
        <p:nvPicPr>
          <p:cNvPr id="230" name="AllenGates1980" descr=""/>
          <p:cNvPicPr/>
          <p:nvPr/>
        </p:nvPicPr>
        <p:blipFill>
          <a:blip r:embed="rId2"/>
          <a:stretch/>
        </p:blipFill>
        <p:spPr>
          <a:xfrm>
            <a:off x="5537160" y="3479760"/>
            <a:ext cx="314964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Estes Homens Hoje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pic>
        <p:nvPicPr>
          <p:cNvPr id="232" name="SteveBallmer" descr=""/>
          <p:cNvPicPr/>
          <p:nvPr/>
        </p:nvPicPr>
        <p:blipFill>
          <a:blip r:embed="rId1"/>
          <a:stretch/>
        </p:blipFill>
        <p:spPr>
          <a:xfrm>
            <a:off x="6613560" y="2549520"/>
            <a:ext cx="1866960" cy="2324160"/>
          </a:xfrm>
          <a:prstGeom prst="rect">
            <a:avLst/>
          </a:prstGeom>
          <a:ln w="0">
            <a:noFill/>
          </a:ln>
        </p:spPr>
      </p:pic>
      <p:pic>
        <p:nvPicPr>
          <p:cNvPr id="233" name="PaulAllenToday" descr=""/>
          <p:cNvPicPr/>
          <p:nvPr/>
        </p:nvPicPr>
        <p:blipFill>
          <a:blip r:embed="rId2"/>
          <a:stretch/>
        </p:blipFill>
        <p:spPr>
          <a:xfrm>
            <a:off x="3706920" y="2473200"/>
            <a:ext cx="1763640" cy="24130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54120" y="5105520"/>
            <a:ext cx="17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ill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01880" y="510552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ul A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537240" y="506412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teve Ball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Gates2000" descr=""/>
          <p:cNvPicPr/>
          <p:nvPr/>
        </p:nvPicPr>
        <p:blipFill>
          <a:blip r:embed="rId3"/>
          <a:stretch/>
        </p:blipFill>
        <p:spPr>
          <a:xfrm>
            <a:off x="685800" y="2514600"/>
            <a:ext cx="172260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105160" y="609120"/>
            <a:ext cx="3733560" cy="2590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Vale do Silício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pic>
        <p:nvPicPr>
          <p:cNvPr id="239" name="Intel1996" descr=""/>
          <p:cNvPicPr/>
          <p:nvPr/>
        </p:nvPicPr>
        <p:blipFill>
          <a:blip r:embed="rId1"/>
          <a:stretch/>
        </p:blipFill>
        <p:spPr>
          <a:xfrm>
            <a:off x="76320" y="285840"/>
            <a:ext cx="4724280" cy="3219480"/>
          </a:xfrm>
          <a:prstGeom prst="rect">
            <a:avLst/>
          </a:prstGeom>
          <a:ln w="0">
            <a:noFill/>
          </a:ln>
        </p:spPr>
      </p:pic>
      <p:pic>
        <p:nvPicPr>
          <p:cNvPr id="240" name="Quantum" descr=""/>
          <p:cNvPicPr/>
          <p:nvPr/>
        </p:nvPicPr>
        <p:blipFill>
          <a:blip r:embed="rId2"/>
          <a:stretch/>
        </p:blipFill>
        <p:spPr>
          <a:xfrm>
            <a:off x="4343400" y="3505320"/>
            <a:ext cx="473400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Microsoft – Fábrica de Botell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pic>
        <p:nvPicPr>
          <p:cNvPr id="242" name="MS96-Fabrica" descr=""/>
          <p:cNvPicPr/>
          <p:nvPr/>
        </p:nvPicPr>
        <p:blipFill>
          <a:blip r:embed="rId1"/>
          <a:stretch/>
        </p:blipFill>
        <p:spPr>
          <a:xfrm>
            <a:off x="446040" y="1050840"/>
            <a:ext cx="831708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MS Botell – Vista da Produção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pic>
        <p:nvPicPr>
          <p:cNvPr id="244" name="MS96-FabBanners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32788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Bill Gates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Nome: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Willian Henry Gates III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2480" indent="-22248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Nasceu: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28/10/1955 em Seattle – WA – US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2480" indent="-22248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Pai: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Willian Henry Gates II – Advogad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2480" indent="-22248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Mãe: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Mary Gates – Professora (Falecida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2480" indent="-22248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Irmãs: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Tem dua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2480" indent="-22248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Estudo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04800" indent="-165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Primário: 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Escola Públic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04800" indent="-165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Ginásio: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Lakeside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hool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 – Início de carreira aos 13 ano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04800" indent="-16596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Superior: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Harvad (Entra em 1973 e abandona em 1975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3" name="BillDad" descr=""/>
          <p:cNvPicPr/>
          <p:nvPr/>
        </p:nvPicPr>
        <p:blipFill>
          <a:blip r:embed="rId1"/>
          <a:stretch/>
        </p:blipFill>
        <p:spPr>
          <a:xfrm>
            <a:off x="7772400" y="1523880"/>
            <a:ext cx="110808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MS Botell – Corredor de Saída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pic>
        <p:nvPicPr>
          <p:cNvPr id="246" name="MS96-FabCorr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33112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MS Botell – Produção do Access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pic>
        <p:nvPicPr>
          <p:cNvPr id="248" name="MS96-FabAccess" descr=""/>
          <p:cNvPicPr/>
          <p:nvPr/>
        </p:nvPicPr>
        <p:blipFill>
          <a:blip r:embed="rId1"/>
          <a:stretch/>
        </p:blipFill>
        <p:spPr>
          <a:xfrm>
            <a:off x="457200" y="1079640"/>
            <a:ext cx="8302680" cy="57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MS Botell – Nosso Guia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pic>
        <p:nvPicPr>
          <p:cNvPr id="250" name="MS96-FabSBoard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30592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Microsoft – Comunicação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pic>
        <p:nvPicPr>
          <p:cNvPr id="252" name="MS96-FabImages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3487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Microsoft - Cultura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pic>
        <p:nvPicPr>
          <p:cNvPr id="254" name="MS96-FabCulture" descr=""/>
          <p:cNvPicPr/>
          <p:nvPr/>
        </p:nvPicPr>
        <p:blipFill>
          <a:blip r:embed="rId1"/>
          <a:stretch/>
        </p:blipFill>
        <p:spPr>
          <a:xfrm>
            <a:off x="457200" y="1022400"/>
            <a:ext cx="833112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Microsoft </a:t>
            </a: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orporate</a:t>
            </a: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 Campus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pic>
        <p:nvPicPr>
          <p:cNvPr id="256" name="MS96-HQCampus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288280" cy="57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Microsoft Campus Service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pic>
        <p:nvPicPr>
          <p:cNvPr id="258" name="MS96-HQCampusCar" descr=""/>
          <p:cNvPicPr/>
          <p:nvPr/>
        </p:nvPicPr>
        <p:blipFill>
          <a:blip r:embed="rId1"/>
          <a:stretch/>
        </p:blipFill>
        <p:spPr>
          <a:xfrm>
            <a:off x="457200" y="979560"/>
            <a:ext cx="8331120" cy="58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Microsoft – Bill Gates Office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pic>
        <p:nvPicPr>
          <p:cNvPr id="260" name="MS96-HQGates" descr=""/>
          <p:cNvPicPr/>
          <p:nvPr/>
        </p:nvPicPr>
        <p:blipFill>
          <a:blip r:embed="rId1"/>
          <a:stretch/>
        </p:blipFill>
        <p:spPr>
          <a:xfrm>
            <a:off x="457200" y="1104840"/>
            <a:ext cx="8393040" cy="56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Referências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Livro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17400" indent="-1695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CHBIAH, 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Daniel. </a:t>
            </a:r>
            <a:r>
              <a:rPr b="0" i="1" lang="pt-BR" sz="2800" spc="-1" strike="noStrike">
                <a:solidFill>
                  <a:srgbClr val="000000"/>
                </a:solidFill>
                <a:latin typeface="Arial Narrow"/>
              </a:rPr>
              <a:t>Microsoft: Como Bill Gates e Sua Equipe Criaram a Empresa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. Editora Campus. 1992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17400" indent="-1695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RICKSON, 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Jim. </a:t>
            </a:r>
            <a:r>
              <a:rPr b="0" i="1" lang="pt-BR" sz="2800" spc="-1" strike="noStrike">
                <a:solidFill>
                  <a:srgbClr val="000000"/>
                </a:solidFill>
                <a:latin typeface="Arial Narrow"/>
              </a:rPr>
              <a:t>Hard Drive Desejo de Vencer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. Editora Record. 1992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7160" indent="-22716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Narrow"/>
              </a:rPr>
              <a:t>Site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17400" indent="-1695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www.microsoft.com/billgat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17400" indent="-1695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ww.studyweb.com/computers/history.ht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17400" indent="-1695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ttp://www.siliconspirits.com/comphist.ht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1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Márcio Moreira – Dez/2000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USA – WA – Seattle – Redmond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75" name=""/>
          <p:cNvSpPr/>
          <p:nvPr/>
        </p:nvSpPr>
        <p:spPr>
          <a:xfrm>
            <a:off x="411480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453360" y="2971800"/>
            <a:ext cx="4465440" cy="360"/>
            <a:chOff x="6453360" y="2971800"/>
            <a:chExt cx="4465440" cy="360"/>
          </a:xfrm>
        </p:grpSpPr>
        <p:sp>
          <p:nvSpPr>
            <p:cNvPr id="177" name=""/>
            <p:cNvSpPr/>
            <p:nvPr/>
          </p:nvSpPr>
          <p:spPr>
            <a:xfrm>
              <a:off x="6453360" y="2971800"/>
              <a:ext cx="44654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53360" y="29718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9" name="usa" descr=""/>
          <p:cNvPicPr/>
          <p:nvPr/>
        </p:nvPicPr>
        <p:blipFill>
          <a:blip r:embed="rId1"/>
          <a:stretch/>
        </p:blipFill>
        <p:spPr>
          <a:xfrm>
            <a:off x="2286000" y="152388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180" name="Washington" descr=""/>
          <p:cNvPicPr/>
          <p:nvPr/>
        </p:nvPicPr>
        <p:blipFill>
          <a:blip r:embed="rId2"/>
          <a:stretch/>
        </p:blipFill>
        <p:spPr>
          <a:xfrm>
            <a:off x="2286000" y="152388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181" name="SeattleArea" descr=""/>
          <p:cNvPicPr/>
          <p:nvPr/>
        </p:nvPicPr>
        <p:blipFill>
          <a:blip r:embed="rId3"/>
          <a:stretch/>
        </p:blipFill>
        <p:spPr>
          <a:xfrm>
            <a:off x="2286000" y="152388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182" name="Redmond" descr=""/>
          <p:cNvPicPr/>
          <p:nvPr/>
        </p:nvPicPr>
        <p:blipFill>
          <a:blip r:embed="rId4"/>
          <a:stretch/>
        </p:blipFill>
        <p:spPr>
          <a:xfrm>
            <a:off x="2286000" y="152388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183" name="Microsoft" descr=""/>
          <p:cNvPicPr/>
          <p:nvPr/>
        </p:nvPicPr>
        <p:blipFill>
          <a:blip r:embed="rId5"/>
          <a:stretch/>
        </p:blipFill>
        <p:spPr>
          <a:xfrm>
            <a:off x="2286000" y="15238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1969 - Lakeside School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Conhece Paul Allen e juntos “devoram” o PDP-10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Estudos, Pôquer e PDP-10 era tudo que eles fazia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Gates &amp; Allen se chamam de “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akeside Programming Group“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, e assinam contrato com a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 Narrow"/>
              </a:rPr>
              <a:t>3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mputer Center Corporation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) para reportar erros no software do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DP-10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6" name="LakeSideSchooll" descr=""/>
          <p:cNvPicPr/>
          <p:nvPr/>
        </p:nvPicPr>
        <p:blipFill>
          <a:blip r:embed="rId1"/>
          <a:stretch/>
        </p:blipFill>
        <p:spPr>
          <a:xfrm>
            <a:off x="5654520" y="1523880"/>
            <a:ext cx="32529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1970 – Segundo Contrato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A revista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formation Sciences</a:t>
            </a: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 oferece a ambos:  horas no PDP-10 em troca da experiência del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A Intel lança o 4004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Allen cria simulador do 4004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Gates implementa BASIC no simulador de Alle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9" name="AllanGatesHall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2274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580920" y="609120"/>
            <a:ext cx="487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Trafe-O-Data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6576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1971: Allen vai para universidad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1972: Intel lança o 8008 e Allen adapta seu simulador para el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Gates adapta o BASIC para 8008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Fundam a Trafe-O-Data dedicada a análise de tráfego usando o 8008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lnSpc>
                <a:spcPct val="90000"/>
              </a:lnSpc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1973: Gates vai para Harvard e seu colega de quarto se chama Steve Ballm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2" name="SteveBallmer1" descr=""/>
          <p:cNvPicPr/>
          <p:nvPr/>
        </p:nvPicPr>
        <p:blipFill>
          <a:blip r:embed="rId1"/>
          <a:stretch/>
        </p:blipFill>
        <p:spPr>
          <a:xfrm>
            <a:off x="457200" y="3699000"/>
            <a:ext cx="2819520" cy="2396880"/>
          </a:xfrm>
          <a:prstGeom prst="rect">
            <a:avLst/>
          </a:prstGeom>
          <a:ln w="0">
            <a:noFill/>
          </a:ln>
        </p:spPr>
      </p:pic>
      <p:pic>
        <p:nvPicPr>
          <p:cNvPr id="193" name="AllenGates1975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27734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95320" y="609120"/>
            <a:ext cx="3962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1973 - 1974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3434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1973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Gary Killdal cria o CP/M (8008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1974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Intel lança o 8080, Allen e Gates adaptam suas ferramenta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O Xerox PARC cria o ALTO:  GUI, Mouse, Rede e E-Mai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0360" indent="-17316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Gates e Allen deixam de lado a Trafe-O-Data por falta de temp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6" name="Gkildall1972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3657600" cy="2539800"/>
          </a:xfrm>
          <a:prstGeom prst="rect">
            <a:avLst/>
          </a:prstGeom>
          <a:ln w="0">
            <a:noFill/>
          </a:ln>
        </p:spPr>
      </p:pic>
      <p:pic>
        <p:nvPicPr>
          <p:cNvPr id="197" name="8080" descr=""/>
          <p:cNvPicPr/>
          <p:nvPr/>
        </p:nvPicPr>
        <p:blipFill>
          <a:blip r:embed="rId2"/>
          <a:stretch/>
        </p:blipFill>
        <p:spPr>
          <a:xfrm>
            <a:off x="2514600" y="5029200"/>
            <a:ext cx="1676520" cy="590400"/>
          </a:xfrm>
          <a:prstGeom prst="rect">
            <a:avLst/>
          </a:prstGeom>
          <a:ln w="0">
            <a:noFill/>
          </a:ln>
        </p:spPr>
      </p:pic>
      <p:pic>
        <p:nvPicPr>
          <p:cNvPr id="198" name="8080Inside" descr=""/>
          <p:cNvPicPr/>
          <p:nvPr/>
        </p:nvPicPr>
        <p:blipFill>
          <a:blip r:embed="rId3"/>
          <a:stretch/>
        </p:blipFill>
        <p:spPr>
          <a:xfrm>
            <a:off x="2286000" y="3809880"/>
            <a:ext cx="2222640" cy="827280"/>
          </a:xfrm>
          <a:prstGeom prst="rect">
            <a:avLst/>
          </a:prstGeom>
          <a:ln w="0">
            <a:noFill/>
          </a:ln>
        </p:spPr>
      </p:pic>
      <p:pic>
        <p:nvPicPr>
          <p:cNvPr id="199" name="GordonMoore" descr=""/>
          <p:cNvPicPr/>
          <p:nvPr/>
        </p:nvPicPr>
        <p:blipFill>
          <a:blip r:embed="rId4"/>
          <a:stretch/>
        </p:blipFill>
        <p:spPr>
          <a:xfrm>
            <a:off x="457200" y="3276720"/>
            <a:ext cx="1643040" cy="25016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65040" y="5680080"/>
            <a:ext cx="35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imes New Roman"/>
              </a:rPr>
              <a:t>Gordon Moore – Intel 80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Jan/1975 – A Revolução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5640" y="190512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Ed Roberts da MITS,  lança o Altair 8800 na Popular Eletronic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9320" indent="-22932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Allen e Gates pensam: “Está começando a revolução”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29320" indent="-22932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Allen vai a Albuquerque mostrar o BASIC para a MITS e ele funcion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3" name="EdRoberts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1828800" cy="2539800"/>
          </a:xfrm>
          <a:prstGeom prst="rect">
            <a:avLst/>
          </a:prstGeom>
          <a:ln w="0">
            <a:noFill/>
          </a:ln>
        </p:spPr>
      </p:pic>
      <p:pic>
        <p:nvPicPr>
          <p:cNvPr id="204" name="PopularElet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895480" cy="39114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35600" y="457200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d Robe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545"/>
                </a:solidFill>
                <a:latin typeface="Impact"/>
              </a:rPr>
              <a:t>1975 – Fevereiro a Dezembro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Allen e Gates mudam-se para Albuquerque (Fev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Fundam a Micro-Soft (Abr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Licenciam o BASIC para a MITS (Jun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31840" indent="-231840">
              <a:spcBef>
                <a:spcPts val="700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Narrow"/>
              </a:rPr>
              <a:t>Fecham a Trafe-O-Dat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8" name="Albuquerque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4T17:43:43Z</dcterms:created>
  <dc:creator>Márcio Moreira</dc:creator>
  <dc:description/>
  <dc:language>en-US</dc:language>
  <cp:lastModifiedBy>Márcio Moreira</cp:lastModifiedBy>
  <dcterms:modified xsi:type="dcterms:W3CDTF">2001-06-09T02:14:09Z</dcterms:modified>
  <cp:revision>41</cp:revision>
  <dc:subject/>
  <dc:title>Bill Gates - Biografia</dc:title>
</cp:coreProperties>
</file>