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E3C-781B-46FD-8776-9B95A3D5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C55-BBBA-43CE-A7E5-314F46A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F87-CAFB-4C10-BD8E-60DF4494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439-34BE-422C-A1D5-090B543A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B11E-3DE5-4DEA-921C-C06D111B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973-E488-4059-BCA7-FE9D20E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6758-7C39-40B3-99F0-85440EC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F5A7-DFB0-40B3-BA3E-399C93D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188-8E0F-4D00-8386-0922A8C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582B-A1DC-414B-8259-0F3A91A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98A8-6A76-4DC4-883C-E2C3C48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F16-FE35-4EC8-BEB6-2FC664C3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9F7-F273-4D6C-95C2-483D26F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69C-5F79-43DC-B833-CE5600E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F4DA-C256-4000-BD26-710C4F1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246-8540-48EA-AA43-C644797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428B-0771-428E-B80D-904C482F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10E-4913-477B-948C-82671DA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0A6-485E-438A-A82C-639E938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1BB-2011-4499-B50F-548B120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4F3-71E3-4BBD-AA46-4CB18F6C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C92-4ADD-4696-ACD4-6B64C08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E9F-9EAC-4B71-9573-EE5F268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719-9A78-433D-BF05-9CFF01F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15A9-92A4-4023-9F9B-0342E78461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A2BE-778A-4E4F-9E69-001940A532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18288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0" y="18288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ffff"/>
                </a:solidFill>
                <a:latin typeface="Impact"/>
              </a:rPr>
              <a:t>TEC1 - Criptografia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94920" y="42667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Professor: João Nunes Souz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dler, Alex, Márcio e Simo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UFU - Computação - Junho/2000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8868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Impact"/>
              </a:rPr>
              <a:t>SSL - Secure Sockets Lay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Utilizado na negociação dos atributos necessários para garantir segurança durante o estabelecimento de uma sessã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133720"/>
            <a:ext cx="693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Para que ser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438280"/>
            <a:ext cx="6934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Mas o que realmente é negoci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Versão do Protoc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lgoritmos criptográ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pções de Autent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Técnicas de criptografia de chave pú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04320" y="2133720"/>
            <a:ext cx="55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Em que consiste este protoco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060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nsiste em uma série de mensagens trocadas entre cliente e servid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1148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São apresentadas na ordem em que devem ser executad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EXEMPLO DE APLICAÇÃO DO 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43000" y="209556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9556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23920" y="2192400"/>
          <a:ext cx="787392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2192400"/>
                    <a:ext cx="787392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700280" y="2743200"/>
            <a:ext cx="6300720" cy="933480"/>
            <a:chOff x="1700280" y="2743200"/>
            <a:chExt cx="6300720" cy="933480"/>
          </a:xfrm>
        </p:grpSpPr>
        <p:grpSp>
          <p:nvGrpSpPr>
            <p:cNvPr id="215" name=""/>
            <p:cNvGrpSpPr/>
            <p:nvPr/>
          </p:nvGrpSpPr>
          <p:grpSpPr>
            <a:xfrm>
              <a:off x="1700280" y="3210120"/>
              <a:ext cx="6300720" cy="466560"/>
              <a:chOff x="1700280" y="3210120"/>
              <a:chExt cx="6300720" cy="466560"/>
            </a:xfrm>
          </p:grpSpPr>
          <p:sp>
            <p:nvSpPr>
              <p:cNvPr id="216" name=""/>
              <p:cNvSpPr/>
              <p:nvPr/>
            </p:nvSpPr>
            <p:spPr>
              <a:xfrm>
                <a:off x="1700280" y="3210120"/>
                <a:ext cx="900000" cy="466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Arial"/>
                  </a:rPr>
                  <a:t>Tip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00280" y="3210120"/>
                <a:ext cx="2698920" cy="466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Arial"/>
                  </a:rPr>
                  <a:t>Tamanh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02440" y="3210120"/>
                <a:ext cx="2698560" cy="466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Arial"/>
                  </a:rPr>
                  <a:t>Conteú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700280" y="2743200"/>
              <a:ext cx="6300720" cy="466920"/>
              <a:chOff x="1700280" y="2743200"/>
              <a:chExt cx="6300720" cy="466920"/>
            </a:xfrm>
          </p:grpSpPr>
          <p:sp>
            <p:nvSpPr>
              <p:cNvPr id="220" name=""/>
              <p:cNvSpPr/>
              <p:nvPr/>
            </p:nvSpPr>
            <p:spPr>
              <a:xfrm>
                <a:off x="1700280" y="2743200"/>
                <a:ext cx="900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1 by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00280" y="2743200"/>
                <a:ext cx="26989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3 by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02440" y="2743200"/>
                <a:ext cx="269856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0 by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1219320" y="38862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Tipo (1 byte):  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i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ndica uma das 10 mensag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449424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Tamanho (3 bytes):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tamanho das mensagens em b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55306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Conteúdo (</a:t>
            </a:r>
            <a:r>
              <a:rPr b="0" i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 0 bytes)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parâmetros associados à mens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9320" y="2133720"/>
            <a:ext cx="56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Qual o formato desse protoco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2133720"/>
            <a:ext cx="784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que é necessário para se estabelecer uma conexão entre o cliente e o servid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6840" y="3370320"/>
            <a:ext cx="82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Fase 1: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finição das Capacidad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8600" y="4030560"/>
            <a:ext cx="84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Fase 2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Autenticação do servidor e troca de c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53000" y="4691160"/>
            <a:ext cx="81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Fase 3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Autenticação do cliente e troca de c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4080" y="5353200"/>
            <a:ext cx="32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Fase 4: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inal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AÇÃO DO 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31880" y="2133720"/>
            <a:ext cx="6540840" cy="4419360"/>
            <a:chOff x="1631880" y="2133720"/>
            <a:chExt cx="6540840" cy="4419360"/>
          </a:xfrm>
        </p:grpSpPr>
        <p:sp>
          <p:nvSpPr>
            <p:cNvPr id="236" name=""/>
            <p:cNvSpPr/>
            <p:nvPr/>
          </p:nvSpPr>
          <p:spPr>
            <a:xfrm>
              <a:off x="2317680" y="655308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46280" y="2133720"/>
              <a:ext cx="0" cy="441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89080" y="2835360"/>
              <a:ext cx="0" cy="287964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1252080" y="40989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61080" y="2133720"/>
              <a:ext cx="0" cy="441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17680" y="213372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17680" y="398160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2600" y="2324160"/>
              <a:ext cx="3962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79000">
              <a:off x="3911400" y="231408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lient_he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17560" y="319392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1045000">
              <a:off x="3857400" y="311760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server_he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617560" y="42228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1045000">
              <a:off x="4005360" y="415080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ertific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17560" y="47718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1045000">
              <a:off x="3304440" y="4700520"/>
              <a:ext cx="28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server_key_exchan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617560" y="52830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1045000">
              <a:off x="3508200" y="520344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ertificate_requ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617560" y="58230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1045000">
              <a:off x="3503160" y="574488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server_hello_d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20640" y="275760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Fase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41880" y="489096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Fase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19320" y="28764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Inicia a conexão lógica e estabelece capacidades de segurança da conex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075040"/>
            <a:ext cx="75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Fase 1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Definição das Capacidad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86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cliente envia um 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client_hello message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e aguarda um 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server_hello messag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28764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nvenções aplicadas ao 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server_hello mess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3581280"/>
            <a:ext cx="7772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Version: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contém a menor das versões sugeridas pelo cliente e a maior das suportadas pelo servidor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66236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Random: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independente do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random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gerado pelo cl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5346720"/>
            <a:ext cx="8077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SessionID: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pt-BR" sz="2600" spc="-1" strike="noStrike">
                <a:solidFill>
                  <a:srgbClr val="ffff00"/>
                </a:solidFill>
                <a:latin typeface="Impact"/>
              </a:rPr>
              <a:t>se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sessionID cliente </a:t>
            </a:r>
            <a:r>
              <a:rPr b="0" lang="pt-BR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NULL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0" lang="pt-BR" sz="2600" spc="-1" strike="noStrike">
                <a:solidFill>
                  <a:srgbClr val="ffff00"/>
                </a:solidFill>
                <a:latin typeface="Impact"/>
              </a:rPr>
              <a:t>então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sessionID servidor = sessionID cl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600" spc="-1" strike="noStrike">
                <a:solidFill>
                  <a:srgbClr val="ffff00"/>
                </a:solidFill>
                <a:latin typeface="Impact"/>
              </a:rPr>
              <a:t>senão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sessionID servidor = valor nova sessã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075040"/>
            <a:ext cx="75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Fase 1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Definição das Capacidad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ffff"/>
                </a:solidFill>
                <a:latin typeface="Impact"/>
              </a:rPr>
              <a:t>O que é e para que serve o SSL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É um protocolo muito utilizado em conjunto com o RSA (criptografia de chave pública) para proteger transações na Web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É utilizado para proteger os dados de uma aplicação durante o transporte de um equipamento para outr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tua como uma camada antes da camada de transport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19320" y="287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nvenções aplicadas ao 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server_hello mess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376236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ipherSuite: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escolhe um único cipher suite dentre os propostos pelo cl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482904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ompression:</a:t>
            </a:r>
            <a:r>
              <a:rPr b="1" lang="pt-BR" sz="2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escolhe um dos métodos de compressão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    propostos pelo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075040"/>
            <a:ext cx="75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Fase 1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Definição das Capacidad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2876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Métodos de troca de chaves do </a:t>
            </a:r>
            <a:r>
              <a:rPr b="0" i="1" lang="pt-BR" sz="2800" spc="-1" strike="noStrike">
                <a:solidFill>
                  <a:srgbClr val="ffffff"/>
                </a:solidFill>
                <a:latin typeface="Impact"/>
              </a:rPr>
              <a:t>CipherSu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5244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RS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4076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iffie-Hellman fix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46292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iffie-Hellman temporário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518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iffie-Hellman anônimo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5734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ortezz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075040"/>
            <a:ext cx="75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Fase 1: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Definição das Capacidad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43000" y="284796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1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O servidor envia seu certificado, se necessário autenticar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4280" y="2075040"/>
            <a:ext cx="84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ase 2:  Autenticação do servidor e troca de c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762360"/>
            <a:ext cx="7696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2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Qualquer método de troca de chave requer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ertificate message, exceto no Diffie-Hellman anônim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46864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3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server_key_exchange message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pode ser enviada se for requerida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559116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4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server_key_exchange message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só não é requerida usando Diffie-Hellman fixado ou RSA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43000" y="3452760"/>
            <a:ext cx="7696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6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Um servidor não-anônimo pode requerer um certificado do cliente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(certificate_request message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4483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7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ertificate_request message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inclui o tipo de certificado e as autoridades do certificad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551484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8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No final, sempre é requerido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server_done messag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819520"/>
            <a:ext cx="76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5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Uma assinatura é criada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4280" y="2075040"/>
            <a:ext cx="84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ase 2:  Autenticação do servidor e troca de c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AÇÃO DO 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631880" y="2128320"/>
            <a:ext cx="6546600" cy="4424760"/>
            <a:chOff x="1631880" y="2128320"/>
            <a:chExt cx="6546600" cy="4424760"/>
          </a:xfrm>
        </p:grpSpPr>
        <p:sp>
          <p:nvSpPr>
            <p:cNvPr id="294" name=""/>
            <p:cNvSpPr/>
            <p:nvPr/>
          </p:nvSpPr>
          <p:spPr>
            <a:xfrm>
              <a:off x="2317680" y="655308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6280" y="2133720"/>
              <a:ext cx="0" cy="441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89080" y="2835360"/>
              <a:ext cx="0" cy="287964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1252080" y="40989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61080" y="2133720"/>
              <a:ext cx="0" cy="441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7680" y="213372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17680" y="3905280"/>
              <a:ext cx="4648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2600" y="2228760"/>
              <a:ext cx="3962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79000">
              <a:off x="4098600" y="224136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ertific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617560" y="52830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1045000">
              <a:off x="3441240" y="5183280"/>
              <a:ext cx="27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hange_cipher_spe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617560" y="5823000"/>
              <a:ext cx="3972960" cy="62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1045000">
              <a:off x="4212360" y="57369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7640" y="275760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Fase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41880" y="489096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Fase 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10000" y="2647800"/>
              <a:ext cx="3962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79000">
              <a:off x="3425760" y="2663640"/>
              <a:ext cx="27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lient_key_exchan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10000" y="3086280"/>
              <a:ext cx="3962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79000">
              <a:off x="3687120" y="3095280"/>
              <a:ext cx="220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ertificate_ver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10000" y="4057560"/>
              <a:ext cx="3962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79000">
              <a:off x="3440880" y="4071960"/>
              <a:ext cx="27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hange_cipher_spe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0000" y="4495680"/>
              <a:ext cx="3962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79000">
              <a:off x="4212000" y="44985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281952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1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Cliente verifica se o servidor enviou um certificado válido e checa se os parâmetros do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server_hello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são acei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429732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2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Servidor solicitar um certificado </a:t>
            </a:r>
            <a:r>
              <a:rPr b="0" lang="pt-BR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cliente envia um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ertificate_messag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537840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3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Cliente envi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lient_key_exchange messag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606420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4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Cliente pode enviar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ertificate_verify messag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6400" y="207504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ase 3:  Autenticação do cliente e troca de c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281952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1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Cliente envia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hange_cipher_spec messag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46716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2)  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Cliente envia um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finished message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,  confirmando sucesso na troca de chaves e autenticação de process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51332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3)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  Servidor envia sua </a:t>
            </a:r>
            <a:r>
              <a:rPr b="0" i="1" lang="pt-BR" sz="2600" spc="-1" strike="noStrike">
                <a:solidFill>
                  <a:srgbClr val="ffffff"/>
                </a:solidFill>
                <a:latin typeface="Impact"/>
              </a:rPr>
              <a:t>change_cipher_spec message</a:t>
            </a: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5257800"/>
            <a:ext cx="76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Neste momento, o </a:t>
            </a:r>
            <a:r>
              <a:rPr b="0" i="1" lang="pt-BR" sz="2800" spc="-1" strike="noStrike">
                <a:solidFill>
                  <a:srgbClr val="ffff00"/>
                </a:solidFill>
                <a:latin typeface="Impact"/>
              </a:rPr>
              <a:t>handshake  </a:t>
            </a: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está completo. Cliente e servidor já podem começar a trocar dados segur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53280" y="2075040"/>
            <a:ext cx="32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ase 4: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inal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ff"/>
                </a:solidFill>
                <a:latin typeface="Impact"/>
              </a:rPr>
              <a:t>PROTOCOLO HANDSHAK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2044440"/>
            <a:ext cx="79250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que é o SSL Protocolo Record 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Ele prove segurança entre os protocolos de camadas mais alta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É usado para encapsular os vários protocolos de níveis mais alt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encapsulamento se dá em blocos não vazios de  tamanhos arbitrári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092240" y="1979640"/>
          <a:ext cx="78264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979640"/>
                    <a:ext cx="78264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Fragmentação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= a mensagem é fragmentada em blocos de 2</a:t>
            </a:r>
            <a:r>
              <a:rPr b="0" lang="pt-BR" sz="2800" spc="-1" strike="noStrike" baseline="30000">
                <a:solidFill>
                  <a:srgbClr val="ffffff"/>
                </a:solidFill>
                <a:latin typeface="Impact"/>
              </a:rPr>
              <a:t>14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(16384) bytes ou men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Compressão</a:t>
            </a:r>
            <a:r>
              <a:rPr b="1" lang="pt-BR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= é opcional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diciona um </a:t>
            </a:r>
            <a:r>
              <a:rPr b="0" lang="pt-BR" sz="3200" spc="-1" strike="noStrike">
                <a:solidFill>
                  <a:srgbClr val="ffff00"/>
                </a:solidFill>
                <a:latin typeface="Impact"/>
              </a:rPr>
              <a:t>MAC </a:t>
            </a: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(Código de Autenticação de Mensage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Impact"/>
              </a:rPr>
              <a:t>hash (MAC_write_secret|| pad_2 || hash (MAC_write_secret_|| pad_1 || SSLCompressed.type || SSLCompressed.length || SSLCompressed.fragmet))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Criptografia de Chave Públic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Bob gera suas chaves (pub, priv). Distribui a públic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lice criptografa uma mensagem para Bob usando a chave pública dele, e envia esta mensagem para el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Bob utilizando sua chave privada decifra a mensagem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2057400"/>
          <a:ext cx="749952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74995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Onde: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||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concatenaçã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MAC_write_secret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chave secreta compartilhad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hash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lgoritmo hash de criptografi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pad_1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byte 0x36 (0011 0110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pad_2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byte 0x5C (0101 1100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Seq_num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seqüência de números para a mensagem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SSLCompressed.type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protocolo de nível mais alt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SSLCompressed.length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tamanho do fragment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00"/>
                </a:solidFill>
                <a:latin typeface="Impact"/>
              </a:rPr>
              <a:t>SSLCompressed.fragment</a:t>
            </a:r>
            <a:r>
              <a:rPr b="0" lang="pt-BR" sz="2500" spc="-1" strike="noStrike">
                <a:solidFill>
                  <a:srgbClr val="ffffff"/>
                </a:solidFill>
                <a:latin typeface="Impact"/>
              </a:rPr>
              <a:t> = 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fragmento comprimido ou o texto plano (se a compressão não for utilizada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2209680"/>
            <a:ext cx="7848720" cy="4208760"/>
            <a:chOff x="1066680" y="2209680"/>
            <a:chExt cx="7848720" cy="4208760"/>
          </a:xfrm>
        </p:grpSpPr>
        <p:sp>
          <p:nvSpPr>
            <p:cNvPr id="340" name=""/>
            <p:cNvSpPr/>
            <p:nvPr/>
          </p:nvSpPr>
          <p:spPr>
            <a:xfrm>
              <a:off x="6953400" y="2819520"/>
              <a:ext cx="1962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Chav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29040" y="2819520"/>
              <a:ext cx="1962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Chav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91040" y="2819520"/>
              <a:ext cx="1962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Algoritm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2819520"/>
              <a:ext cx="1962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Algoritm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3400" y="3336840"/>
              <a:ext cx="196200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  </a:t>
              </a: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12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29040" y="3336840"/>
              <a:ext cx="196200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12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  </a:t>
              </a: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  </a:t>
              </a: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  </a:t>
              </a: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5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16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  </a:t>
              </a: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8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91040" y="3336840"/>
              <a:ext cx="196236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RC4-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RC4-12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6680" y="3336840"/>
              <a:ext cx="196236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ID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RC2-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DES-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D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3D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Fortezz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91040" y="2209680"/>
              <a:ext cx="3924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Stream Ciph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6680" y="2209680"/>
              <a:ext cx="3924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Impact"/>
                </a:rPr>
                <a:t>Bloco Ciph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66680" y="2209680"/>
              <a:ext cx="784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6680" y="6418440"/>
              <a:ext cx="7848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2209680"/>
              <a:ext cx="0" cy="4208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15400" y="2209680"/>
              <a:ext cx="0" cy="42087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91040" y="2209680"/>
              <a:ext cx="0" cy="4208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6680" y="2819520"/>
              <a:ext cx="784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29040" y="2819520"/>
              <a:ext cx="0" cy="359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3400" y="2819520"/>
              <a:ext cx="0" cy="359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3336840"/>
              <a:ext cx="7848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218960" y="2044440"/>
            <a:ext cx="792468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abeçalho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Content type ( 8 bit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Protocolo de camada mais alta utilizado para processar este fragment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Maior  versão ( 8 bit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Maior versão do SSL em us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Menor  versão (8 bit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Menor versão do SSL em us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Impact"/>
              </a:rPr>
              <a:t>Comprimento comprimido (16 bit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Comprimento em bytes do fragmento comprimid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REC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182880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17880" y="2193840"/>
            <a:ext cx="7545240" cy="4206960"/>
            <a:chOff x="1217880" y="2193840"/>
            <a:chExt cx="7545240" cy="4206960"/>
          </a:xfrm>
        </p:grpSpPr>
        <p:sp>
          <p:nvSpPr>
            <p:cNvPr id="364" name=""/>
            <p:cNvSpPr/>
            <p:nvPr/>
          </p:nvSpPr>
          <p:spPr>
            <a:xfrm>
              <a:off x="1905120" y="3352680"/>
              <a:ext cx="68580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5120" y="2438280"/>
              <a:ext cx="6858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05120" y="3352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7760" y="2542680"/>
              <a:ext cx="1218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1932"/>
                  </a:solidFill>
                  <a:latin typeface="Impact"/>
                </a:rPr>
                <a:t>Content  Typ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42936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57960" y="2542680"/>
              <a:ext cx="1143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1932"/>
                  </a:solidFill>
                  <a:latin typeface="Impact"/>
                </a:rPr>
                <a:t>Major version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10552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10440" y="2193840"/>
              <a:ext cx="1066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1932"/>
                  </a:solidFill>
                  <a:latin typeface="Impact"/>
                </a:rPr>
                <a:t>Minor version</a:t>
              </a:r>
              <a:r>
                <a:rPr b="0" lang="pt-BR" sz="2000" spc="-1" strike="noStrike">
                  <a:solidFill>
                    <a:srgbClr val="ccffff"/>
                  </a:solidFill>
                  <a:latin typeface="Impact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8204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0640" y="2513880"/>
              <a:ext cx="1600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1932"/>
                  </a:solidFill>
                  <a:latin typeface="Impact"/>
                </a:rPr>
                <a:t>Compressed Length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72040" y="3432600"/>
              <a:ext cx="228600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Impact"/>
                </a:rPr>
                <a:t>Texto Pla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Impact"/>
                </a:rPr>
                <a:t>(opcionalmente  comprimid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57150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43440" y="5508000"/>
              <a:ext cx="274320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1932"/>
                  </a:solidFill>
                  <a:latin typeface="Impact"/>
                </a:rPr>
                <a:t>MAC  (0, 16 ou 20 bytes)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6520" y="3352680"/>
              <a:ext cx="0" cy="3048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676520" y="640080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676520" y="335268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30240" y="46144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00"/>
                  </a:solidFill>
                  <a:latin typeface="Impact"/>
                </a:rPr>
                <a:t>Criptografa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ALER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18960" y="2190240"/>
            <a:ext cx="76388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que é o protocolo Alert 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protocolo Alert é usado para escoltar o SSL . De  acordo com a mensagem uma ação é tomad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Formato do protocolo alert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791320" y="4038480"/>
            <a:ext cx="2743200" cy="838080"/>
            <a:chOff x="5791320" y="4038480"/>
            <a:chExt cx="2743200" cy="838080"/>
          </a:xfrm>
        </p:grpSpPr>
        <p:sp>
          <p:nvSpPr>
            <p:cNvPr id="384" name=""/>
            <p:cNvSpPr/>
            <p:nvPr/>
          </p:nvSpPr>
          <p:spPr>
            <a:xfrm>
              <a:off x="5791320" y="4038480"/>
              <a:ext cx="1371600" cy="8380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1932"/>
                  </a:solidFill>
                  <a:latin typeface="Times New Roman"/>
                </a:rPr>
                <a:t>1º byte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1932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2920" y="4038480"/>
              <a:ext cx="1371600" cy="8380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1932"/>
                  </a:solidFill>
                  <a:latin typeface="Times New Roman"/>
                </a:rPr>
                <a:t>2º byte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1932"/>
                  </a:solidFill>
                  <a:latin typeface="Times New Roman"/>
                </a:rPr>
                <a:t>Ale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143000" y="4114800"/>
            <a:ext cx="763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º byte: Level, pode s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1: Advert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2: Fatal  =&gt; Conexão encer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2º byte: Al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Código especifico de uma mensagem de aler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ALER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lguns alertas fatai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Unexpected_messag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Uma mensagem errada foi recebida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Bad_record_MA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Um MAC incorreto foi recebid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Decompression_failur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Existe falha na descompressã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Handshake_failur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Falha no handshake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Illegal_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Um campo está com valor inválid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lertas específico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Close_notif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Uma notificação para fechar a conexã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Certificado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No_certificate:</a:t>
            </a:r>
            <a:r>
              <a:rPr b="0" lang="pt-BR" sz="2000" spc="-1" strike="noStrike">
                <a:solidFill>
                  <a:srgbClr val="ff9933"/>
                </a:solidFill>
                <a:latin typeface="Impact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Nenhum certificado disponível para responder a uma solicitação de certificad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Bad_certificate:</a:t>
            </a:r>
            <a:r>
              <a:rPr b="0" lang="pt-BR" sz="2000" spc="-1" strike="noStrike">
                <a:solidFill>
                  <a:srgbClr val="ff9933"/>
                </a:solidFill>
                <a:latin typeface="Impact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O certificado contém uma assinatura que não é verdadeira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Unsupported_certificate:</a:t>
            </a:r>
            <a:r>
              <a:rPr b="0" lang="pt-BR" sz="2000" spc="-1" strike="noStrike">
                <a:solidFill>
                  <a:srgbClr val="ff9933"/>
                </a:solidFill>
                <a:latin typeface="Impact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O tipo do certificado não é suportad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Certificate_revoked:</a:t>
            </a:r>
            <a:r>
              <a:rPr b="0" lang="pt-BR" sz="2000" spc="-1" strike="noStrike">
                <a:solidFill>
                  <a:srgbClr val="ff9933"/>
                </a:solidFill>
                <a:latin typeface="Impact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O certificado não foi reconhecido pelo seu assinante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Certificate_expired:</a:t>
            </a:r>
            <a:r>
              <a:rPr b="0" lang="pt-BR" sz="2000" spc="-1" strike="noStrike">
                <a:solidFill>
                  <a:srgbClr val="ff9933"/>
                </a:solidFill>
                <a:latin typeface="Impact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O certificado expirou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Impact"/>
              </a:rPr>
              <a:t>Cetificate_unknown:</a:t>
            </a: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 certificado desconhecido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219320" y="82872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TOCOLO ALER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opriedades do SS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Humanst521 BT"/>
              </a:rPr>
              <a:t>Recuperação de Chave 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Humanst521 BT"/>
              </a:rPr>
              <a:t>            </a:t>
            </a:r>
            <a:r>
              <a:rPr b="0" lang="pt-BR" sz="3600" spc="-1" strike="noStrike">
                <a:solidFill>
                  <a:srgbClr val="ffffff"/>
                </a:solidFill>
                <a:latin typeface="Humanst521 BT"/>
              </a:rPr>
              <a:t>(Key Recovery)</a:t>
            </a:r>
            <a:r>
              <a:rPr b="0" lang="pt-BR" sz="3600" spc="-1" strike="noStrike">
                <a:solidFill>
                  <a:srgbClr val="ffffff"/>
                </a:solidFill>
                <a:latin typeface="Humanst521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Humanst521 BT"/>
              </a:rPr>
              <a:t>Certificação de Chav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Humanst521 BT"/>
              </a:rPr>
              <a:t>         </a:t>
            </a:r>
            <a:r>
              <a:rPr b="0" lang="pt-BR" sz="3600" spc="-1" strike="noStrike">
                <a:solidFill>
                  <a:srgbClr val="ffffff"/>
                </a:solidFill>
                <a:latin typeface="Humanst521 BT"/>
              </a:rPr>
              <a:t>(Authentication Capabilites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Recuperação de C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Versão RC4 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Versão especial que usa uma chave 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128-bits que possui apenas 40 bits secret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4419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648320"/>
            <a:ext cx="7543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Bodoni BT"/>
              </a:rPr>
              <a:t>Chave de 128-Bits = 40 bits secretos  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Bodoni BT"/>
              </a:rPr>
              <a:t>                                  </a:t>
            </a:r>
            <a:r>
              <a:rPr b="0" lang="pt-BR" sz="3200" spc="-1" strike="noStrike">
                <a:solidFill>
                  <a:srgbClr val="ffff00"/>
                </a:solidFill>
                <a:latin typeface="Bodoni BT"/>
              </a:rPr>
              <a:t>Partes do Plaintex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Montagem da Chave de 128-B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962520"/>
            <a:ext cx="16002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40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secr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5715000"/>
            <a:ext cx="739152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Chave de 128 bits (40 secre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280" y="2133720"/>
            <a:ext cx="16002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Sec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8040" y="2133720"/>
            <a:ext cx="20574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Plaintext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Hello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3886200"/>
            <a:ext cx="1066680" cy="990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1761480" y="3152520"/>
            <a:ext cx="648000" cy="590760"/>
          </a:xfrm>
          <a:custGeom>
            <a:avLst/>
            <a:gdLst>
              <a:gd name="textAreaLeft" fmla="*/ 101160 w 648000"/>
              <a:gd name="textAreaRight" fmla="*/ 567000 w 648000"/>
              <a:gd name="textAreaTop" fmla="*/ 147600 h 590760"/>
              <a:gd name="textAreaBottom" fmla="*/ 443160 h 590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4562280" y="3152880"/>
            <a:ext cx="648000" cy="590400"/>
          </a:xfrm>
          <a:custGeom>
            <a:avLst/>
            <a:gdLst>
              <a:gd name="textAreaLeft" fmla="*/ 101160 w 648000"/>
              <a:gd name="textAreaRight" fmla="*/ 567000 w 648000"/>
              <a:gd name="textAreaTop" fmla="*/ 147600 h 590400"/>
              <a:gd name="textAreaBottom" fmla="*/ 442800 h 590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05160" y="4067280"/>
            <a:ext cx="647640" cy="5904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7600 h 590400"/>
              <a:gd name="textAreaBottom" fmla="*/ 442800 h 590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4562280" y="5019480"/>
            <a:ext cx="647640" cy="5904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7600 h 590400"/>
              <a:gd name="textAreaBottom" fmla="*/ 442800 h 590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Troca de Chaves Com o RS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35160" y="2286000"/>
          <a:ext cx="76230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2286000"/>
                    <a:ext cx="76230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Certificação de Chav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Um certificado de chave pública é um bloco especial-mente formatado de dados que contêm uma chave pública, algo para identificar a quem a chave pública pertence, e uma assinatura digital para  verificar a integridade dos dado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143000" y="4114800"/>
            <a:ext cx="7772400" cy="2514600"/>
            <a:chOff x="1143000" y="4114800"/>
            <a:chExt cx="7772400" cy="2514600"/>
          </a:xfrm>
        </p:grpSpPr>
        <p:sp>
          <p:nvSpPr>
            <p:cNvPr id="410" name=""/>
            <p:cNvSpPr/>
            <p:nvPr/>
          </p:nvSpPr>
          <p:spPr>
            <a:xfrm>
              <a:off x="1143000" y="4114800"/>
              <a:ext cx="77724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11" name=""/>
            <p:cNvGraphicFramePr/>
            <p:nvPr/>
          </p:nvGraphicFramePr>
          <p:xfrm>
            <a:off x="1295280" y="4572000"/>
            <a:ext cx="116208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4572000"/>
                      <a:ext cx="116208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7620120" y="4495680"/>
            <a:ext cx="1104840" cy="96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4495680"/>
                      <a:ext cx="110484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5" name=""/>
            <p:cNvSpPr/>
            <p:nvPr/>
          </p:nvSpPr>
          <p:spPr>
            <a:xfrm>
              <a:off x="2590920" y="4572000"/>
              <a:ext cx="4952880" cy="380880"/>
            </a:xfrm>
            <a:prstGeom prst="rightArrow">
              <a:avLst>
                <a:gd name="adj1" fmla="val 20000"/>
                <a:gd name="adj2" fmla="val 95000"/>
              </a:avLst>
            </a:prstGeom>
            <a:noFill/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3720" y="435708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1932"/>
                  </a:solidFill>
                  <a:latin typeface="Times New Roman"/>
                </a:rPr>
                <a:t>Chave Públi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2590920" y="5105520"/>
              <a:ext cx="4952880" cy="380880"/>
            </a:xfrm>
            <a:prstGeom prst="rightArrow">
              <a:avLst>
                <a:gd name="adj1" fmla="val 20000"/>
                <a:gd name="adj2" fmla="val 95000"/>
              </a:avLst>
            </a:prstGeom>
            <a:noFill/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343400" y="5486040"/>
              <a:ext cx="1371600" cy="60948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1932"/>
                  </a:solidFill>
                  <a:latin typeface="Times New Roman"/>
                </a:rPr>
                <a:t>Certificado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19" name=""/>
            <p:cNvGraphicFramePr/>
            <p:nvPr/>
          </p:nvGraphicFramePr>
          <p:xfrm>
            <a:off x="5391000" y="5562720"/>
            <a:ext cx="324000" cy="438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1000" y="5562720"/>
                      <a:ext cx="3240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1" name=""/>
            <p:cNvSpPr/>
            <p:nvPr/>
          </p:nvSpPr>
          <p:spPr>
            <a:xfrm>
              <a:off x="1295280" y="5600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1932"/>
                  </a:solidFill>
                  <a:latin typeface="Times New Roman"/>
                </a:rPr>
                <a:t>Cliente ou Servi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67480" y="5714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1932"/>
                  </a:solidFill>
                  <a:latin typeface="Times New Roman"/>
                </a:rPr>
                <a:t>Certifica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Ataques Clássicos contra o SS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presentação dos problemas de segurança clássicos contra os quais SSL foi projetado para proteger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Os principais s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Brute Force (força bruta) 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known Plaintext ( texto conhecido) 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Replay  ( jogue de novo) 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The MIM attack ( ataque do homem do meio) 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Brute Force Attac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9608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Este ataque consiste na obtenção da chave por tentativa e err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s implementações comuns do SSL usam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Chaves secretas de 40 bits 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Chaves públicas de 512 bit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Houve várias demonstrações públicas de  como quebrar chaves secretas de 40 bit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SSL defende-se deste ataque expandindo a chave secreta e utilizando chave pública de 512 bit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Known Plaintext</a:t>
            </a:r>
            <a:r>
              <a:rPr b="0" lang="pt-BR" sz="4000" spc="-1" strike="noStrike">
                <a:solidFill>
                  <a:srgbClr val="ccffff"/>
                </a:solidFill>
                <a:latin typeface="Impact"/>
              </a:rPr>
              <a:t> Attack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2044440"/>
            <a:ext cx="7848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 forma mais eficiente de ataque de “Plaintext conhecido” é um ataque de dicionário, e é particularmente efetivo quando um número pequeno de chaves criptográficas secretas é utilizado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s atacantes constróem um dicionário que contém todas possíveis mensagens do “Plaintext  Conhecido”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o receber uma mensagem codificada, eles procuram o texto plano correspondente ao texto cifrado no dicionário montado anteriormen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ff"/>
                </a:solidFill>
                <a:latin typeface="Impact"/>
              </a:rPr>
              <a:t>Como o SSL enfrenta o ataque do dicionário ?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3000" y="2044800"/>
            <a:ext cx="7848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Usando uma chave de 128 bit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40 bits secretos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88 bits não secret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mo são efetivamente utilizados os 128 bits da chave, o dicionário também deve ser de 128 bit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que torna este ataque inviáve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O único ataque viável é o da força bruta, que é bem mais difícil do que um ataque de dicionário de 40 bit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 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Replay Attac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2044440"/>
            <a:ext cx="7848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Neste ataque o espião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Salva os dados de uma transação,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Modifica estes dados e,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Repete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 a transação modificad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SSL se defende deste ataque utilizando um valor único (nonce) de 128 bits para cada conexã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Este valor não é previsíve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Entretanto, se o espião repetir também as mensagens de handshake, o SSL não tem como saber se o valor gerado pelo espião é falso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Main-In-The-Middle Attack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143000" y="2133720"/>
          <a:ext cx="77644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7644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Impact"/>
              </a:rPr>
              <a:t>Como evitar esse tipo de ataque?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Impact"/>
              </a:rPr>
              <a:t>A solução para o problema é prover um modo fidedigno de associar chaves públicas aos indivíduos.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Impact"/>
              </a:rPr>
              <a:t>Há duas maneiras 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istribuição manual de chaves ou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Certificação de chaves públicas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SSL - Referência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Smith, Richard. “</a:t>
            </a:r>
            <a:r>
              <a:rPr b="0" i="1" lang="pt-BR" sz="3200" spc="-1" strike="noStrike">
                <a:solidFill>
                  <a:srgbClr val="ffffff"/>
                </a:solidFill>
                <a:latin typeface="Impact"/>
              </a:rPr>
              <a:t>Internet Cryptography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”. Addison-Wesley, 1997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Stallings, William. “</a:t>
            </a:r>
            <a:r>
              <a:rPr b="0" i="1" lang="pt-BR" sz="3200" spc="-1" strike="noStrike">
                <a:solidFill>
                  <a:srgbClr val="ffffff"/>
                </a:solidFill>
                <a:latin typeface="Impact"/>
              </a:rPr>
              <a:t>Cryptography And NetWork Security: Principles and Pratice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”. Second Edition. Prentice Hall,  1999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Netscape Communications, </a:t>
            </a:r>
            <a:r>
              <a:rPr b="0" i="1" lang="pt-BR" sz="3200" spc="-1" strike="noStrike">
                <a:solidFill>
                  <a:srgbClr val="ffffff"/>
                </a:solidFill>
                <a:latin typeface="Impact"/>
              </a:rPr>
              <a:t>The SSL Protocol Version 3.0</a:t>
            </a: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, Março de 1996, home.netscape.com/eng/ssl3/ssl-toc.htm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Tamanho de Chav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365760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haves Secre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Bits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goritm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56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80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SKIPJACK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12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3DES (2 chav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28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RC4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68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3DES (3 chav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92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nnual Solar Outpu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0600" y="2057040"/>
            <a:ext cx="419112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haves Públic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Bits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plicaçã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384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PGP menor tamanh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512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Short DSS, PGP Low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768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PGP high grad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1024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Long DSS,  PGP Milit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2047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PGP “Alien Grade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3000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nnual Solar Outpu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5909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124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5909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95920" y="25909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Arranjo típico do SS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5029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s dados são criptografados antes de serem colocados na pilha do TCP/IP da camada de transporte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66680" y="2057400"/>
            <a:ext cx="7705800" cy="2743200"/>
            <a:chOff x="1066680" y="2057400"/>
            <a:chExt cx="7705800" cy="2743200"/>
          </a:xfrm>
        </p:grpSpPr>
        <p:sp>
          <p:nvSpPr>
            <p:cNvPr id="153" name=""/>
            <p:cNvSpPr/>
            <p:nvPr/>
          </p:nvSpPr>
          <p:spPr>
            <a:xfrm flipH="1" flipV="1">
              <a:off x="1066680" y="2133000"/>
              <a:ext cx="1067040" cy="533160"/>
            </a:xfrm>
            <a:prstGeom prst="foldedCorner">
              <a:avLst>
                <a:gd name="adj" fmla="val 15777"/>
              </a:avLst>
            </a:prstGeom>
            <a:solidFill>
              <a:srgbClr val="ffffff"/>
            </a:solidFill>
            <a:ln w="9360">
              <a:solidFill>
                <a:srgbClr val="001932"/>
              </a:solidFill>
              <a:miter/>
            </a:ln>
            <a:effectLst>
              <a:outerShdw dist="107932" dir="2700000" blurRad="0" rotWithShape="0">
                <a:srgbClr val="00193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1932"/>
                  </a:solidFill>
                  <a:latin typeface="Times New Roman"/>
                </a:rPr>
                <a:t>R$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66680" y="2971800"/>
              <a:ext cx="1295280" cy="1828800"/>
              <a:chOff x="1066680" y="2971800"/>
              <a:chExt cx="1295280" cy="1828800"/>
            </a:xfrm>
          </p:grpSpPr>
          <p:sp>
            <p:nvSpPr>
              <p:cNvPr id="155" name=""/>
              <p:cNvSpPr/>
              <p:nvPr/>
            </p:nvSpPr>
            <p:spPr>
              <a:xfrm>
                <a:off x="1066680" y="2971800"/>
                <a:ext cx="1295280" cy="182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Aplicaçã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SS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Transpor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Interne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Li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66680" y="337212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66680" y="373392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66680" y="411480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66680" y="445788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2362320" y="2286000"/>
              <a:ext cx="0" cy="53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19040" y="228600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7467480" y="2057400"/>
              <a:ext cx="1067040" cy="533520"/>
            </a:xfrm>
            <a:prstGeom prst="foldedCorner">
              <a:avLst>
                <a:gd name="adj" fmla="val 15777"/>
              </a:avLst>
            </a:prstGeom>
            <a:solidFill>
              <a:srgbClr val="ffffff"/>
            </a:solidFill>
            <a:ln w="9360">
              <a:solidFill>
                <a:srgbClr val="001932"/>
              </a:solidFill>
              <a:miter/>
            </a:ln>
            <a:effectLst>
              <a:outerShdw dist="107932" dir="2700000" blurRad="0" rotWithShape="0">
                <a:srgbClr val="00193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1932"/>
                  </a:solidFill>
                  <a:latin typeface="Times New Roman"/>
                </a:rPr>
                <a:t>R$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467480" y="2819520"/>
              <a:ext cx="1295280" cy="1828800"/>
              <a:chOff x="7467480" y="2819520"/>
              <a:chExt cx="1295280" cy="1828800"/>
            </a:xfrm>
          </p:grpSpPr>
          <p:sp>
            <p:nvSpPr>
              <p:cNvPr id="164" name=""/>
              <p:cNvSpPr/>
              <p:nvPr/>
            </p:nvSpPr>
            <p:spPr>
              <a:xfrm>
                <a:off x="7467480" y="2819520"/>
                <a:ext cx="1295280" cy="182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Aplicaçã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SS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Transpor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Interne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1932"/>
                    </a:solidFill>
                    <a:latin typeface="Times New Roman"/>
                  </a:rPr>
                  <a:t>Li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467480" y="321984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7480" y="358164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7480" y="396252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67480" y="4305600"/>
                <a:ext cx="1295280" cy="0"/>
              </a:xfrm>
              <a:prstGeom prst="line">
                <a:avLst/>
              </a:prstGeom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8763120" y="2209680"/>
              <a:ext cx="0" cy="53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610480" y="2209680"/>
              <a:ext cx="16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438280" y="4114800"/>
              <a:ext cx="106704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9920" y="4191120"/>
              <a:ext cx="13716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2948040" y="2438280"/>
            <a:ext cx="4010040" cy="19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8040" y="2438280"/>
                      <a:ext cx="40100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acotes encapsulad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281320"/>
            <a:ext cx="77724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 estratégia do SSL permite que se aplique a criptografia somente em seus pacotes (cabeçalho e dados), os pacotes das demais camadas não precisam ser criptografad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09600" y="4567320"/>
            <a:ext cx="7726320" cy="1682640"/>
            <a:chOff x="1209600" y="4567320"/>
            <a:chExt cx="7726320" cy="1682640"/>
          </a:xfrm>
        </p:grpSpPr>
        <p:sp>
          <p:nvSpPr>
            <p:cNvPr id="178" name=""/>
            <p:cNvSpPr/>
            <p:nvPr/>
          </p:nvSpPr>
          <p:spPr>
            <a:xfrm>
              <a:off x="1209600" y="4567320"/>
              <a:ext cx="411480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915400" y="5638680"/>
              <a:ext cx="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5638680"/>
              <a:ext cx="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5638680"/>
              <a:ext cx="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5791320"/>
              <a:ext cx="4116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5791320"/>
              <a:ext cx="350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8280" y="579024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exto Pla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10000" y="579024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exto Cifr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4400" y="4572000"/>
              <a:ext cx="3581640" cy="106668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29080" y="4572000"/>
              <a:ext cx="0" cy="106668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4572000"/>
              <a:ext cx="0" cy="106668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4320" y="4572000"/>
              <a:ext cx="0" cy="106668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680" y="4722840"/>
              <a:ext cx="140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Data Li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66160" y="4722840"/>
              <a:ext cx="113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6200" y="4722840"/>
              <a:ext cx="136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3400" y="4722840"/>
              <a:ext cx="162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4320" y="4722840"/>
              <a:ext cx="200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1932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Capacidades do SS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O SSL tem 3 capacidades providas no IPSEC (IP Security Protocol) por 3 outros protocolo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Autenticação (com checksum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AH: Authentication Head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Criptografia (com identificador de segurança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ESP: Encapsulating Security Payloa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Impact"/>
              </a:rPr>
              <a:t>Troca de chav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SKIP: Simple Key Interchange Protocol, ou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ISAKMP: Internet Security Association Key Management Protoco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Os três protocolos do SS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Handsh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Negocia o algoritmo de criptografia e as chaves entre o cliente e o servidor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Recor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É utilizado após o handshake e mantém a integridade durante o uso do SSL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Ale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É utilizado quando ocorrem erros ou para terminar uma sessão de uso do SSL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00:39:49Z</dcterms:created>
  <dc:creator>Marcio Aurelio Ribeiro Moreira</dc:creator>
  <dc:description/>
  <dc:language>en-US</dc:language>
  <cp:lastModifiedBy>Marcio Aurelio Ribeiro Moreira</cp:lastModifiedBy>
  <dcterms:modified xsi:type="dcterms:W3CDTF">2000-06-06T12:20:45Z</dcterms:modified>
  <cp:revision>33</cp:revision>
  <dc:subject/>
  <dc:title>TEC1 - Criptografia SSL - Secure Sockets Layer</dc:title>
</cp:coreProperties>
</file>